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30D5-22D7-4FEB-AB45-81AA3A546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851AA-E416-4B41-B66C-245A35252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A36EC-3C15-4A7D-B0FA-767A743EE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6CB2B-79D8-4BC2-92E7-94924F589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B50BE-8964-4035-81DB-BEFA130A5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3C65-764C-4D52-B16F-B0F64692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F379-C3AE-4325-A61E-D00F0A77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E40E-5A8B-4A48-A964-1141094D4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10F2E-E0CD-42FA-B259-6A08140D3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3298-8461-4700-B4B2-B41AB0A25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81DA-698B-4178-9F79-539779A4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0ABE-C301-4A1A-99AD-C5952543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3782-523D-4C8C-89CA-E52AA83DC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C355-DFBF-4749-80B6-F961EDF45E38}" type="datetime">
              <a:rPr b="0" lang="en-US" sz="1000" spc="-1" strike="noStrike">
                <a:solidFill>
                  <a:srgbClr val="000099"/>
                </a:solidFill>
                <a:latin typeface="Times New Roman"/>
              </a:rPr>
              <a:t>07/3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8BD7-CAD6-4686-938B-275A1FF577AD}"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FDA2-772C-4A16-BC27-17B05539D6F3}"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86C1-4A0B-41E3-ACB4-93BE58C274CE}"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8A46-01AB-4EA5-AC53-D90EC4DABFF1}"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0CBB-A8A2-4368-9E0E-A65934868335}"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730C-8FBD-4EFE-9EDD-18395EE8252A}"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6D6B-FFB3-46F9-860A-854E005E286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00A9-F17C-4265-9C65-3AFC4F342EDA}"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7F96-5634-4054-8BE3-AB870C5CA060}"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7329-79CE-45B1-9845-314E7C2E95BC}"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F428-268D-43CB-A233-A83A6BB77F0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AD85-BA65-4883-B120-4F44582AE43B}"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15AF-3C2C-43F1-B662-13C8A197748E}"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EA50-7375-4DD4-BF0E-156D3539C201}"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3E06-CA8C-4BE0-A33A-1C8245995D10}"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7B48-A6C7-4946-A3C1-E469777B3A12}" type="datetime">
              <a:rPr b="0" lang="en-US" sz="1000" spc="-1" strike="noStrike">
                <a:solidFill>
                  <a:srgbClr val="000099"/>
                </a:solidFill>
                <a:latin typeface="Arial"/>
              </a:rPr>
              <a:t>07/30/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E7E4-3F5C-4A85-8A81-61DF302167AB}"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