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53B5-C2F5-40F5-8501-75A94229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FF39-3768-4791-BA5F-98B92E080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E3403-DA06-4ADD-9248-B6B023AB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8ACA7-2984-49CC-82CB-CF6828469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E9D5C-45AE-4CB2-A446-B3FAD3880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5B045-6ADA-46E9-AC8F-9FF770094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2E8A6-2B13-4564-BA39-4408C4ABD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304D3-3F55-4EA4-BA79-5A7A11E0B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6655B-A5F5-4E53-8A79-671E7F9BE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620FF-D025-45F5-889E-8D032F64D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7CF68-22E5-4083-B557-19365E10D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0937A-3797-4436-84D8-8906DA609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98B6-5C38-4071-AD3C-757895304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635F7-CCC8-4131-A861-A93B368F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648C5-C1DA-40F5-86C1-3D545D8A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24C5D-8BE1-48AC-B65F-8FA21A8D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6D7DB-3BC5-4A55-9BF6-7CBB43EE3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7B289-290F-448C-856A-705CF0F8C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E2631-06D3-4122-8317-9655AA3C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19C65-4BF2-4DD9-AE97-7C2A03EA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9855E-15EC-4686-B2DA-D80C2E1B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0D9D-CAF4-4FF0-A0F2-2284894E5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F3A5-E7CA-4973-A978-585B6EDF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34EA-C18A-437F-A3E0-40B51070C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F469C-86CB-4B28-B825-DB07709B6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3DE5-2115-4750-AB7A-9C4A4533CCEC}" type="datetime">
              <a:rPr b="0" lang="en-US" sz="1400" spc="-1" strike="noStrike">
                <a:solidFill>
                  <a:srgbClr val="ffffff"/>
                </a:solidFill>
                <a:latin typeface="Times New Roman"/>
              </a:rPr>
              <a:t>07/29/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6BAF-2EE7-46EC-A643-BE4E9B9275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B720-C310-4C1B-A763-DF579AFF4E56}" type="datetime">
              <a:rPr b="0" lang="en-US" sz="1400" spc="-1" strike="noStrike">
                <a:solidFill>
                  <a:srgbClr val="004080"/>
                </a:solidFill>
                <a:latin typeface="Times New Roman"/>
              </a:rPr>
              <a:t>07/29/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45E9-227D-4DAA-9105-C7E2D6FA68F3}"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FB53-DF61-4702-B10C-3ADAE06B9C3A}"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07C6-C288-4C23-A39A-C13C5A97572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CB6C-C09A-44D8-B027-664C8C4C1D1F}"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E239-5740-479D-A73F-F03B802BF2F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1B8D-DB9B-4772-9AE9-C651B60C2DEB}"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4F3D-C657-44E4-9505-10D005542BE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BE84-7D6D-40C6-8ACA-EE34269E5E8C}"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A8BB-1042-4826-B757-59554ABE946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88D2-7C00-4C6D-B6CE-3706909C4F4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798D-30CB-4DC3-861B-C8776DA15857}"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DE1C-0255-491F-9718-E07BBB1017B8}"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CEBB-D4D6-4A76-98AA-C790A934DF74}"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A23E-9BD6-4543-ACD3-8B7545FC6FD4}"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89DA-342F-49C6-BF6C-5B70B0D133E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6108-E476-4D04-9308-CF410F8E33D0}"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781E-A7BC-46EE-9325-3D50328C716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ECF2-DF10-49DF-B159-E7949E589E09}"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5E45-DD26-4DB7-B6FD-F20B96190C56}"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505E-C6E4-485B-8711-1FED66CC3A0F}"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9C30-8CC2-4A85-BBA7-D298A2C5B8A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E784-6538-4FC8-BA05-E03113EC3A90}"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3FF8-E698-4D22-ACEB-C673962B357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2B07-7D6D-495D-A0C7-570AA9904C5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3FFF-3E2B-4B03-91D1-E0166F7DDAA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112A-71E6-4265-BDB5-DAC92D0CF2F2}"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5829-5C66-4332-A2B8-3B55855EC2C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BAC5-E750-4043-82B2-B0C1DEA23D65}"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7132-46BF-4C2D-8CFF-33884548A158}"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0C0B-0927-408C-BEB6-467968D5F297}"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EC67-53E2-44F3-BDA1-C5E37777118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61F8-873A-4D56-B691-6B529CDD8107}"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4DDF7-42DB-437D-814E-38F126CA097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9FB0-B1CB-4F1F-97D5-30EAC84528E6}"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7F0B-AA92-4E55-8C3D-472C8EB987A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855A-9622-4ACC-AC2A-C56E829FCA4C}" type="datetime">
              <a:rPr b="0" lang="en-US" sz="1400" spc="-1" strike="noStrike">
                <a:solidFill>
                  <a:srgbClr val="004080"/>
                </a:solidFill>
                <a:latin typeface="Arial"/>
              </a:rPr>
              <a:t>07/29/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78E4-D9D8-4DD9-8C9E-3900FEFD77E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