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30E6-20D5-48BB-9850-50DDE9820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stival of L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stival of 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d for eight days and n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on the 25 of Kislev on the Hebrew calendar (November or December on the Gregorian calend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means ded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iday commemorates the rededication of the holy Temple in Jerusalem after the Jews’ 165 B.C.E. victory over the Hellenist Syr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d for eight days and n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on the 25 of Kislev on the Hebrew calendar (November or December on the Gregorian calen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means ded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iday commemorates the rededication of the holy Temple in Jerusalem after the Jews’ 165 B.C.E. victory over the Hellenist Syr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or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ach night of Hanukkah, the menorah is lit to commemorate a miracle which occurred after the Jews proclaimed victory over the Syrian armies in 165 B.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ews came to rededicate the Temple-which had been defiled by the Syrians they found only one small flask of oil with which to light the menorah.  Although the flask contained only enough oil for one day the lamp burned for eight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or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ach night of Hanukkah, the menorah is lit to commemorate a miracle which occurred after the Jews proclaimed victory over the Syrian armies in 16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ews came to rededicate the Temple-which had been defiled by the Syrians they found only one small flask of oil with which to light the menorah.  Although the flask contained only enough oil for one day the lamp burned for eight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Spellings of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uka Chanukah Chanukkah Channuka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ah Hannukah Hanukkah Hanuk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 Hanaka Haneka Hanika Khanukka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any Different Spellings of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uka Chanukah Chanukkah Channuk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ukah Hannukah Hanukkah Hanuk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ukka Hanaka Haneka Hanika Khanukk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anukkah dishes use o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reminds us of the oil which burned eight days instead of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 are potato pancakes made from grated potatoes mixed with eggs, onions, and flour, then fried in vegetable oil. They are served hot and often dipped in apple sauce or sour cr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anukkah dishes use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reminds us of the oil which burned eight days instead of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 are potato pancakes made from grated potatoes mixed with eggs, onions, and flour, then fried in vegetable oil. They are served hot and often dipped in apple sauce or sour c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i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idel (spinner) is a four-sided spinning top with a Hebrew letter inscribed on each side.  Before spinning each player places a  fixed amount of the coin or candy in the kit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rule of Antiochus before the  Maccabee’s revolt, soldiers executed any Jews caught practicing their relig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ious Jews gathered to study the Torah, they had the top ready in case they heard soldiers approaching.  They would hide the holy scriptures and pretend to play with the drei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i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idel (spinner) is a four-sided spinning top with a Hebrew letter inscribed on each side.  Before spinning each player places a  fixed amount of the coin or candy in the kit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rule of Antiochus before the  Maccabee’s revolt, soldiers executed any Jews caught practicing their reli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ious Jews gathered to study the Torah, they had the top ready in case they heard soldiers approaching.  They would hide the holy scriptures and pretend to play with the drei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y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ppy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04947-B17A-4D87-8488-EF139FF56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5105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3"/>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3316B-4F91-43AC-9C9E-7E97DE003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4" name="PlaceHolder 5"/>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02431-53B6-4BD8-915F-CF0A2EF83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7" name="PlaceHolder 3"/>
          <p:cNvSpPr>
            <a:spLocks noGrp="1"/>
          </p:cNvSpPr>
          <p:nvPr>
            <p:ph/>
          </p:nvPr>
        </p:nvSpPr>
        <p:spPr>
          <a:xfrm>
            <a:off x="323964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8" name="PlaceHolder 4"/>
          <p:cNvSpPr>
            <a:spLocks noGrp="1"/>
          </p:cNvSpPr>
          <p:nvPr>
            <p:ph/>
          </p:nvPr>
        </p:nvSpPr>
        <p:spPr>
          <a:xfrm>
            <a:off x="602208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5"/>
          <p:cNvSpPr>
            <a:spLocks noGrp="1"/>
          </p:cNvSpPr>
          <p:nvPr>
            <p:ph/>
          </p:nvPr>
        </p:nvSpPr>
        <p:spPr>
          <a:xfrm>
            <a:off x="45720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6"/>
          <p:cNvSpPr>
            <a:spLocks noGrp="1"/>
          </p:cNvSpPr>
          <p:nvPr>
            <p:ph/>
          </p:nvPr>
        </p:nvSpPr>
        <p:spPr>
          <a:xfrm>
            <a:off x="323964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7"/>
          <p:cNvSpPr>
            <a:spLocks noGrp="1"/>
          </p:cNvSpPr>
          <p:nvPr>
            <p:ph/>
          </p:nvPr>
        </p:nvSpPr>
        <p:spPr>
          <a:xfrm>
            <a:off x="602208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48337-B86B-4950-9540-7298C5B0D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38E0BF-3393-4B58-B619-D9C393A98C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49" name="PlaceHolder 2"/>
          <p:cNvSpPr>
            <a:spLocks noGrp="1"/>
          </p:cNvSpPr>
          <p:nvPr>
            <p:ph type="subTitle"/>
          </p:nvPr>
        </p:nvSpPr>
        <p:spPr>
          <a:xfrm>
            <a:off x="457200" y="5105160"/>
            <a:ext cx="8229600" cy="1447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49C25-633D-42B2-8BCE-1B915A6DA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1" name="PlaceHolder 2"/>
          <p:cNvSpPr>
            <a:spLocks noGrp="1"/>
          </p:cNvSpPr>
          <p:nvPr>
            <p:ph/>
          </p:nvPr>
        </p:nvSpPr>
        <p:spPr>
          <a:xfrm>
            <a:off x="457200" y="5105160"/>
            <a:ext cx="8229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4F60F-A40E-4D5F-A30F-4B05DBDB4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3"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4"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A43F8-51BB-4054-801C-5BB2603FB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A967D-6BC7-4BD8-9F7F-FB9368124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81FBE-7A55-41F2-B4E1-49C3CDF49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8"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9"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0"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4CE1C-EADC-4254-A1BE-59E50C224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5105160"/>
            <a:ext cx="8229600" cy="1447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1C67E-A9D7-4D6B-A9C0-BC7DDAA38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62"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3"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4" name="PlaceHolder 4"/>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9D9CB-4248-46E4-B655-6A1950BC9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66"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23098-3DE1-4402-9C8C-5C5BC5F1B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0" name="PlaceHolder 2"/>
          <p:cNvSpPr>
            <a:spLocks noGrp="1"/>
          </p:cNvSpPr>
          <p:nvPr>
            <p:ph/>
          </p:nvPr>
        </p:nvSpPr>
        <p:spPr>
          <a:xfrm>
            <a:off x="457200" y="5105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B271F-CF1A-4D6F-9E64-9BB028068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3"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4"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5"/>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7A6925-323A-4F0D-81E2-5B3710F04B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8" name="PlaceHolder 2"/>
          <p:cNvSpPr>
            <a:spLocks noGrp="1"/>
          </p:cNvSpPr>
          <p:nvPr>
            <p:ph/>
          </p:nvPr>
        </p:nvSpPr>
        <p:spPr>
          <a:xfrm>
            <a:off x="45720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323964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0" name="PlaceHolder 4"/>
          <p:cNvSpPr>
            <a:spLocks noGrp="1"/>
          </p:cNvSpPr>
          <p:nvPr>
            <p:ph/>
          </p:nvPr>
        </p:nvSpPr>
        <p:spPr>
          <a:xfrm>
            <a:off x="602208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1" name="PlaceHolder 5"/>
          <p:cNvSpPr>
            <a:spLocks noGrp="1"/>
          </p:cNvSpPr>
          <p:nvPr>
            <p:ph/>
          </p:nvPr>
        </p:nvSpPr>
        <p:spPr>
          <a:xfrm>
            <a:off x="45720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6"/>
          <p:cNvSpPr>
            <a:spLocks noGrp="1"/>
          </p:cNvSpPr>
          <p:nvPr>
            <p:ph/>
          </p:nvPr>
        </p:nvSpPr>
        <p:spPr>
          <a:xfrm>
            <a:off x="323964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7"/>
          <p:cNvSpPr>
            <a:spLocks noGrp="1"/>
          </p:cNvSpPr>
          <p:nvPr>
            <p:ph/>
          </p:nvPr>
        </p:nvSpPr>
        <p:spPr>
          <a:xfrm>
            <a:off x="602208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A267C0-035D-48D5-9CDA-3FDA6EC455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5105160"/>
            <a:ext cx="8229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5D06F-166A-4DBC-9E68-89794CC73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2"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1322B-6B51-4715-B04C-29D764865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3278E-A67B-4C76-9C33-D87F2107D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C39C1-5092-4F4D-8854-82D89B9A0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7"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8"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1753A-9BD8-4E72-9D23-3D55F8E4B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1"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2" name="PlaceHolder 4"/>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C83B0-027D-4F6F-84B3-AEF168C53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6" name="PlaceHolder 4"/>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CDC1A-F3E5-4A27-AD4B-3461F328F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5105520"/>
            <a:ext cx="914400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5105160"/>
            <a:ext cx="8229600" cy="1447560"/>
          </a:xfrm>
          <a:prstGeom prst="rect">
            <a:avLst/>
          </a:prstGeom>
          <a:noFill/>
          <a:ln w="0">
            <a:noFill/>
          </a:ln>
        </p:spPr>
        <p:txBody>
          <a:bodyPr lIns="90000" rIns="90000" tIns="46800" bIns="46800" anchor="t">
            <a:normAutofit fontScale="44000"/>
          </a:bodyPr>
          <a:p>
            <a:pPr marL="150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40FB-3421-45C5-9197-501A11A3BF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a:off x="0" y="5105520"/>
            <a:ext cx="9144000" cy="0"/>
          </a:xfrm>
          <a:prstGeom prst="line">
            <a:avLst/>
          </a:prstGeom>
          <a:ln w="1015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3556080"/>
            <a:ext cx="914400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Line 7"/>
          <p:cNvSpPr/>
          <p:nvPr/>
        </p:nvSpPr>
        <p:spPr>
          <a:xfrm>
            <a:off x="0" y="3505320"/>
            <a:ext cx="9144000" cy="0"/>
          </a:xfrm>
          <a:prstGeom prst="line">
            <a:avLst/>
          </a:prstGeom>
          <a:ln w="127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body"/>
          </p:nvPr>
        </p:nvSpPr>
        <p:spPr>
          <a:xfrm>
            <a:off x="457200" y="5105160"/>
            <a:ext cx="8229600" cy="1447560"/>
          </a:xfrm>
          <a:prstGeom prst="rect">
            <a:avLst/>
          </a:prstGeom>
          <a:noFill/>
          <a:ln w="0">
            <a:noFill/>
          </a:ln>
        </p:spPr>
        <p:txBody>
          <a:bodyPr lIns="90000" rIns="90000" tIns="46800" bIns="46800" anchor="t">
            <a:normAutofit fontScale="44000"/>
          </a:bodyPr>
          <a:p>
            <a:pPr marL="150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051B-C237-45E1-B70A-78ACA52BA7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holidays.net/chanukah/spelling.htm" TargetMode="External"/><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Verdana"/>
              </a:rPr>
              <a:t>Hanukkah</a:t>
            </a:r>
            <a:endParaRPr b="1" lang="en-US" sz="4800" spc="-1" strike="noStrike">
              <a:solidFill>
                <a:srgbClr val="333399"/>
              </a:solidFill>
              <a:latin typeface="Verdana"/>
            </a:endParaRPr>
          </a:p>
        </p:txBody>
      </p:sp>
      <p:sp>
        <p:nvSpPr>
          <p:cNvPr id="92" name="PlaceHolder 2"/>
          <p:cNvSpPr>
            <a:spLocks noGrp="1"/>
          </p:cNvSpPr>
          <p:nvPr>
            <p:ph type="subTitle"/>
          </p:nvPr>
        </p:nvSpPr>
        <p:spPr>
          <a:xfrm>
            <a:off x="1523880" y="4723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e Festival of Lights</a:t>
            </a:r>
            <a:endParaRPr b="0" lang="en-US" sz="3200" spc="-1" strike="noStrike">
              <a:solidFill>
                <a:srgbClr val="333399"/>
              </a:solidFill>
              <a:latin typeface="Verdana"/>
            </a:endParaRPr>
          </a:p>
        </p:txBody>
      </p:sp>
      <p:pic>
        <p:nvPicPr>
          <p:cNvPr id="93" name="Picture 7" descr="j0285926"/>
          <p:cNvPicPr/>
          <p:nvPr/>
        </p:nvPicPr>
        <p:blipFill>
          <a:blip r:embed="rId1"/>
          <a:stretch/>
        </p:blipFill>
        <p:spPr>
          <a:xfrm>
            <a:off x="3657600" y="2514600"/>
            <a:ext cx="1827360" cy="182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When is Hanukkah?</a:t>
            </a:r>
            <a:endParaRPr b="1" lang="en-US" sz="4400" spc="-1" strike="noStrike">
              <a:solidFill>
                <a:srgbClr val="333399"/>
              </a:solidFill>
              <a:latin typeface="Verdana"/>
            </a:endParaRPr>
          </a:p>
        </p:txBody>
      </p:sp>
      <p:sp>
        <p:nvSpPr>
          <p:cNvPr id="95"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Celebrated for eight days and nights</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Starts on the 25 of Kislev on the Hebrew calendar (November or December on the Gregorian calendar)</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Hanukkah means dedication</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The holiday commemorates the rededication of the holy Temple in Jerusalem after the Jews’ 165 B.C.E. victory over the Hellenist Syrians.</a:t>
            </a:r>
            <a:endParaRPr b="0" lang="en-US" sz="1400" spc="-1" strike="noStrike">
              <a:solidFill>
                <a:srgbClr val="333399"/>
              </a:solidFill>
              <a:latin typeface="Verdana"/>
            </a:endParaRPr>
          </a:p>
        </p:txBody>
      </p:sp>
      <p:pic>
        <p:nvPicPr>
          <p:cNvPr id="96" name="Picture 16" descr="MCSO01575_0000[1]"/>
          <p:cNvPicPr/>
          <p:nvPr/>
        </p:nvPicPr>
        <p:blipFill>
          <a:blip r:embed="rId1"/>
          <a:stretch/>
        </p:blipFill>
        <p:spPr>
          <a:xfrm>
            <a:off x="2133720" y="1447920"/>
            <a:ext cx="4724280" cy="322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The Menorah</a:t>
            </a:r>
            <a:endParaRPr b="1" lang="en-US" sz="4400" spc="-1" strike="noStrike">
              <a:solidFill>
                <a:srgbClr val="333399"/>
              </a:solidFill>
              <a:latin typeface="Verdana"/>
            </a:endParaRPr>
          </a:p>
        </p:txBody>
      </p:sp>
      <p:sp>
        <p:nvSpPr>
          <p:cNvPr id="98" name="PlaceHolder 2"/>
          <p:cNvSpPr>
            <a:spLocks noGrp="1"/>
          </p:cNvSpPr>
          <p:nvPr>
            <p:ph/>
          </p:nvPr>
        </p:nvSpPr>
        <p:spPr>
          <a:xfrm>
            <a:off x="457200" y="5105160"/>
            <a:ext cx="8229600" cy="144756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On each night of Hanukkah, the menorah is lit to commemorate a miracle which occurred after the Jews proclaimed victory over the Syrian armies in 165 B.C.E.</a:t>
            </a:r>
            <a:endParaRPr b="0" lang="en-US" sz="1600" spc="-1" strike="noStrike">
              <a:solidFill>
                <a:srgbClr val="333399"/>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When Jews came to rededicate the Temple-which had been defiled by the Syrians they found only one small flask of oil with which to light the menorah.  Although the flask contained only enough oil for one day the lamp burned for eight days.</a:t>
            </a:r>
            <a:endParaRPr b="0" lang="en-US" sz="1600" spc="-1" strike="noStrike">
              <a:solidFill>
                <a:srgbClr val="333399"/>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Verdana"/>
            </a:endParaRPr>
          </a:p>
        </p:txBody>
      </p:sp>
      <p:pic>
        <p:nvPicPr>
          <p:cNvPr id="99" name="Picture 8" descr="MCSO01451_0000[1]"/>
          <p:cNvPicPr/>
          <p:nvPr/>
        </p:nvPicPr>
        <p:blipFill>
          <a:blip r:embed="rId1"/>
          <a:stretch/>
        </p:blipFill>
        <p:spPr>
          <a:xfrm>
            <a:off x="2666880" y="1447920"/>
            <a:ext cx="3962520" cy="284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There Are Many Different Spellings of Hanukkah</a:t>
            </a:r>
            <a:endParaRPr b="1" lang="en-US" sz="4000" spc="-1" strike="noStrike">
              <a:solidFill>
                <a:srgbClr val="333399"/>
              </a:solidFill>
              <a:latin typeface="Verdana"/>
            </a:endParaRPr>
          </a:p>
        </p:txBody>
      </p:sp>
      <p:sp>
        <p:nvSpPr>
          <p:cNvPr id="101"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1"/>
              </a:rPr>
              <a:t>Chanuka</a:t>
            </a:r>
            <a:r>
              <a:rPr b="1" lang="en-US" sz="2400" spc="-1" strike="noStrike">
                <a:solidFill>
                  <a:srgbClr val="333399"/>
                </a:solidFill>
                <a:latin typeface="Verdana"/>
              </a:rPr>
              <a:t> Chanukah Chanukkah Channukah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Hanukah Hannukah Hanukkah Hanuka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Hanukka Hanaka Haneka Hanika Khanukkah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pic>
        <p:nvPicPr>
          <p:cNvPr id="102" name="Picture 4" descr="MCSO02971_0000[1]"/>
          <p:cNvPicPr/>
          <p:nvPr/>
        </p:nvPicPr>
        <p:blipFill>
          <a:blip r:embed="rId2"/>
          <a:stretch/>
        </p:blipFill>
        <p:spPr>
          <a:xfrm>
            <a:off x="2666880" y="1981080"/>
            <a:ext cx="3886200" cy="225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Latkes</a:t>
            </a:r>
            <a:endParaRPr b="1" lang="en-US" sz="4400" spc="-1" strike="noStrike">
              <a:solidFill>
                <a:srgbClr val="333399"/>
              </a:solidFill>
              <a:latin typeface="Verdana"/>
            </a:endParaRPr>
          </a:p>
        </p:txBody>
      </p:sp>
      <p:sp>
        <p:nvSpPr>
          <p:cNvPr id="104"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Most Hanukkah dishes use oil</a:t>
            </a:r>
            <a:endParaRPr b="0" lang="en-US" sz="1400" spc="-1" strike="noStrike">
              <a:solidFill>
                <a:srgbClr val="333399"/>
              </a:solidFill>
              <a:latin typeface="Verdana"/>
            </a:endParaRPr>
          </a:p>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Oil reminds us of the oil which burned eight days instead of one.</a:t>
            </a:r>
            <a:endParaRPr b="0" lang="en-US" sz="1400" spc="-1" strike="noStrike">
              <a:solidFill>
                <a:srgbClr val="333399"/>
              </a:solidFill>
              <a:latin typeface="Verdana"/>
            </a:endParaRPr>
          </a:p>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Latkes are potato pancakes made from grated potatoes mixed with eggs, onions, and flour, then fried in vegetable oil. They are served hot and often dipped in apple sauce or sour cream</a:t>
            </a:r>
            <a:endParaRPr b="0" lang="en-US" sz="1400" spc="-1" strike="noStrike">
              <a:solidFill>
                <a:srgbClr val="333399"/>
              </a:solidFill>
              <a:latin typeface="Verdana"/>
            </a:endParaRPr>
          </a:p>
        </p:txBody>
      </p:sp>
      <p:pic>
        <p:nvPicPr>
          <p:cNvPr id="105" name="Picture 6" descr="MCj02004150000[1]"/>
          <p:cNvPicPr/>
          <p:nvPr/>
        </p:nvPicPr>
        <p:blipFill>
          <a:blip r:embed="rId1"/>
          <a:stretch/>
        </p:blipFill>
        <p:spPr>
          <a:xfrm>
            <a:off x="2971800" y="1233360"/>
            <a:ext cx="3352680" cy="318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Dreidel</a:t>
            </a:r>
            <a:endParaRPr b="1" lang="en-US" sz="4400" spc="-1" strike="noStrike">
              <a:solidFill>
                <a:srgbClr val="333399"/>
              </a:solidFill>
              <a:latin typeface="Verdana"/>
            </a:endParaRPr>
          </a:p>
        </p:txBody>
      </p:sp>
      <p:sp>
        <p:nvSpPr>
          <p:cNvPr id="107" name="PlaceHolder 2"/>
          <p:cNvSpPr>
            <a:spLocks noGrp="1"/>
          </p:cNvSpPr>
          <p:nvPr>
            <p:ph/>
          </p:nvPr>
        </p:nvSpPr>
        <p:spPr>
          <a:xfrm>
            <a:off x="457200" y="5105160"/>
            <a:ext cx="8229600" cy="1447560"/>
          </a:xfrm>
          <a:prstGeom prst="rect">
            <a:avLst/>
          </a:prstGeom>
          <a:noFill/>
          <a:ln w="0">
            <a:noFill/>
          </a:ln>
        </p:spPr>
        <p:txBody>
          <a:bodyPr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The dreidel (spinner) is a four-sided spinning top with a Hebrew letter inscribed on each side.  Before spinning each player places a  fixed amount of the coin or candy in the kitty</a:t>
            </a:r>
            <a:endParaRPr b="0" lang="en-US" sz="1400" spc="-1" strike="noStrike">
              <a:solidFill>
                <a:srgbClr val="333399"/>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During the rule of Antiochus before the  Maccabee’s revolt, soldiers executed any Jews caught practicing their religion </a:t>
            </a:r>
            <a:endParaRPr b="0" lang="en-US" sz="1400" spc="-1" strike="noStrike">
              <a:solidFill>
                <a:srgbClr val="333399"/>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When Pious Jews gathered to study the Torah, they had the top ready in case they heard soldiers approaching.  They would hide the holy scriptures and pretend to play with the dreidel</a:t>
            </a:r>
            <a:endParaRPr b="0" lang="en-US" sz="1400" spc="-1" strike="noStrike">
              <a:solidFill>
                <a:srgbClr val="333399"/>
              </a:solidFill>
              <a:latin typeface="Verdana"/>
            </a:endParaRPr>
          </a:p>
        </p:txBody>
      </p:sp>
      <p:pic>
        <p:nvPicPr>
          <p:cNvPr id="108" name="Picture 4" descr="MCj04136900000[1]"/>
          <p:cNvPicPr/>
          <p:nvPr/>
        </p:nvPicPr>
        <p:blipFill>
          <a:blip r:embed="rId1"/>
          <a:stretch/>
        </p:blipFill>
        <p:spPr>
          <a:xfrm>
            <a:off x="3238560" y="1123920"/>
            <a:ext cx="3085920" cy="390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WordArt 5"/>
          <p:cNvSpPr txBox="1"/>
          <p:nvPr/>
        </p:nvSpPr>
        <p:spPr>
          <a:xfrm>
            <a:off x="2286000" y="1371600"/>
            <a:ext cx="4452840" cy="1523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9900"/>
                    </a:gs>
                    <a:gs pos="100000">
                      <a:srgbClr val="66ff33"/>
                    </a:gs>
                  </a:gsLst>
                  <a:lin ang="2700000"/>
                </a:gradFill>
                <a:latin typeface="Verdana"/>
              </a:rPr>
              <a:t>Happy Hanukkah</a:t>
            </a:r>
            <a:endParaRPr b="0" lang="en-US" sz="1800" spc="1" strike="noStrike">
              <a:ln w="9360">
                <a:solidFill>
                  <a:srgbClr val="000000"/>
                </a:solidFill>
                <a:miter/>
              </a:ln>
              <a:gradFill rotWithShape="0">
                <a:gsLst>
                  <a:gs pos="0">
                    <a:srgbClr val="ff9900"/>
                  </a:gs>
                  <a:gs pos="100000">
                    <a:srgbClr val="66ff33"/>
                  </a:gs>
                </a:gsLst>
                <a:lin ang="2700000"/>
              </a:gradFill>
              <a:latin typeface="Verdana"/>
              <a:ea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18:41:13Z</dcterms:created>
  <dc:creator>Mr. Clutter</dc:creator>
  <dc:description/>
  <dc:language>en-US</dc:language>
  <cp:lastModifiedBy>RomaK</cp:lastModifiedBy>
  <dcterms:modified xsi:type="dcterms:W3CDTF">2015-09-02T09:53:11Z</dcterms:modified>
  <cp:revision>21</cp:revision>
  <dc:subject/>
  <dc:title>Hanukkah Sample Story Template</dc:title>
</cp:coreProperties>
</file>