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718C-F03A-45B7-B333-A8878045B0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7CD-CD2B-4CEB-A291-03780EBA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8F9-80E2-4026-BE29-19A16E29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146-556F-4599-89D5-064FBAFA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FEB-3A56-4299-8424-556816C2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466C-E344-416D-ABB2-6C46E0F6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46A2-10C0-4BAB-A87E-01CBD28B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941D-E8AE-4871-9698-D8DB4496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9298-89B3-4A29-AF80-6E344255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D789-B9DB-4F7D-A233-D708A7FC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1F6F-108D-472F-8102-9834B5B7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7F9B-F9F2-4C6C-AB54-4B6852A3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780-9826-4A35-9749-359A79CD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9BD4-7F5A-46A5-848C-B4AA852C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75EC-C619-4425-9567-5FD51FD1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4FC1-A55B-40A7-9CEC-0524A429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49C3-3EE5-4E39-AFE5-1FF57ECC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24B6-38EE-4D2A-B563-9E90BE67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07C-7913-4AD5-8ED9-D1DD38F2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A28-EC5E-4A8B-92AF-79169DC9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962-43A6-4841-8324-35E3AC45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179-2967-444E-B35A-F713BE19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284-F334-4FDC-B646-8BBF9A2C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ADD-0DEC-4175-BFC1-EE617258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9E6-7C8A-4826-AF4D-80027236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864F-A85D-4698-87EF-D1B5A40A189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4AEE-D4CF-4FFB-AF74-839C8F2C797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Family Fluid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Indissoluble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Early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Companionate Family 195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Reconstituted Family 197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74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Biological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ate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Practices 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HJ Morgan (1996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Fluidity Toda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21:33Z</dcterms:created>
  <dc:creator>NCC (Education Services)</dc:creator>
  <dc:description/>
  <dc:language>en-US</dc:language>
  <cp:lastModifiedBy>RomaK</cp:lastModifiedBy>
  <dcterms:modified xsi:type="dcterms:W3CDTF">2015-09-02T09:53:27Z</dcterms:modified>
  <cp:revision>13</cp:revision>
  <dc:subject/>
  <dc:title>Family Fluidity</dc:title>
</cp:coreProperties>
</file>