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CD49-1075-4A2E-80CF-A9E5FEF317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FD7-8F2F-41D9-9340-129A9E31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8AA-D48A-4E90-8497-D70A45DB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6D8-0AFC-4C8D-BAC2-E361708E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2E6-B939-4850-8EAD-4B23A851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7238-E1BF-4C87-B28A-75739CDC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E6D0-75C4-461B-B4A0-01FABA0D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40FA-C7DE-43B4-A5A4-C28AB969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F03E-50E1-4089-80D1-569DD300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BA80-56DB-4B42-AC10-8849E347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DD7F-5DF4-463D-B584-9D8F2E0A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E90F-6501-4393-86C3-3261A15B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CBE-6B5E-4986-A7EC-EF6B6214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0271-0DB9-48FF-94FB-8E3A6C20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D35E-3FC7-459D-9CCF-06D7557B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A1FB-9314-47A4-AC82-4708DF09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FD5B-7C16-42ED-8D90-F7BF21CA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36EC-BEB2-4757-BE58-F6596268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525-5FDC-4B08-B4DC-6DB962E0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FBF-E752-45B8-B329-252B92DF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474-04B9-4575-9C7E-64D698DB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AC0-C72E-4DE3-B205-31DB9DFA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258-B44C-42B1-9442-E8969ABA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CC7-8794-44D5-AACB-B201E082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1F99-DE60-416B-863C-97878E7B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CD05-5789-4806-9DE3-27409BFE5BB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9BA5-DA1E-4859-82FB-A5E84CDDDFC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Family Fluid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Indissoluble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Early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Companionate Family 195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Reconstituted Family 197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74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Biological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ate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Practices 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HJ Morgan (1996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Fluidity Toda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21:33Z</dcterms:created>
  <dc:creator>NCC (Education Services)</dc:creator>
  <dc:description/>
  <dc:language>en-US</dc:language>
  <cp:lastModifiedBy>RomaK</cp:lastModifiedBy>
  <dcterms:modified xsi:type="dcterms:W3CDTF">2015-09-02T09:53:27Z</dcterms:modified>
  <cp:revision>13</cp:revision>
  <dc:subject/>
  <dc:title>Family Fluidity</dc:title>
</cp:coreProperties>
</file>