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84C3-D02A-434D-9140-909839DD40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11/07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11/07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dicators change to different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dicators change to different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red in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blue in an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red in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blue in an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 changes colour in acids and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 changes colour in acids and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- 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- 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eutralisatio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estion: Our stomach ca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hydrochlo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ure indigestion, you can neutralise the excess acid with baking soda or specialised indigestion tab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S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stings are acid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be neutralised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soda (bicarbonate of sod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p stings are alkaline and can     be neutralised with vineg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eutralisatio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estion: Our stomach ca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hydrochlo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ure indigestion, you can neutralise the excess acid with baking soda or specialised indigestion tab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S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stings are acid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be neutralised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soda (bicarbonate of sod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p stings are alkaline and can     be neutralised with vineg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Neutralis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Waste: Liquid waste from factories is often acidic. If it reaches a river it will destroy and kill sea life of many forms. Neutralising the waste with slaked lime can prevent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Treatment: When soils are too acidic (often as a result of acid rain) they can be treated with slaked lime, chalk or quicklime, all alkalis. Plants and crops grow best in neutral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Neutralis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Waste: Liquid waste from factories is often acidic. If it reaches a river it will destroy and kill sea life of many forms. Neutralising the waste with slaked lime can prevent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Treatment: When soils are too acidic (often as a result of acid rain) they can be treated with slaked lime, chalk or quicklime, all alkalis. Plants and crops grow best in neutral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ubstance dissolves in water it makes a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ubstance dissolves in water it makes a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ome non-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sour tas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ome non-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sour tas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s react with meta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and carbonat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+                     magnesium chloride + hydrochloric acid                              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 +                         copper sulphate + water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 carbonate                                      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react with me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nd carbonat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+                     magnesium chloride + hydrochloric acid                              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 +                         copper sulphate + water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 carbonate                                      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mon juice contains citric acid, and vinegar contains ethano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strong acids are hydrochloric acid, sulphuric acid and nit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weak acids are ethanoic acid, citric acid and carbon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on juice contains citric acid, and vinegar contains ethano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rong acids are hydrochloric acid, sulphuric acid and nit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ak acids are ethanoic acid, citric acid and carbon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is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 react with each other. The alkali cancels out the acid in the reaction. This is called neutralis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is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 react with each other. The alkali cancels out the acid in the reaction. This is called neutralis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sulphuric acid are known as sulph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hydrochloric acid are known as chlor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nitric acid are known as nitr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sulphuric acid are known as sulph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hydrochloric acid are known as chlor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nitric acid are known as nitr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s of some metals dissolve in water they make an alkali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react with acids and neutralise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eel soap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s of some metals dissolve in water they make an alkali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react with acids and neutralise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eel soap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are present in many cleaning substances in use in our ho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tchen cleaners are alkaline because they contain ammonia or sodium hydroxide, which attack g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hydroxide and sodium hydroxide are strong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recognisable and common weak alkali is am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are present in many cleaning substances in use in our ho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tchen cleaners are alkaline because they contain ammonia or sodium hydroxide, which attack g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hydroxide and sodium hydroxide are strong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recognisable and common weak alkali is am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A3B1-E5AF-4C16-ACF9-C87B2D8F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748-B268-4F84-9781-D89B716F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8FEA-B8C0-4E06-B738-85E1AEBF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692-64F7-4C62-949B-A3479CD1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EDE-7D43-4EDA-B58C-86F3DD4F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12EE-4A2B-424B-925E-F96E1C81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B88D-BF6B-4470-9715-283ED30F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90B0-A0F8-4C7C-B160-53781430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7E40-E884-4908-9B0A-94F7576E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FEE8-B313-4D14-B8C5-02D6338C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42F-6B22-4BBF-B036-3E89BC7E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8CF4-D3CB-44AE-A696-5258AC48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9918-E588-4157-AE15-646B091B9A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1/11/07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cc33"/>
                </a:solidFill>
                <a:latin typeface="Arial"/>
              </a:rPr>
              <a:t>Indicator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5084280"/>
            <a:ext cx="9468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fferent indicators change to different colours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indicato"/>
          <p:cNvPicPr/>
          <p:nvPr/>
        </p:nvPicPr>
        <p:blipFill>
          <a:blip r:embed="rId1"/>
          <a:stretch/>
        </p:blipFill>
        <p:spPr>
          <a:xfrm>
            <a:off x="468360" y="620640"/>
            <a:ext cx="4056120" cy="3041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500720" y="1341360"/>
            <a:ext cx="287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49680" y="620280"/>
            <a:ext cx="369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60066"/>
                </a:solidFill>
                <a:latin typeface="Arial"/>
              </a:rPr>
              <a:t>Litmus</a:t>
            </a:r>
            <a:br>
              <a:rPr sz="5400"/>
            </a:br>
            <a:r>
              <a:rPr b="1" lang="en-GB" sz="5400" spc="-1" strike="noStrike">
                <a:solidFill>
                  <a:srgbClr val="660066"/>
                </a:solidFill>
                <a:latin typeface="Arial"/>
              </a:rPr>
              <a:t>T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354456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an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.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b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an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litmus"/>
          <p:cNvPicPr/>
          <p:nvPr/>
        </p:nvPicPr>
        <p:blipFill>
          <a:blip r:embed="rId1"/>
          <a:stretch/>
        </p:blipFill>
        <p:spPr>
          <a:xfrm>
            <a:off x="900000" y="260280"/>
            <a:ext cx="437544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Universal Indicato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iversal indicator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hanges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colour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in acids and alka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sci_dia_39"/>
          <p:cNvPicPr/>
          <p:nvPr/>
        </p:nvPicPr>
        <p:blipFill>
          <a:blip r:embed="rId1"/>
          <a:stretch/>
        </p:blipFill>
        <p:spPr>
          <a:xfrm>
            <a:off x="971640" y="2133720"/>
            <a:ext cx="7056360" cy="1368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-1230120" y="5300640"/>
            <a:ext cx="103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050920" y="3573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5292720" y="3573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 rot="5400000">
            <a:off x="3423960" y="4214520"/>
            <a:ext cx="21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9900"/>
                </a:solidFill>
                <a:latin typeface="Arial"/>
              </a:rPr>
              <a:t>The pH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sci_dia_39"/>
          <p:cNvPicPr/>
          <p:nvPr/>
        </p:nvPicPr>
        <p:blipFill>
          <a:blip r:embed="rId1"/>
          <a:stretch/>
        </p:blipFill>
        <p:spPr>
          <a:xfrm>
            <a:off x="539640" y="1773360"/>
            <a:ext cx="7704360" cy="12571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1116000" y="2924280"/>
            <a:ext cx="30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 –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5867280" y="3068640"/>
            <a:ext cx="3888000" cy="17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8 - 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4211640" y="321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4067280" y="414972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 rot="5400000">
            <a:off x="3542760" y="3591000"/>
            <a:ext cx="16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 rot="5400000">
            <a:off x="3395880" y="4386960"/>
            <a:ext cx="20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116000" y="3429000"/>
            <a:ext cx="15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Applications of Neutralisation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3499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Indiges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: Our stomach car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ou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ydrochloric acid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cure indigestion, you can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xcess acid wit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baking soda or specialised indigestion tabl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MCj03645140000[1]"/>
          <p:cNvPicPr/>
          <p:nvPr/>
        </p:nvPicPr>
        <p:blipFill>
          <a:blip r:embed="rId1"/>
          <a:stretch/>
        </p:blipFill>
        <p:spPr>
          <a:xfrm>
            <a:off x="684360" y="1197000"/>
            <a:ext cx="179856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MCj03122440000[1]"/>
          <p:cNvPicPr/>
          <p:nvPr/>
        </p:nvPicPr>
        <p:blipFill>
          <a:blip r:embed="rId2"/>
          <a:stretch/>
        </p:blipFill>
        <p:spPr>
          <a:xfrm>
            <a:off x="7202520" y="3500280"/>
            <a:ext cx="1941480" cy="2160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2484360" y="1052640"/>
            <a:ext cx="6480360" cy="30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Insect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Bee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cidic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 can be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baking soda (bicarbonate of soda)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p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lkalin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nd can     be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inegar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MPj04071800000[1]"/>
          <p:cNvPicPr/>
          <p:nvPr/>
        </p:nvPicPr>
        <p:blipFill>
          <a:blip r:embed="rId1"/>
          <a:stretch/>
        </p:blipFill>
        <p:spPr>
          <a:xfrm>
            <a:off x="108000" y="-531720"/>
            <a:ext cx="9144000" cy="8694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42920" y="4723920"/>
            <a:ext cx="961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f Neutralisation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00360" y="-531720"/>
            <a:ext cx="477180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actory Wast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: Liquid waste from factories is often acidic. If it reaches a river it will destroy and kill sea life of many forms. Neutralising the waste with slaked lime can prevent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0"/>
            <a:ext cx="4714920" cy="39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Soil Treatment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: When soils are too acidic (often as a result of acid rain) they can be treated with slaked lime, chalk or quicklime, all alkalis. Plants and crops grow best in neutral so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4400" spc="-1" strike="noStrike">
                <a:solidFill>
                  <a:srgbClr val="ff0066"/>
                </a:solidFill>
                <a:latin typeface="Arial"/>
              </a:rPr>
              <a:t>Acids and alka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olutions can be sorted by whether they are: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acid,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alkali </a:t>
            </a:r>
            <a:r>
              <a:rPr b="1" lang="en-GB" sz="3600" spc="-1" strike="noStrike">
                <a:solidFill>
                  <a:srgbClr val="669900"/>
                </a:solidFill>
                <a:latin typeface="Arial"/>
              </a:rPr>
              <a:t>or neutral.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ontent"/>
          <p:cNvPicPr/>
          <p:nvPr/>
        </p:nvPicPr>
        <p:blipFill>
          <a:blip r:embed="rId1"/>
          <a:stretch/>
        </p:blipFill>
        <p:spPr>
          <a:xfrm>
            <a:off x="2484360" y="1916280"/>
            <a:ext cx="3816360" cy="2862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611280" y="981000"/>
            <a:ext cx="82803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en a substance dissolves in water it makes a </a:t>
            </a:r>
            <a:r>
              <a:rPr b="1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solution.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611280" y="333000"/>
            <a:ext cx="4286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When the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ox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of some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 non-metals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issolve in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water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ey make an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acid.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acid"/>
          <p:cNvPicPr/>
          <p:nvPr/>
        </p:nvPicPr>
        <p:blipFill>
          <a:blip r:embed="rId1"/>
          <a:stretch/>
        </p:blipFill>
        <p:spPr>
          <a:xfrm>
            <a:off x="5796000" y="333360"/>
            <a:ext cx="2016000" cy="3166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2195640" y="4365720"/>
            <a:ext cx="7380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s have a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ur tast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orrosiv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24000" y="4005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sci_dia_36"/>
          <p:cNvPicPr/>
          <p:nvPr/>
        </p:nvPicPr>
        <p:blipFill>
          <a:blip r:embed="rId2"/>
          <a:stretch/>
        </p:blipFill>
        <p:spPr>
          <a:xfrm>
            <a:off x="250920" y="3716280"/>
            <a:ext cx="23860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"/>
              </a:rPr>
              <a:t>Acids react with metals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"/>
              </a:rPr>
              <a:t>   and carbonate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magnesium +          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         magnesium chloride + hydrochloric acid                               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"/>
          <p:cNvPicPr/>
          <p:nvPr/>
        </p:nvPicPr>
        <p:blipFill>
          <a:blip r:embed="rId1"/>
          <a:stretch/>
        </p:blipFill>
        <p:spPr>
          <a:xfrm>
            <a:off x="6588000" y="1197000"/>
            <a:ext cx="2810160" cy="2106720"/>
          </a:xfrm>
          <a:prstGeom prst="rect">
            <a:avLst/>
          </a:prstGeom>
          <a:ln w="0">
            <a:noFill/>
          </a:ln>
        </p:spPr>
      </p:pic>
      <p:sp>
        <p:nvSpPr>
          <p:cNvPr id="62" name="Line 7"/>
          <p:cNvSpPr/>
          <p:nvPr/>
        </p:nvSpPr>
        <p:spPr>
          <a:xfrm>
            <a:off x="2627280" y="1989000"/>
            <a:ext cx="1152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3348000" y="5013360"/>
            <a:ext cx="719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0" y="3716280"/>
            <a:ext cx="896472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ulphuric acid +                         copper sulphate + water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pper carbonate                                      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3276720" y="4076640"/>
            <a:ext cx="1152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2627280" y="2637000"/>
            <a:ext cx="1079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MPj03867810000[1]"/>
          <p:cNvPicPr/>
          <p:nvPr/>
        </p:nvPicPr>
        <p:blipFill>
          <a:blip r:embed="rId1"/>
          <a:stretch/>
        </p:blipFill>
        <p:spPr>
          <a:xfrm>
            <a:off x="6883560" y="0"/>
            <a:ext cx="2260440" cy="3168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80000" y="188640"/>
            <a:ext cx="556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Acids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229600" cy="331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Lemon jui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itric acid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vinega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 ethanoic ac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me strong acid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hydrochloric acid, sulphuric aci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nitric ac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ome weak acid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e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ethanoic acid, citric acid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carbonic acid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MCj04079520000[1]"/>
          <p:cNvPicPr/>
          <p:nvPr/>
        </p:nvPicPr>
        <p:blipFill>
          <a:blip r:embed="rId2"/>
          <a:stretch/>
        </p:blipFill>
        <p:spPr>
          <a:xfrm>
            <a:off x="0" y="620640"/>
            <a:ext cx="2521080" cy="1790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2556000" y="98100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Neutralis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s and alkali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ac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each other. The alkali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cels ou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acid in the reaction. This i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utral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nuta"/>
          <p:cNvPicPr/>
          <p:nvPr/>
        </p:nvPicPr>
        <p:blipFill>
          <a:blip r:embed="rId1"/>
          <a:stretch/>
        </p:blipFill>
        <p:spPr>
          <a:xfrm>
            <a:off x="1187280" y="3284640"/>
            <a:ext cx="6471000" cy="19573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3059280" y="57340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Arial"/>
              </a:rPr>
              <a:t>Sa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95280" y="436572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sulphu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lph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hydrochlo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lo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nit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ate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Alkal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55640" y="2781360"/>
            <a:ext cx="5986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oxides of some meta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issolve in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y make an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alkali solution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Alkali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 with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is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alki"/>
          <p:cNvPicPr/>
          <p:nvPr/>
        </p:nvPicPr>
        <p:blipFill>
          <a:blip r:embed="rId1"/>
          <a:stretch/>
        </p:blipFill>
        <p:spPr>
          <a:xfrm>
            <a:off x="250920" y="2852640"/>
            <a:ext cx="2279520" cy="3889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sci_dia_36"/>
          <p:cNvPicPr/>
          <p:nvPr/>
        </p:nvPicPr>
        <p:blipFill>
          <a:blip r:embed="rId2"/>
          <a:stretch/>
        </p:blipFill>
        <p:spPr>
          <a:xfrm>
            <a:off x="250920" y="333360"/>
            <a:ext cx="2376360" cy="2303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2843280" y="1052640"/>
            <a:ext cx="6553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feel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oap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orrosiv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MCj02289170000[1]"/>
          <p:cNvPicPr/>
          <p:nvPr/>
        </p:nvPicPr>
        <p:blipFill>
          <a:blip r:embed="rId1"/>
          <a:stretch/>
        </p:blipFill>
        <p:spPr>
          <a:xfrm>
            <a:off x="324000" y="1268280"/>
            <a:ext cx="2700360" cy="2592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660066"/>
                </a:solidFill>
                <a:uFillTx/>
                <a:latin typeface="Arial"/>
              </a:rPr>
              <a:t>Alkali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14400" y="907920"/>
            <a:ext cx="6429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kal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re present in man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eaning substanc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use in our ho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itchen cleaners are alkali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cause they contain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mmon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sodium hydroxi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whic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ttack g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50920" y="4581360"/>
            <a:ext cx="889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Calcium hydroxide </a:t>
            </a:r>
            <a:r>
              <a:rPr b="0" lang="en-GB" sz="2800" spc="-1" strike="noStrike">
                <a:solidFill>
                  <a:srgbClr val="660066"/>
                </a:solidFill>
                <a:latin typeface="Arial"/>
              </a:rPr>
              <a:t>and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 sodium hydroxide </a:t>
            </a:r>
            <a:r>
              <a:rPr b="0" lang="en-GB" sz="2800" spc="-1" strike="noStrike">
                <a:solidFill>
                  <a:srgbClr val="660066"/>
                </a:solidFill>
                <a:latin typeface="Arial"/>
              </a:rPr>
              <a:t>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strong alkali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he most recognisable and common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weak alkali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s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ammo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4:57:11Z</dcterms:created>
  <dc:creator>HP Authorized Customer</dc:creator>
  <dc:description/>
  <dc:language>en-US</dc:language>
  <cp:lastModifiedBy>RomaK</cp:lastModifiedBy>
  <dcterms:modified xsi:type="dcterms:W3CDTF">2015-09-01T16:13:59Z</dcterms:modified>
  <cp:revision>27</cp:revision>
  <dc:subject/>
  <dc:title>Slide 1</dc:title>
</cp:coreProperties>
</file>