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9ACD-EF04-450A-873E-A64FBBE3E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empty spa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the number Z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when you just sit and be qui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spin (really fast) around the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whol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…DOES THI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 YOU REALLY WANT TO KNOW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FREA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PROMI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…DOES THIS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SPA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TY SPAC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MADE OF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LD YOU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FREAK 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D YOU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HIS B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HEAD DOWN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mon…Try really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very still…can you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RUE BECAU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RUE BECAUS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ASSIGN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OME AND 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T QUIETLY FOR AT LEAST 15 MINUT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ASSIGN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NOT TO THINK OF ANYTHING…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IN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SOMETHING INTERESTING HAPPE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IT DOWN…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BACK AND TALK ABOUT 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NOW YOU KNOW THA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IS REALLY NO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n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IS REALLY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NOW YOU KNOW T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CAN M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YOU CAN IMAGINE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YOU CAN M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F NO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hanks t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and Tony for wanting to learn ab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thanks t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possible to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brain still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heart still bea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possible to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n’t you think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n’t you think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how do you get someth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, how do you get someth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nihi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Latin word; it mea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 nihil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making somethin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about making something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YOU SAY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OSSIBLE YOU SAY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AKE A LOOK AT THE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TAKE A LOOK AT THE AT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3EE-4B94-4A3A-9922-220058BD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BE1-79EA-4D79-97A5-9E1F2DFA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E11-C32E-4AE1-8BF9-11B4F59E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46C-34EB-41FE-8938-B805BAEF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0E493-57D0-4A45-8E10-A6EE6483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01BF3-A2AC-400D-BDC2-96F18ACE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9347C-139E-47EF-932A-01CBAFFA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54B8F-54D4-44D2-B607-9D89CD1F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0F366-CF00-4332-A1EE-86DA1D9C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F0DE3-CDC4-4FE1-8BA5-7249CC74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A72E8-EEA0-4D57-8E85-CBD1AED9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478-5364-4510-B144-7916CC43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9D76E-AEEF-4E61-B4C5-AA530949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2CBEF-4259-4FF3-9E62-0F83664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7AE32-15AC-43CD-A080-FA747245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CD880-5D7D-432A-ADEC-70DFF759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868BB-A633-4648-A839-C85C0ED4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A7A-5703-49FC-8B51-B05B32DC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403-BE37-41BF-9240-B4076E9D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C2C-288C-40A6-92F0-1458CBA1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851-AA33-41A0-AB53-B3AF0E25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8A9-AB74-4D63-9AFB-56FB15F4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DE7-DA0A-4B48-8B9A-C5F318FA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8D3-5246-4BA2-BFB0-977A41FA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EF9-3B86-4D61-95EF-226BF8EB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E8EB-FBF3-4CB5-9DCE-C79ECDE2DF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at is Nothing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made of teeny tiny particl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tons, neutrons, and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green and orange dots in the in the middle are called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ucle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tom"/>
          <p:cNvPicPr/>
          <p:nvPr/>
        </p:nvPicPr>
        <p:blipFill>
          <a:blip r:embed="rId1"/>
          <a:stretch/>
        </p:blipFill>
        <p:spPr>
          <a:xfrm>
            <a:off x="3429000" y="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ut this picture is not exactly how real atoms appear. We can imagine the atom a lot bigger to get an idea of what it actually looks like. 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atom"/>
          <p:cNvPicPr/>
          <p:nvPr/>
        </p:nvPicPr>
        <p:blipFill>
          <a:blip r:embed="rId1"/>
          <a:stretch/>
        </p:blipFill>
        <p:spPr>
          <a:xfrm>
            <a:off x="2743200" y="2819520"/>
            <a:ext cx="3419640" cy="34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Then the </a:t>
            </a: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whole atom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would be wider than the length of </a:t>
            </a:r>
            <a:r>
              <a:rPr b="1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fifteen football fields! </a:t>
            </a:r>
            <a:br>
              <a:rPr sz="28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no way…YES WAY!!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7" descr="atom"/>
          <p:cNvPicPr/>
          <p:nvPr/>
        </p:nvPicPr>
        <p:blipFill>
          <a:blip r:embed="rId1"/>
          <a:stretch/>
        </p:blipFill>
        <p:spPr>
          <a:xfrm>
            <a:off x="3363840" y="3265560"/>
            <a:ext cx="255276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 WHAT…DOES THIS MEAN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609480" y="990720"/>
            <a:ext cx="815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778120"/>
            <a:ext cx="94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Times New Roman"/>
              </a:rPr>
              <a:t>ARE YOU READY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IT MEANS THAT THE ATOM IS 99.9%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MPTY SPA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LD YOU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NOW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IS TRUE BECAUSE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GETH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AKE WHAT WE SEE AS SOLID OBJECT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between electrons) ARE MADE SOMETHING IS CRE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Vinca"/>
          <p:cNvPicPr/>
          <p:nvPr/>
        </p:nvPicPr>
        <p:blipFill>
          <a:blip r:embed="rId1"/>
          <a:stretch/>
        </p:blipFill>
        <p:spPr>
          <a:xfrm>
            <a:off x="2743200" y="358128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ASSIGNMEN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 FINALL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, NOW YOU KNOW THAT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YOU CAN MAK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y thanks t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 it possible to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n’t you thinking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thinker"/>
          <p:cNvPicPr/>
          <p:nvPr/>
        </p:nvPicPr>
        <p:blipFill>
          <a:blip r:embed="rId1"/>
          <a:stretch/>
        </p:blipFill>
        <p:spPr>
          <a:xfrm>
            <a:off x="5029200" y="1752480"/>
            <a:ext cx="26780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, how do you get something…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e3e3ff"/>
                </a:solidFill>
                <a:uFillTx/>
                <a:latin typeface="Arial"/>
              </a:rPr>
              <a:t>Ex nihilo</a:t>
            </a: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33520" y="2684520"/>
            <a:ext cx="988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OUT OF NOTHING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ink about making something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IMPOSSIBLE YOU SAY?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 Narrow"/>
              </a:rPr>
              <a:t>LET’S TAKE A LOOK AT THE ATO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atom"/>
          <p:cNvPicPr/>
          <p:nvPr/>
        </p:nvPicPr>
        <p:blipFill>
          <a:blip r:embed="rId1"/>
          <a:stretch/>
        </p:blipFill>
        <p:spPr>
          <a:xfrm>
            <a:off x="228600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2292 0.05294 C 0.02986 0.03953 0.03698 0.02497 0.04392 0.00625 C 0.06285 -0.04715 0.06788 -0.09916 0.05399 -0.10702 C 0.03993 -0.1165 0.01285 -0.07905 -0.00608 -0.02565 C -0.01615 0.00232 -0.02205 0.0289 -0.02413 0.04901 C -0.02708 0.06496 -0.02812 0.08091 -0.02812 0.09963 C -0.02812 0.15951 -0.0151 0.20897 0 0.20897 C 0.01493 0.20897 0.02795 0.15951 0.02795 0.09963 C 0.02795 0.07166 0.025 0.04485 0.01997 0.02636 C 0.01788 0.01018 0.01285 -0.00716 0.00694 -0.0245 C -0.01302 -0.07905 -0.0401 -0.1165 -0.05417 -0.10702 C -0.06806 -0.09778 -0.06302 -0.04715 -0.04306 0.00763 C -0.03507 0.03283 -0.02413 0.05433 -0.01302 0.06889 C -0.00503 0.0823 0.00399 0.09432 0.01597 0.10634 C 0.05191 0.14494 0.08785 0.16228 0.09792 0.14633 C 0.10694 0.13038 0.08698 0.08623 0.05087 0.04901 C 0.03594 0.03283 0.01997 0.02104 0.00694 0.01295 C -0.00503 0.00486 -0.02014 -0.00184 -0.03611 -0.00577 C -0.08003 -0.01895 -0.11806 -0.01502 -0.12101 0.00625 C -0.125 0.02636 -0.09201 0.05294 -0.04809 0.06635 C -0.02812 0.07166 -0.00903 0.07421 0.0059 0.07305 C 0.01892 0.07305 0.03299 0.07028 0.04792 0.06635 C 0.09184 0.05294 0.125 0.02497 0.12083 0.00486 C 0.11788 -0.01502 0.07986 -0.02034 0.03594 -0.00716 C 0.01493 -0.00046 -0.00417 0.00902 -0.01701 0.01965 C -0.02812 0.02751 -0.03906 0.03699 -0.05104 0.04901 C -0.08611 0.08761 -0.10712 0.13038 -0.09705 0.14633 C -0.08802 0.16228 -0.05104 0.14494 -0.01615 0.10773 C 0.000869999999999999 0.089 0.01493 0.07028 0.02292 0.05294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2T09:54:58Z</dcterms:modified>
  <cp:revision>20</cp:revision>
  <dc:subject/>
  <dc:title>PowerPoint Presentation</dc:title>
</cp:coreProperties>
</file>