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2BAA-025B-46C0-9825-15AFB0448D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empty spa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the number Z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when you just sit and be qui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spin (really fast) around the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whol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…DOES THI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 YOU REALLY WANT TO KNOW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FREA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PROMI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…DOES THIS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SPA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TY SPAC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MADE OF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D YOU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FREAK 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D YOU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HIS B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HEAD DOWN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mon…Try really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very still…can you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RUE BECAU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RUE BECAUS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ASSIGN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OME AND 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T QUIETLY FOR AT LEAST 15 MINUT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ASSIGN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NOT TO THINK OF ANYTHING…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IN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SOMETHING INTERESTING HAPPE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IT DOWN…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BACK AND TALK ABOUT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NOW YOU KNOW THA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IS REALLY NO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REALLY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NOW YOU KNOW T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CAN M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IMAGINE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YOU CAN M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F NO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anks t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and Tony for wanting to learn ab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thanks t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possible t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brain still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heart still bea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possible to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n’t you think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n’t you think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how do you get someth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, how do you get someth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nihi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atin word; it mea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 nihil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making somethin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about making something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YOU SAY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SSIBLE YOU SAY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AKE A LOOK AT THE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TAKE A LOOK AT THE AT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B51-1EC4-4898-B0B5-CEA5C71D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3AA-60FE-45E3-831B-3236722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3FF-DD44-46A5-9F90-600B6432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B59-963D-478B-8B97-FAF28AEB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60520-4E53-4875-A578-4B310234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A4C52-C6DF-4DD7-A101-D606B86A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1E8C7-E3C1-4F57-9794-658336D6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4DA4A-6152-40B5-9CAA-66A4613B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185E7-33A0-47EE-A7D6-43136CEE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3733E-17CE-4A0E-8363-5142447F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F28E0-2AA8-430A-B319-3937330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8F0-5287-4FB6-98D7-693C5DE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C6E08-8251-477C-88B9-E07C45BC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B0BD5-7C99-4DA6-AA9E-46274835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E9302-70F3-4890-BA46-5E8081A4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245BB-00FC-4297-88B9-00D51AE0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00E59-9E73-4D21-89DB-CB207D7B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911-5943-4C2F-89FF-502D2F27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4BB-696F-4C55-BC47-F863B0B4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98D-4B82-4D77-ABCD-3516D6E2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2A6-5C9B-4D63-B790-AB5CA780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E16-7753-42CE-97FB-66C39D1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2F4-B1E1-4A93-9252-68B1959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A48-0D1F-4A13-B2F4-E0217C4A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E6B-EF1D-4FEC-969E-5ACDF35B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F912-15E9-4A53-8992-EDCFBD863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at is Nothing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made of teeny tiny particl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tons, neutrons, and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green and orange dots in the in the middle are calle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cle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tom"/>
          <p:cNvPicPr/>
          <p:nvPr/>
        </p:nvPicPr>
        <p:blipFill>
          <a:blip r:embed="rId1"/>
          <a:stretch/>
        </p:blipFill>
        <p:spPr>
          <a:xfrm>
            <a:off x="3429000" y="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ut this picture is not exactly how real atoms appear. We can imagine the atom a lot bigger to get an idea of what it actually looks like. 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atom"/>
          <p:cNvPicPr/>
          <p:nvPr/>
        </p:nvPicPr>
        <p:blipFill>
          <a:blip r:embed="rId1"/>
          <a:stretch/>
        </p:blipFill>
        <p:spPr>
          <a:xfrm>
            <a:off x="2743200" y="281952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hen the </a:t>
            </a: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whole atom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would be wider than the length of </a:t>
            </a:r>
            <a:r>
              <a:rPr b="1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fifteen football fields! </a:t>
            </a:r>
            <a:br>
              <a:rPr sz="28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no way…YES WAY!!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7" descr="atom"/>
          <p:cNvPicPr/>
          <p:nvPr/>
        </p:nvPicPr>
        <p:blipFill>
          <a:blip r:embed="rId1"/>
          <a:stretch/>
        </p:blipFill>
        <p:spPr>
          <a:xfrm>
            <a:off x="3363840" y="3265560"/>
            <a:ext cx="255276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 WHAT…DOES THIS MEAN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609480" y="990720"/>
            <a:ext cx="815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778120"/>
            <a:ext cx="94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Times New Roman"/>
              </a:rPr>
              <a:t>ARE YOU READY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IT MEANS THAT THE ATOM IS 99.9%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MPTY SPA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D YOU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NOW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IS TRUE BECAUSE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GETH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WHAT WE SEE AS SOLID OBJEC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etween electrons) ARE MADE SOMETHING IS CRE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Vinca"/>
          <p:cNvPicPr/>
          <p:nvPr/>
        </p:nvPicPr>
        <p:blipFill>
          <a:blip r:embed="rId1"/>
          <a:stretch/>
        </p:blipFill>
        <p:spPr>
          <a:xfrm>
            <a:off x="2743200" y="358128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ASSIGNMEN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 FIN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, NOW YOU KNOW THAT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YOU CAN MAK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y thanks t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 it possible to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n’t you thinking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thinker"/>
          <p:cNvPicPr/>
          <p:nvPr/>
        </p:nvPicPr>
        <p:blipFill>
          <a:blip r:embed="rId1"/>
          <a:stretch/>
        </p:blipFill>
        <p:spPr>
          <a:xfrm>
            <a:off x="5029200" y="1752480"/>
            <a:ext cx="26780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, how do you get something…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3e3ff"/>
                </a:solidFill>
                <a:uFillTx/>
                <a:latin typeface="Arial"/>
              </a:rPr>
              <a:t>Ex nihilo</a:t>
            </a: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3520" y="2684520"/>
            <a:ext cx="988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OUT OF NOTHING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ink about making something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IMPOSSIBLE YOU SAY?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 Narrow"/>
              </a:rPr>
              <a:t>LET’S TAKE A LOOK AT THE ATO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atom"/>
          <p:cNvPicPr/>
          <p:nvPr/>
        </p:nvPicPr>
        <p:blipFill>
          <a:blip r:embed="rId1"/>
          <a:stretch/>
        </p:blipFill>
        <p:spPr>
          <a:xfrm>
            <a:off x="228600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2292 0.05294 C 0.02986 0.03953 0.03698 0.02497 0.04392 0.00625 C 0.06285 -0.04715 0.06788 -0.09916 0.05399 -0.10702 C 0.03993 -0.1165 0.01285 -0.07905 -0.00608 -0.02565 C -0.01615 0.00232 -0.02205 0.0289 -0.02413 0.04901 C -0.02708 0.06496 -0.02812 0.08091 -0.02812 0.09963 C -0.02812 0.15951 -0.0151 0.20897 0 0.20897 C 0.01493 0.20897 0.02795 0.15951 0.02795 0.09963 C 0.02795 0.07166 0.025 0.04485 0.01997 0.02636 C 0.01788 0.01018 0.01285 -0.00716 0.00694 -0.0245 C -0.01302 -0.07905 -0.0401 -0.1165 -0.05417 -0.10702 C -0.06806 -0.09778 -0.06302 -0.04715 -0.04306 0.00763 C -0.03507 0.03283 -0.02413 0.05433 -0.01302 0.06889 C -0.00503 0.0823 0.00399 0.09432 0.01597 0.10634 C 0.05191 0.14494 0.08785 0.16228 0.09792 0.14633 C 0.10694 0.13038 0.08698 0.08623 0.05087 0.04901 C 0.03594 0.03283 0.01997 0.02104 0.00694 0.01295 C -0.00503 0.00486 -0.02014 -0.00184 -0.03611 -0.00577 C -0.08003 -0.01895 -0.11806 -0.01502 -0.12101 0.00625 C -0.125 0.02636 -0.09201 0.05294 -0.04809 0.06635 C -0.02812 0.07166 -0.00903 0.07421 0.0059 0.07305 C 0.01892 0.07305 0.03299 0.07028 0.04792 0.06635 C 0.09184 0.05294 0.125 0.02497 0.12083 0.00486 C 0.11788 -0.01502 0.07986 -0.02034 0.03594 -0.00716 C 0.01493 -0.00046 -0.00417 0.00902 -0.01701 0.01965 C -0.02812 0.02751 -0.03906 0.03699 -0.05104 0.04901 C -0.08611 0.08761 -0.10712 0.13038 -0.09705 0.14633 C -0.08802 0.16228 -0.05104 0.14494 -0.01615 0.10773 C 0.000869999999999999 0.089 0.01493 0.07028 0.02292 0.05294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2T09:54:58Z</dcterms:modified>
  <cp:revision>20</cp:revision>
  <dc:subject/>
  <dc:title>PowerPoint Presentation</dc:title>
</cp:coreProperties>
</file>