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11D5-F48D-4EFF-8CE1-483E0CB1F8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Music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Music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Music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ion point – do the people below justify the fame, money and status they enjo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some deser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 oth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Music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point – do the people below justify the fame, money and status they enjo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some deserv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than othe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Music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Should there be a maximu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ge, for instance, for everyon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stars includ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Do all such stars have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uine talent that no-one 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Music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Should there be a maximu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ge, for instance, for everyon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g stars includ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 Do all such stars have th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nuine talent that no-one el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Stars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 stars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be left alone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joy their n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have they, 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oming famou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up the right to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vacy that you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take for gran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if they know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in the publ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ye, should they be aware of how their behaviour might influence fa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Stars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uld stars li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be left alone 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joy their nigh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 have they, b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coming famous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ven up the right to th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vacy that you an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 take for grant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if they know th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in the publ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ye, should they be aware of how their behaviour might influence fan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Stars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movie ratings? Can you name the 5 different ratings films must be given before they can be shown to the general public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movie is given one of these categories, what does it mean is contained within the fil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Stars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bout movie ratings? Can you name the 5 different ratings films must be given before they can be shown to the general public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a movie is given one of these categories, what does it mean is contained within the fil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 Stars and Mov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 people be allowed, in a democracy, to watch any movie they feel like, regardless of age? What restrictions would you make, if any, were someone to give you the authorit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p Stars and Mov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uld people be allowed, in a democracy, to watch any movie they feel like, regardless of age? What restrictions would you make, if any, were someone to give you the authority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D61D-B41F-4605-AED3-37230C239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AD18-545E-46E6-8D26-FFC6BBF2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74A8-9563-4C49-9CF1-EAEB3C702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2090-E9F2-41A7-8E02-27D9DBAD7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1BD8-C124-441E-9D7F-A40D54AA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937A-D149-41A2-8153-80B26585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294B-F0E5-4DED-97B5-F88EFAE6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4087-700A-4490-938A-0DC058D2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87C8-400C-4464-85B2-15BE9933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602B-8038-45F8-9589-B5CACDFF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BB8C-AED9-46D7-98C0-0E41C861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1614-27F9-4619-8A46-D47A58C7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F64A-AC09-478A-B5D6-362BCC9E24E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-316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Music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5" descr="pmrlogo"/>
          <p:cNvPicPr/>
          <p:nvPr/>
        </p:nvPicPr>
        <p:blipFill>
          <a:blip r:embed="rId1"/>
          <a:stretch/>
        </p:blipFill>
        <p:spPr>
          <a:xfrm>
            <a:off x="1403280" y="1413000"/>
            <a:ext cx="662472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Music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Discussion point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– do the people below justify the fame, money and status they enjo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o some deser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ore than other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5" descr="michael_jackson"/>
          <p:cNvPicPr/>
          <p:nvPr/>
        </p:nvPicPr>
        <p:blipFill>
          <a:blip r:embed="rId1"/>
          <a:stretch/>
        </p:blipFill>
        <p:spPr>
          <a:xfrm>
            <a:off x="6659640" y="5013360"/>
            <a:ext cx="2225520" cy="1663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Beyonce%20Knowles_19"/>
          <p:cNvPicPr/>
          <p:nvPr/>
        </p:nvPicPr>
        <p:blipFill>
          <a:blip r:embed="rId2"/>
          <a:stretch/>
        </p:blipFill>
        <p:spPr>
          <a:xfrm>
            <a:off x="2987640" y="4221000"/>
            <a:ext cx="3311640" cy="2482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christina_aguilera_300x400"/>
          <p:cNvPicPr/>
          <p:nvPr/>
        </p:nvPicPr>
        <p:blipFill>
          <a:blip r:embed="rId3"/>
          <a:stretch/>
        </p:blipFill>
        <p:spPr>
          <a:xfrm>
            <a:off x="7020000" y="2924280"/>
            <a:ext cx="1428840" cy="1904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nirvana"/>
          <p:cNvPicPr/>
          <p:nvPr/>
        </p:nvPicPr>
        <p:blipFill>
          <a:blip r:embed="rId4"/>
          <a:stretch/>
        </p:blipFill>
        <p:spPr>
          <a:xfrm>
            <a:off x="539640" y="3860640"/>
            <a:ext cx="2173320" cy="2821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e_arcticmonkeys_wideweb__470x352,2"/>
          <p:cNvPicPr/>
          <p:nvPr/>
        </p:nvPicPr>
        <p:blipFill>
          <a:blip r:embed="rId5"/>
          <a:stretch/>
        </p:blipFill>
        <p:spPr>
          <a:xfrm>
            <a:off x="3492360" y="2205000"/>
            <a:ext cx="244800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Music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uld there be a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maximum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age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, for instance, for everyon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ig stars includ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* Do all such stars have th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enuine talent that no-one e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ha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PiratesCaribbean2_322x200"/>
          <p:cNvPicPr/>
          <p:nvPr/>
        </p:nvPicPr>
        <p:blipFill>
          <a:blip r:embed="rId1"/>
          <a:stretch/>
        </p:blipFill>
        <p:spPr>
          <a:xfrm>
            <a:off x="4716360" y="4508640"/>
            <a:ext cx="3598920" cy="2235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aol-free-movies"/>
          <p:cNvPicPr/>
          <p:nvPr/>
        </p:nvPicPr>
        <p:blipFill>
          <a:blip r:embed="rId2"/>
          <a:stretch/>
        </p:blipFill>
        <p:spPr>
          <a:xfrm>
            <a:off x="324000" y="1557360"/>
            <a:ext cx="343836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Stars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-252360" y="16999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uld stars l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se be left alone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njoy their nigh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Or have they, b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becoming famou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given up the right to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rivacy that you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 take for grant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nd if they know th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hey are in the pub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ye, should they be aware of how their behaviour might influence fa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5" descr="_lll3"/>
          <p:cNvPicPr/>
          <p:nvPr/>
        </p:nvPicPr>
        <p:blipFill>
          <a:blip r:embed="rId1"/>
          <a:stretch/>
        </p:blipFill>
        <p:spPr>
          <a:xfrm>
            <a:off x="3708360" y="1484280"/>
            <a:ext cx="523872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Stars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hat about movie ratings? Can you name the 5 different ratings films must be given before they can be shown to the general public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If a movie is given one of these categories, what does it mean is contained within the fil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5" descr="happyfeet3"/>
          <p:cNvPicPr/>
          <p:nvPr/>
        </p:nvPicPr>
        <p:blipFill>
          <a:blip r:embed="rId1"/>
          <a:stretch/>
        </p:blipFill>
        <p:spPr>
          <a:xfrm>
            <a:off x="5435640" y="2997360"/>
            <a:ext cx="3543120" cy="1828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PGcert"/>
          <p:cNvPicPr/>
          <p:nvPr/>
        </p:nvPicPr>
        <p:blipFill>
          <a:blip r:embed="rId2"/>
          <a:stretch/>
        </p:blipFill>
        <p:spPr>
          <a:xfrm>
            <a:off x="3203640" y="3213000"/>
            <a:ext cx="2066760" cy="1495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cert_15large"/>
          <p:cNvPicPr/>
          <p:nvPr/>
        </p:nvPicPr>
        <p:blipFill>
          <a:blip r:embed="rId3"/>
          <a:stretch/>
        </p:blipFill>
        <p:spPr>
          <a:xfrm>
            <a:off x="6300720" y="5516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JasonComic1"/>
          <p:cNvPicPr/>
          <p:nvPr/>
        </p:nvPicPr>
        <p:blipFill>
          <a:blip r:embed="rId4"/>
          <a:stretch/>
        </p:blipFill>
        <p:spPr>
          <a:xfrm>
            <a:off x="1619280" y="2924280"/>
            <a:ext cx="1430280" cy="20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b7e7ff"/>
                </a:solidFill>
                <a:latin typeface="Arial"/>
              </a:rPr>
              <a:t>Pop Stars and Movies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hould people be allowed, in a democracy, to watch any movie they feel like, regardless of age? What restrictions would you make, if any, were someone to give you the authorit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5" descr="H_cert"/>
          <p:cNvPicPr/>
          <p:nvPr/>
        </p:nvPicPr>
        <p:blipFill>
          <a:blip r:embed="rId1"/>
          <a:stretch/>
        </p:blipFill>
        <p:spPr>
          <a:xfrm>
            <a:off x="2195640" y="2708280"/>
            <a:ext cx="51242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7:18:45Z</dcterms:created>
  <dc:creator>mikecowley</dc:creator>
  <dc:description/>
  <dc:language>en-US</dc:language>
  <cp:lastModifiedBy>RomaK</cp:lastModifiedBy>
  <dcterms:modified xsi:type="dcterms:W3CDTF">2015-09-02T09:55:09Z</dcterms:modified>
  <cp:revision>4</cp:revision>
  <dc:subject/>
  <dc:title>Pop Music and Movies</dc:title>
</cp:coreProperties>
</file>