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79C2-6729-435D-97C7-CEF6F5BEED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Music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Music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Music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ion point – do the people below justify the fame, money and status they enjo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some deser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oth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Music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point – do the people below justify the fame, money and status they enjo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some deserv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than othe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Music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Should there be a maxim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ge, for instance, for everyon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stars includ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Do all such stars have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uine talent that no-one 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Music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Should there be a maximu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ge, for instance, for everyon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 stars includ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Do all such stars have t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uine talent that no-one el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Stars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stars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be left alone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joy their n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have they,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oming famou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up the right to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vacy that you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take for gran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f they know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in the pub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, should they be aware of how their behaviour might influence fa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Stars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uld stars li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be left alone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joy their nigh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have they, b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coming famou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ven up the right to th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vacy that you an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take for grant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if they know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in the publ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ye, should they be aware of how their behaviour might influence fa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Stars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movie ratings? Can you name the 5 different ratings films must be given before they can be shown to the general public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movie is given one of these categories, what does it mean is contained within the fil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Stars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bout movie ratings? Can you name the 5 different ratings films must be given before they can be shown to the general public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a movie is given one of these categories, what does it mean is contained within the fil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Stars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people be allowed, in a democracy, to watch any movie they feel like, regardless of age? What restrictions would you make, if any, were someone to give you the authorit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Stars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uld people be allowed, in a democracy, to watch any movie they feel like, regardless of age? What restrictions would you make, if any, were someone to give you the authorit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4DA3-1FC2-4452-AEF0-5C890417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A817-0DEB-44CA-8400-DCB8D90E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D215-30B3-4F4E-B555-50B02D418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B3F2-FB87-476C-99D6-BC46BA6F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260E-DC68-4283-A701-F84F0DA4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8214-51DB-4BE7-992D-769F3903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44E0-1E59-4DB2-9F42-9C97AF97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F734-175C-4C29-87FF-C51C3307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0B8A-AFEA-4DC5-82DE-E80F1694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D8AC-9A9B-4490-83AB-CAF6B017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7156-1CEE-46B9-9DE1-AF9595C8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49DD-3435-4242-A75D-0FC7E460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6FBD-6CE1-4DAF-951A-6215FAAAE34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-316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Music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pmrlogo"/>
          <p:cNvPicPr/>
          <p:nvPr/>
        </p:nvPicPr>
        <p:blipFill>
          <a:blip r:embed="rId1"/>
          <a:stretch/>
        </p:blipFill>
        <p:spPr>
          <a:xfrm>
            <a:off x="1403280" y="1413000"/>
            <a:ext cx="66247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Music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Discussion poin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– do the people below justify the fame, money and status they enj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 some deser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ore than oth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5" descr="michael_jackson"/>
          <p:cNvPicPr/>
          <p:nvPr/>
        </p:nvPicPr>
        <p:blipFill>
          <a:blip r:embed="rId1"/>
          <a:stretch/>
        </p:blipFill>
        <p:spPr>
          <a:xfrm>
            <a:off x="6659640" y="5013360"/>
            <a:ext cx="2225520" cy="166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Beyonce%20Knowles_19"/>
          <p:cNvPicPr/>
          <p:nvPr/>
        </p:nvPicPr>
        <p:blipFill>
          <a:blip r:embed="rId2"/>
          <a:stretch/>
        </p:blipFill>
        <p:spPr>
          <a:xfrm>
            <a:off x="2987640" y="4221000"/>
            <a:ext cx="3311640" cy="2482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christina_aguilera_300x400"/>
          <p:cNvPicPr/>
          <p:nvPr/>
        </p:nvPicPr>
        <p:blipFill>
          <a:blip r:embed="rId3"/>
          <a:stretch/>
        </p:blipFill>
        <p:spPr>
          <a:xfrm>
            <a:off x="7020000" y="292428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nirvana"/>
          <p:cNvPicPr/>
          <p:nvPr/>
        </p:nvPicPr>
        <p:blipFill>
          <a:blip r:embed="rId4"/>
          <a:stretch/>
        </p:blipFill>
        <p:spPr>
          <a:xfrm>
            <a:off x="539640" y="3860640"/>
            <a:ext cx="2173320" cy="2821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e_arcticmonkeys_wideweb__470x352,2"/>
          <p:cNvPicPr/>
          <p:nvPr/>
        </p:nvPicPr>
        <p:blipFill>
          <a:blip r:embed="rId5"/>
          <a:stretch/>
        </p:blipFill>
        <p:spPr>
          <a:xfrm>
            <a:off x="3492360" y="2205000"/>
            <a:ext cx="244800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Music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uld there be a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maximum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ag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for instance, for everyon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g stars includ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* Do all such stars have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enuine talent that no-one 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PiratesCaribbean2_322x200"/>
          <p:cNvPicPr/>
          <p:nvPr/>
        </p:nvPicPr>
        <p:blipFill>
          <a:blip r:embed="rId1"/>
          <a:stretch/>
        </p:blipFill>
        <p:spPr>
          <a:xfrm>
            <a:off x="4716360" y="4508640"/>
            <a:ext cx="3598920" cy="2235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aol-free-movies"/>
          <p:cNvPicPr/>
          <p:nvPr/>
        </p:nvPicPr>
        <p:blipFill>
          <a:blip r:embed="rId2"/>
          <a:stretch/>
        </p:blipFill>
        <p:spPr>
          <a:xfrm>
            <a:off x="324000" y="1557360"/>
            <a:ext cx="34383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Stars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25236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uld stars 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se be left alone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joy their nigh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 have they, b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coming famou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iven up the right to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ivacy that you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 take for gran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f they know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y are in the 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ye, should they be aware of how their behaviour might influence fa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5" descr="_lll3"/>
          <p:cNvPicPr/>
          <p:nvPr/>
        </p:nvPicPr>
        <p:blipFill>
          <a:blip r:embed="rId1"/>
          <a:stretch/>
        </p:blipFill>
        <p:spPr>
          <a:xfrm>
            <a:off x="3708360" y="1484280"/>
            <a:ext cx="5238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Stars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at about movie ratings? Can you name the 5 different ratings films must be given before they can be shown to the general public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movie is given one of these categories, what does it mean is contained within the fil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5" descr="happyfeet3"/>
          <p:cNvPicPr/>
          <p:nvPr/>
        </p:nvPicPr>
        <p:blipFill>
          <a:blip r:embed="rId1"/>
          <a:stretch/>
        </p:blipFill>
        <p:spPr>
          <a:xfrm>
            <a:off x="5435640" y="2997360"/>
            <a:ext cx="354312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PGcert"/>
          <p:cNvPicPr/>
          <p:nvPr/>
        </p:nvPicPr>
        <p:blipFill>
          <a:blip r:embed="rId2"/>
          <a:stretch/>
        </p:blipFill>
        <p:spPr>
          <a:xfrm>
            <a:off x="3203640" y="3213000"/>
            <a:ext cx="2066760" cy="1495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cert_15large"/>
          <p:cNvPicPr/>
          <p:nvPr/>
        </p:nvPicPr>
        <p:blipFill>
          <a:blip r:embed="rId3"/>
          <a:stretch/>
        </p:blipFill>
        <p:spPr>
          <a:xfrm>
            <a:off x="6300720" y="5516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JasonComic1"/>
          <p:cNvPicPr/>
          <p:nvPr/>
        </p:nvPicPr>
        <p:blipFill>
          <a:blip r:embed="rId4"/>
          <a:stretch/>
        </p:blipFill>
        <p:spPr>
          <a:xfrm>
            <a:off x="1619280" y="2924280"/>
            <a:ext cx="143028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Stars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uld people be allowed, in a democracy, to watch any movie they feel like, regardless of age? What restrictions would you make, if any, were someone to give you the authorit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5" descr="H_cert"/>
          <p:cNvPicPr/>
          <p:nvPr/>
        </p:nvPicPr>
        <p:blipFill>
          <a:blip r:embed="rId1"/>
          <a:stretch/>
        </p:blipFill>
        <p:spPr>
          <a:xfrm>
            <a:off x="2195640" y="2708280"/>
            <a:ext cx="51242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7:18:45Z</dcterms:created>
  <dc:creator>mikecowley</dc:creator>
  <dc:description/>
  <dc:language>en-US</dc:language>
  <cp:lastModifiedBy>RomaK</cp:lastModifiedBy>
  <dcterms:modified xsi:type="dcterms:W3CDTF">2015-09-02T09:55:09Z</dcterms:modified>
  <cp:revision>4</cp:revision>
  <dc:subject/>
  <dc:title>Pop Music and Movies</dc:title>
</cp:coreProperties>
</file>