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9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move the slide</a:t>
            </a:r>
            <a:endParaRPr b="0" lang="en-US" sz="4400" spc="-1" strike="noStrike">
              <a:solidFill>
                <a:srgbClr val="b2b2b2"/>
              </a:solidFill>
              <a:latin typeface="Arial"/>
            </a:endParaRPr>
          </a:p>
        </p:txBody>
      </p:sp>
      <p:sp>
        <p:nvSpPr>
          <p:cNvPr id="10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DD9FD8-0071-4AE9-9458-7E0F63E172E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acism and Languag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e often hear people complain about how ‘political correctness’ has ‘gotten out of hand.’ It is said by some that it is impossible to know what words are offensive and inoffensive to others. The implication is that society has become far too sensitive about identity.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irstly, can you give a good working definition of the term ‘political correctness?’ What does it mean to you? Where and how did you come into contact with this particular definition?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are the intentions behind this idea? What was it trying to d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cism and Langu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often hear people complain about how ‘political correctness’ has ‘gotten out of hand.’ It is said by some that it is impossible to know what words are offensive and inoffensive to others. The implication is that society has become far too sensitive about ident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ly, can you give a good working definition of the term ‘political correctness?’ What does it mean to you? Where and how did you come into contact with this particular defini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are the intentions behind this idea? What was it trying to 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acism and Languag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 language and our use of words clearly have an impact. They can be used to unite and find common identities and values, or they can be used to drive a wedge between people from diverse social groups. They can confirm or they can diminish an individual’s humanity and individuality.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But the controversy remains: we should of course be able to talk to each other about any issue at all. This is how people come to understand one another. By talking we can identify common values. ‘Political correctness’ or whatever you wish to call it, should not be about a simple censorship of words. There are words and phrases which are designed to offend and intimidate. But that should not stop us from discussing the subjects they often refer to: gender, sexuality, race, ethnicity, clas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what ways should people approach such subjects? Can you think of descriptive words that define how we might begin to open up and talk honestly about these subjects that concern us al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cism and Langu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language and our use of words clearly have an impact. They can be used to unite and find common identities and values, or they can be used to drive a wedge between people from diverse social groups. They can confirm or they can diminish an individual’s humanity and individual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ut the controversy remains: we should of course be able to talk to each other about any issue at all. This is how people come to understand one another. By talking we can identify common values. ‘Political correctness’ or whatever you wish to call it, should not be about a simple censorship of words. There are words and phrases which are designed to offend and intimidate. But that should not stop us from discussing the subjects they often refer to: gender, sexuality, race, ethnicity, cl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what ways should people approach such subjects? Can you think of descriptive words that define how we might begin to open up and talk honestly about these subjects that concern us 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acism and Languag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 Now list as many words or terms that you know are perceived as insulting, or belittling to different social groups (see Wikipedia for a full rundown of ‘ethnic slurs’). Do you know the provenance of any of these terms? Where did they originate and in what context are they us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 Political correctness – in its modern usag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he term ‘political correctness’ is said t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have emerged in the 1960s. It was initiall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aken seriously as an idea by the Radical Lef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but its meaning mutated to the extent that i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became a means of self-criticism and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self-satir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cism and Langu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Now list as many words or terms that you know are perceived as insulting, or belittling to different social groups (see Wikipedia for a full rundown of ‘ethnic slurs’). Do you know the provenance of any of these terms? Where did they originate and in what context are they u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Political correctness – in its modern usag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term ‘political correctness’ is said 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ave emerged in the 1960s. It was initial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aken seriously as an idea by the Radical Lef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ut its meaning mutated to the extent that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ecame a means of self-criticism a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elf-sati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acism and Languag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r instance, T.Bambara’s ‘The Black Woman’ argued that ‘a man cannot be politically correct and a male chauvinist too.’ At this stage the term is taken seriously. Personal behaviour was under scrutiny, and was expected to reflect the individual's professed politics. Fair enough you might say. Pulling out ‘Penthouse’ and expecting your partner to get the household chores completed, whilst simultaneously defining yourself as a Feminist was not particularly consisten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wever as the term took on a different meanin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it became a means of self-satire, a guar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against orthodoxy in progressive social movemen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for instance in Feminism’s criticisms of the anti-</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pornography movement. (E. Willi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cism and Langu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instance, T.Bambara’s ‘The Black Woman’ argued that ‘a man cannot be politically correct and a male chauvinist too.’ At this stage the term is taken seriously. Personal behaviour was under scrutiny, and was expected to reflect the individual's professed politics. Fair enough you might say. Pulling out ‘Penthouse’ and expecting your partner to get the household chores completed, whilst simultaneously defining yourself as a Feminist was not particularly consist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as the term took on a different mea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t became a means of self-satire, a gu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gainst orthodoxy in progressive social move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or instance in Feminism’s criticisms of the ant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ornography movement. (E. Will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acism and Languag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wever, before elements of Political Correctness began to reflect on the power of language, it was routine to hear racist, sexist, homophobic and xenophobic language on a daily basis, from buses and street corners to comedians, journalists and politician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Question – write done a list of emotions that might be experienced were you to be the subject of an insult that homes in on your race, sexuality, gender, disability. Why do these words have such an impac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n the question of Prince Harry’s (and subsequently Prince Charles – heirs to the throne both), do you believe the response  to their comments was disproportionate? Can such terms be seen as affectionate ‘nicknam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cism and Langu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before elements of Political Correctness began to reflect on the power of language, it was routine to hear racist, sexist, homophobic and xenophobic language on a daily basis, from buses and street corners to comedians, journalists and politicia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stion – write done a list of emotions that might be experienced were you to be the subject of an insult that homes in on your race, sexuality, gender, disability. Why do these words have such an impac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the question of Prince Harry’s (and subsequently Prince Charles – heirs to the throne both), do you believe the response  to their comments was disproportionate? Can such terms be seen as affectionate ‘nickna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acism and Languag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journalist Riazitt Butt reflects 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his experiences growing up in the UK i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he 1970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Growing up in the late 70s and 80s it was something that I often heard in the playground. It was something my dad heard at the factory he worked in. And there was never any reply. What do you say to someone who, in two syllables, has judged you to be second-class, dirty and disgusting?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Paki is the reason someone threw an egg at my brothers and sisters and me as we walked to school. I can't forget the shock, thinking someone had chucked a glass bottle at us. An egg, thrown from a moving car, really hurts. And what can you do when you're halfway between home and school with yolk running down the side of your face? You wipe it off with your sleeve and keep walking. It's a word that takes me back to my childhood, a time of fear and prejudice, when people could get away with racial abuse because it wasn't seen as racial abuse but as an acceptable term for a minority that looked funny and smelled funny.’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In other words, terms such as ‘Paki’ are not inoffensive terms of affection. They are often the prelude to vicious racist attack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cism and Langu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journalist Riazitt Butt reflect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is experiences growing up in the UK 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1970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Growing up in the late 70s and 80s it was something that I often heard in the playground. It was something my dad heard at the factory he worked in. And there was never any reply. What do you say to someone who, in two syllables, has judged you to be second-class, dirty and disgust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aki is the reason someone threw an egg at my brothers and sisters and me as we walked to school. I can't forget the shock, thinking someone had chucked a glass bottle at us. An egg, thrown from a moving car, really hurts. And what can you do when you're halfway between home and school with yolk running down the side of your face? You wipe it off with your sleeve and keep walking. It's a word that takes me back to my childhood, a time of fear and prejudice, when people could get away with racial abuse because it wasn't seen as racial abuse but as an acceptable term for a minority that looked funny and smelled funn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other words, terms such as ‘Paki’ are not inoffensive terms of affection. They are often the prelude to vicious racist attack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acism and Languag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kind of society accustoms itself to perceiving women as ‘sluts,’ ‘dogs,’ ‘bitches,’ and regards such words as ‘only a bit of fu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uch terms originate as unambiguously pejorative. They are intended, without irony or humour, to undermine and dehumanise the individual. Suddenly, with the trigger of a single phrase, the individual is reduced to a ‘thing;’ a sum total of stereotypes and caricatures. S/he no longer has to be confronted as a human being, but as ‘culturally backward,’ ‘criminal,’ or ‘less than human’, and thereby less deriving of the rights others take for granted.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process of dehumanisation has been used to justify slavery and the Jewish Holocaust. Words work. They lay the groundwork and offer licence to real, political bigot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ords are simply the thin end of the wedge; headlines lik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he one opposite serve simply to soften up public opin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so that the groups targeted feel powerless and alone, whi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he rest of us feel under no obligation to offer support o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sympathy.  Why should we? They are taking our jobs an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bringing crime to our stree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cism and Langu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kind of society accustoms itself to perceiving women as ‘sluts,’ ‘dogs,’ ‘bitches,’ and regards such words as ‘only a bit of fu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ch terms originate as unambiguously pejorative. They are intended, without irony or humour, to undermine and dehumanise the individual. Suddenly, with the trigger of a single phrase, the individual is reduced to a ‘thing;’ a sum total of stereotypes and caricatures. S/he no longer has to be confronted as a human being, but as ‘culturally backward,’ ‘criminal,’ or ‘less than human’, and thereby less deriving of the rights others take for gran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cess of dehumanisation has been used to justify slavery and the Jewish Holocaust. Words work. They lay the groundwork and offer licence to real, political bigo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ds are simply the thin end of the wedge; headlines lik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one opposite serve simply to soften up public opin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o that the groups targeted feel powerless and alone, whi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rest of us feel under no obligation to offer support 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ympathy.  Why should we? They are taking our jobs 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ringing crime to our stree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acism and Languag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n language be reclaimed? Many black males call one another ‘nigger,’ a powerful word infused with racist meaning.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ip hop music in particular is littered with its usage. But many black people are uncomfortable about this attempt to diffuse a term previously burdened with racist baggage. Use of the word is now banned from stages around New York.</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ay men and women have also attempted to reconfigure the meanings of ‘queer’ and ‘dyk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ut for Riazat Butt: ‘There is always talk when incidents like these occur of the power that can be derived from reclaiming a word. But I never associated ‘Paki’ with anything positive. Nobody could or should try to reclaim i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cism and Langu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language be reclaimed? Many black males call one another ‘nigger,’ a powerful word infused with racist mean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p hop music in particular is littered with its usage. But many black people are uncomfortable about this attempt to diffuse a term previously burdened with racist baggage. Use of the word is now banned from stages around New Y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y men and women have also attempted to reconfigure the meanings of ‘queer’ and ‘dyk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for Riazat Butt: ‘There is always talk when incidents like these occur of the power that can be derived from reclaiming a word. But I never associated ‘Paki’ with anything positive. Nobody could or should try to reclaim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acism and Languag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fact it is often the political Right who seek to police our thoughts and language, and from far more sinister motives than the empowering of marginalised social group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The ugliest forms of political correctness occur when there is a war on. Then you’d better watch what you say.’ (D.William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the aftermath of 9/11,  any US citizen seeking to question the strategy of their government left them vulnerable to attacks from powerful voices.  Dissenting ideas were labelled as ‘treasonous’ by shock-jocks such as Bill O’Reilly. A mood of fear and loathing overtook both the printed and visual media. They became besotted with their own version of</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political correctness’: Thou Shalt Not Question Anythin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cism and Langu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fact it is often the political Right who seek to police our thoughts and language, and from far more sinister motives than the empowering of marginalised social group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he ugliest forms of political correctness occur when there is a war on. Then you’d better watch what you say.’ (D.Willia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aftermath of 9/11,  any US citizen seeking to question the strategy of their government left them vulnerable to attacks from powerful voices.  Dissenting ideas were labelled as ‘treasonous’ by shock-jocks such as Bill O’Reilly. A mood of fear and loathing overtook both the printed and visual media. They became besotted with their own version o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olitical correctness’: Thou Shalt Not Question Anyth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acism and Languag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ritics of political correctness have been accused of showing the same sensitivity to words as those they claim to be opposing, and of perceiving a political agenda where none exists. For example,  during the 1980s, a number of news outlets claimed that a school altered the nursery rhyme "Baa Baa Black Sheep" to read "Baa Baa Rainbow Sheep." In fact, the nursery, run by Parents and Children Together (Pact), simply had the kids "turn the song into an action rhyme. ... They sing happy, sad, bouncing, hopping, pink, blue, black and white sheep etc." The spurious claim about the nursery rhyme was widely circulated and later amplified into a suggestion that similar bans applied to the terms "black coffee" and "blackboard." According to Private Eye magazine, similar stories, all without factual basis, have run in the British press since first appearing in The Sun in 1986.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cism and Langu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itics of political correctness have been accused of showing the same sensitivity to words as those they claim to be opposing, and of perceiving a political agenda where none exists. For example,  during the 1980s, a number of news outlets claimed that a school altered the nursery rhyme "Baa Baa Black Sheep" to read "Baa Baa Rainbow Sheep." In fact, the nursery, run by Parents and Children Together (Pact), simply had the kids "turn the song into an action rhyme. ... They sing happy, sad, bouncing, hopping, pink, blue, black and white sheep etc." The spurious claim about the nursery rhyme was widely circulated and later amplified into a suggestion that similar bans applied to the terms "black coffee" and "blackboard." According to Private Eye magazine, similar stories, all without factual basis, have run in the British press since first appearing in The Sun in 1986.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195BF5-E0CF-401A-9D8F-3A6BD2D538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291C14-F606-4F36-A75A-E535F5986A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10F2E2-3880-4119-A862-C4ED6D088F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1D742B-76CA-486C-BCEE-AEE83AD8BE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DDF84E4-B3F9-40E1-9F1E-3C82710A82B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178D16-8237-4103-BFC8-7F2E7F3CB4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ACEAE0-4E97-4323-BB43-7D05780291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638B20-B190-46EC-83A2-D9AD22EF38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140A1D-FB3C-40A6-A69E-0A30A53609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0F3356-C28B-49B3-B94A-44852BE7F8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6D2538-0383-46E6-978B-B52521B59C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AFB417-BBBD-487F-AD2A-10E3484E9A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BA0A5C-7C1F-452D-9DA8-6CB7FCB150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1E9C59-D25E-4B4C-8F82-7182E17E95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34610D-9739-43DE-A5A5-297B607E47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2F8BBB2-C31B-4C93-BD23-C5D0879968A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D234DF8-5A3C-4DFD-8428-8E076B6F82B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A3D892-C7CD-4883-895D-E31F5B616A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4EA89D-0446-49A5-ABE9-CC2865D15A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CF9C7B-1EEE-4302-8DD5-94FC6489C4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C6FA9C-E810-4ECF-B1BF-8D0BE247D7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C596D2-6BD5-4347-9845-9D14753BA2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6DB57A-A7DF-4013-85CD-1840D6C565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6678C5-592D-47D2-9FB6-35E2722D31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0" y="3902040"/>
            <a:ext cx="3400560" cy="2949480"/>
            <a:chOff x="0" y="3902040"/>
            <a:chExt cx="3400560" cy="2949480"/>
          </a:xfrm>
        </p:grpSpPr>
        <p:sp>
          <p:nvSpPr>
            <p:cNvPr id="1" name="Freeform 3"/>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Freeform 5"/>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Freeform 6"/>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Oval 7"/>
            <p:cNvSpPr/>
            <p:nvPr/>
          </p:nvSpPr>
          <p:spPr>
            <a:xfrm>
              <a:off x="331920" y="4419720"/>
              <a:ext cx="136440" cy="13644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Oval 8"/>
            <p:cNvSpPr/>
            <p:nvPr/>
          </p:nvSpPr>
          <p:spPr>
            <a:xfrm>
              <a:off x="2438280" y="6165720"/>
              <a:ext cx="146160" cy="146160"/>
            </a:xfrm>
            <a:prstGeom prst="ellipse">
              <a:avLst/>
            </a:prstGeom>
            <a:gradFill rotWithShape="0">
              <a:gsLst>
                <a:gs pos="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Oval 9"/>
            <p:cNvSpPr/>
            <p:nvPr/>
          </p:nvSpPr>
          <p:spPr>
            <a:xfrm>
              <a:off x="1255680" y="4322880"/>
              <a:ext cx="192240" cy="19188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D932F5-21AE-4117-B3CF-9C76F5110688}" type="slidenum">
              <a:rPr b="0" lang="en-GB"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9" name="Group 2"/>
          <p:cNvGrpSpPr/>
          <p:nvPr/>
        </p:nvGrpSpPr>
        <p:grpSpPr>
          <a:xfrm>
            <a:off x="0" y="3902040"/>
            <a:ext cx="3400560" cy="2949480"/>
            <a:chOff x="0" y="3902040"/>
            <a:chExt cx="3400560" cy="2949480"/>
          </a:xfrm>
        </p:grpSpPr>
        <p:sp>
          <p:nvSpPr>
            <p:cNvPr id="50" name="Freeform 3"/>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Freeform 4"/>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Freeform 5"/>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Freeform 6"/>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Oval 7"/>
            <p:cNvSpPr/>
            <p:nvPr/>
          </p:nvSpPr>
          <p:spPr>
            <a:xfrm>
              <a:off x="331920" y="4419720"/>
              <a:ext cx="136440" cy="13644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Oval 8"/>
            <p:cNvSpPr/>
            <p:nvPr/>
          </p:nvSpPr>
          <p:spPr>
            <a:xfrm>
              <a:off x="2438280" y="6165720"/>
              <a:ext cx="146160" cy="146160"/>
            </a:xfrm>
            <a:prstGeom prst="ellipse">
              <a:avLst/>
            </a:prstGeom>
            <a:gradFill rotWithShape="0">
              <a:gsLst>
                <a:gs pos="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Oval 9"/>
            <p:cNvSpPr/>
            <p:nvPr/>
          </p:nvSpPr>
          <p:spPr>
            <a:xfrm>
              <a:off x="1255680" y="4322880"/>
              <a:ext cx="192240" cy="19188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58"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9"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2DD9D5-95AD-4DA1-B53F-DA7E9FEA062A}" type="slidenum">
              <a:rPr b="0" lang="en-GB"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upload.wikimedia.org/wikipedia/commons/d/d6/No_Political_Correctness.svg" TargetMode="Externa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en.wikipedia.org/wiki/Private_Eye_(magazine)" TargetMode="External"/><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11280" y="-100080"/>
            <a:ext cx="7772400" cy="15559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b2b2b2"/>
                </a:solidFill>
                <a:latin typeface="Arial"/>
              </a:rPr>
              <a:t>Racism and Language</a:t>
            </a:r>
            <a:endParaRPr b="0" lang="en-US" sz="4800" spc="-1" strike="noStrike">
              <a:solidFill>
                <a:srgbClr val="b2b2b2"/>
              </a:solidFill>
              <a:latin typeface="Arial"/>
            </a:endParaRPr>
          </a:p>
        </p:txBody>
      </p:sp>
      <p:sp>
        <p:nvSpPr>
          <p:cNvPr id="106" name="PlaceHolder 2"/>
          <p:cNvSpPr>
            <a:spLocks noGrp="1"/>
          </p:cNvSpPr>
          <p:nvPr>
            <p:ph type="subTitle"/>
          </p:nvPr>
        </p:nvSpPr>
        <p:spPr>
          <a:xfrm>
            <a:off x="1042920" y="1267920"/>
            <a:ext cx="6400800" cy="1752840"/>
          </a:xfrm>
          <a:prstGeom prst="rect">
            <a:avLst/>
          </a:prstGeom>
          <a:noFill/>
          <a:ln w="0">
            <a:noFill/>
          </a:ln>
        </p:spPr>
        <p:txBody>
          <a:bodyPr anchor="t">
            <a:noAutofit/>
          </a:bodyPr>
          <a:p>
            <a:pPr marL="30492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We often hear people complain about how ‘political correctness’ has ‘gotten out of hand.’ It is said by some that it is impossible to know what words are offensive and inoffensive to others. The implication is that society has become far too sensitive about identity. </a:t>
            </a:r>
            <a:endParaRPr b="0" lang="en-US" sz="1600" spc="-1" strike="noStrike">
              <a:solidFill>
                <a:srgbClr val="ffffff"/>
              </a:solidFill>
              <a:latin typeface="Arial"/>
            </a:endParaRPr>
          </a:p>
          <a:p>
            <a:pPr marL="30492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4920" indent="-304920" algn="ctr">
              <a:lnSpc>
                <a:spcPct val="80000"/>
              </a:lnSpc>
              <a:spcBef>
                <a:spcPts val="400"/>
              </a:spcBef>
              <a:buClr>
                <a:srgbClr val="ffffcc"/>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Firstly, can you give a good working definition of the term ‘political correctness?’ What does it mean to you? Where and how did you come into contact with this particular definition? </a:t>
            </a:r>
            <a:endParaRPr b="0" lang="en-US" sz="1600" spc="-1" strike="noStrike">
              <a:solidFill>
                <a:srgbClr val="ffffff"/>
              </a:solidFill>
              <a:latin typeface="Arial"/>
            </a:endParaRPr>
          </a:p>
          <a:p>
            <a:pPr marL="304920" indent="-304920" algn="ctr">
              <a:lnSpc>
                <a:spcPct val="80000"/>
              </a:lnSpc>
              <a:spcBef>
                <a:spcPts val="400"/>
              </a:spcBef>
              <a:buClr>
                <a:srgbClr val="ffffcc"/>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What are the intentions behind this idea? What was it trying to do?</a:t>
            </a:r>
            <a:endParaRPr b="0" lang="en-US" sz="1600" spc="-1" strike="noStrike">
              <a:solidFill>
                <a:srgbClr val="ffffff"/>
              </a:solidFill>
              <a:latin typeface="Arial"/>
            </a:endParaRPr>
          </a:p>
          <a:p>
            <a:pPr marL="304920" indent="0" algn="ctr">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pic>
        <p:nvPicPr>
          <p:cNvPr id="107" name="Picture 5" descr="File:No Political Correctness.svg">
            <a:hlinkClick r:id="rId1"/>
          </p:cNvPr>
          <p:cNvPicPr/>
          <p:nvPr/>
        </p:nvPicPr>
        <p:blipFill>
          <a:blip r:embed="rId2"/>
          <a:stretch/>
        </p:blipFill>
        <p:spPr>
          <a:xfrm>
            <a:off x="2916360" y="4076640"/>
            <a:ext cx="2641320" cy="2641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68360" y="-17136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b2b2b2"/>
                </a:solidFill>
                <a:latin typeface="Arial"/>
              </a:rPr>
              <a:t>Racism and Language</a:t>
            </a:r>
            <a:endParaRPr b="0" lang="en-US" sz="4400" spc="-1" strike="noStrike">
              <a:solidFill>
                <a:srgbClr val="b2b2b2"/>
              </a:solidFill>
              <a:latin typeface="Arial"/>
            </a:endParaRPr>
          </a:p>
        </p:txBody>
      </p:sp>
      <p:sp>
        <p:nvSpPr>
          <p:cNvPr id="133" name="PlaceHolder 2"/>
          <p:cNvSpPr>
            <a:spLocks noGrp="1"/>
          </p:cNvSpPr>
          <p:nvPr>
            <p:ph/>
          </p:nvPr>
        </p:nvSpPr>
        <p:spPr>
          <a:xfrm>
            <a:off x="468360" y="836280"/>
            <a:ext cx="8229600" cy="4530600"/>
          </a:xfrm>
          <a:prstGeom prst="rect">
            <a:avLst/>
          </a:prstGeom>
          <a:noFill/>
          <a:ln w="0">
            <a:noFill/>
          </a:ln>
        </p:spPr>
        <p:txBody>
          <a:bodyPr anchor="t">
            <a:normAutofit/>
          </a:bodyPr>
          <a:p>
            <a:pPr marL="343080" indent="-343080">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So, language and our use of words clearly have an impact. They can be used to unite and find common identities and values, or they can be used to drive a wedge between people from diverse social groups. They can confirm or they can diminish an individual’s humanity and individuality. </a:t>
            </a:r>
            <a:endParaRPr b="0" lang="en-US" sz="1600" spc="-1" strike="noStrike">
              <a:solidFill>
                <a:srgbClr val="ffffff"/>
              </a:solidFill>
              <a:latin typeface="Arial"/>
            </a:endParaRPr>
          </a:p>
          <a:p>
            <a:pPr marL="343080" indent="-343080">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 </a:t>
            </a:r>
            <a:r>
              <a:rPr b="1" lang="en-GB" sz="1600" spc="-1" strike="noStrike">
                <a:solidFill>
                  <a:srgbClr val="ffffff"/>
                </a:solidFill>
                <a:latin typeface="Arial"/>
              </a:rPr>
              <a:t>But the controversy remains: we should of course be able to talk to each other about any issue at all. This is how people come to understand one another. By talking we can identify common values. ‘Political correctness’ or whatever you wish to call it, should not be about a simple censorship of words. There are words and phrases which are designed to offend and intimidate. But that should not stop us from discussing the subjects they often refer to: gender, sexuality, race, ethnicity, class.</a:t>
            </a:r>
            <a:endParaRPr b="0" lang="en-US" sz="1600" spc="-1" strike="noStrike">
              <a:solidFill>
                <a:srgbClr val="ffffff"/>
              </a:solidFill>
              <a:latin typeface="Arial"/>
            </a:endParaRPr>
          </a:p>
          <a:p>
            <a:pPr marL="343080" indent="-343080">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ffffff"/>
                </a:solidFill>
                <a:latin typeface="Arial"/>
              </a:rPr>
              <a:t>In what ways should people approach such subjects? Can you think of descriptive words that define how we might begin to open up and talk honestly about these subjects that concern us all?</a:t>
            </a:r>
            <a:endParaRPr b="0" lang="en-US" sz="1600" spc="-1" strike="noStrike">
              <a:solidFill>
                <a:srgbClr val="ffffff"/>
              </a:solidFill>
              <a:latin typeface="Arial"/>
            </a:endParaRPr>
          </a:p>
        </p:txBody>
      </p:sp>
      <p:pic>
        <p:nvPicPr>
          <p:cNvPr id="134" name="Picture 5" descr="cooperation"/>
          <p:cNvPicPr/>
          <p:nvPr/>
        </p:nvPicPr>
        <p:blipFill>
          <a:blip r:embed="rId1"/>
          <a:stretch/>
        </p:blipFill>
        <p:spPr>
          <a:xfrm>
            <a:off x="2771640" y="4508640"/>
            <a:ext cx="2992680" cy="2208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b2b2b2"/>
                </a:solidFill>
                <a:latin typeface="Arial"/>
              </a:rPr>
              <a:t>Racism and Language</a:t>
            </a:r>
            <a:endParaRPr b="0" lang="en-US" sz="4400" spc="-1" strike="noStrike">
              <a:solidFill>
                <a:srgbClr val="b2b2b2"/>
              </a:solidFill>
              <a:latin typeface="Arial"/>
            </a:endParaRPr>
          </a:p>
        </p:txBody>
      </p:sp>
      <p:sp>
        <p:nvSpPr>
          <p:cNvPr id="109" name="PlaceHolder 2"/>
          <p:cNvSpPr>
            <a:spLocks noGrp="1"/>
          </p:cNvSpPr>
          <p:nvPr>
            <p:ph/>
          </p:nvPr>
        </p:nvSpPr>
        <p:spPr>
          <a:xfrm>
            <a:off x="179280" y="1844280"/>
            <a:ext cx="8229600" cy="4530600"/>
          </a:xfrm>
          <a:prstGeom prst="rect">
            <a:avLst/>
          </a:prstGeom>
          <a:noFill/>
          <a:ln w="0">
            <a:noFill/>
          </a:ln>
        </p:spPr>
        <p:txBody>
          <a:bodyPr anchor="t">
            <a:normAutofit/>
          </a:bodyPr>
          <a:p>
            <a:pPr marL="343080" indent="-343080">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3. Now list as many words or terms that you know are perceived as insulting, or belittling to different social groups (see Wikipedia for a full rundown of ‘ethnic slurs’). Do you know the provenance of any of these terms? Where did they originate and in what context are they used?</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4. </a:t>
            </a:r>
            <a:r>
              <a:rPr b="1" lang="en-GB" sz="1600" spc="-1" strike="noStrike" u="sng">
                <a:solidFill>
                  <a:srgbClr val="ffffff"/>
                </a:solidFill>
                <a:uFillTx/>
                <a:latin typeface="Arial"/>
              </a:rPr>
              <a:t>Political correctness</a:t>
            </a:r>
            <a:r>
              <a:rPr b="1" lang="en-GB" sz="1600" spc="-1" strike="noStrike">
                <a:solidFill>
                  <a:srgbClr val="ffffff"/>
                </a:solidFill>
                <a:latin typeface="Arial"/>
              </a:rPr>
              <a:t> – in its modern usage, </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          </a:t>
            </a:r>
            <a:r>
              <a:rPr b="1" lang="en-GB" sz="1600" spc="-1" strike="noStrike">
                <a:solidFill>
                  <a:srgbClr val="ffffff"/>
                </a:solidFill>
                <a:latin typeface="Arial"/>
              </a:rPr>
              <a:t>the term ‘political correctness’ is said to</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          </a:t>
            </a:r>
            <a:r>
              <a:rPr b="1" lang="en-GB" sz="1600" spc="-1" strike="noStrike">
                <a:solidFill>
                  <a:srgbClr val="ffffff"/>
                </a:solidFill>
                <a:latin typeface="Arial"/>
              </a:rPr>
              <a:t>have emerged in the 1960s. It was initially</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          </a:t>
            </a:r>
            <a:r>
              <a:rPr b="1" lang="en-GB" sz="1600" spc="-1" strike="noStrike">
                <a:solidFill>
                  <a:srgbClr val="ffffff"/>
                </a:solidFill>
                <a:latin typeface="Arial"/>
              </a:rPr>
              <a:t>taken seriously as an idea by the Radical Left</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          </a:t>
            </a:r>
            <a:r>
              <a:rPr b="1" lang="en-GB" sz="1600" spc="-1" strike="noStrike">
                <a:solidFill>
                  <a:srgbClr val="ffffff"/>
                </a:solidFill>
                <a:latin typeface="Arial"/>
              </a:rPr>
              <a:t>but its meaning mutated to the extent that it</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          </a:t>
            </a:r>
            <a:r>
              <a:rPr b="1" lang="en-GB" sz="1600" spc="-1" strike="noStrike">
                <a:solidFill>
                  <a:srgbClr val="ffffff"/>
                </a:solidFill>
                <a:latin typeface="Arial"/>
              </a:rPr>
              <a:t>became a means of self-criticism and </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          </a:t>
            </a:r>
            <a:r>
              <a:rPr b="1" lang="en-GB" sz="1600" spc="-1" strike="noStrike">
                <a:solidFill>
                  <a:srgbClr val="ffffff"/>
                </a:solidFill>
                <a:latin typeface="Arial"/>
              </a:rPr>
              <a:t>self-satire. </a:t>
            </a:r>
            <a:endParaRPr b="0" lang="en-US" sz="1600" spc="-1" strike="noStrike">
              <a:solidFill>
                <a:srgbClr val="ffffff"/>
              </a:solidFill>
              <a:latin typeface="Arial"/>
            </a:endParaRPr>
          </a:p>
        </p:txBody>
      </p:sp>
      <p:pic>
        <p:nvPicPr>
          <p:cNvPr id="110" name="Picture 7" descr="racism"/>
          <p:cNvPicPr/>
          <p:nvPr/>
        </p:nvPicPr>
        <p:blipFill>
          <a:blip r:embed="rId1"/>
          <a:stretch/>
        </p:blipFill>
        <p:spPr>
          <a:xfrm>
            <a:off x="5985000" y="2852640"/>
            <a:ext cx="2981160" cy="3854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b2b2b2"/>
                </a:solidFill>
                <a:latin typeface="Arial"/>
              </a:rPr>
              <a:t>Racism and Language</a:t>
            </a:r>
            <a:endParaRPr b="0" lang="en-US" sz="4400" spc="-1" strike="noStrike">
              <a:solidFill>
                <a:srgbClr val="b2b2b2"/>
              </a:solidFill>
              <a:latin typeface="Arial"/>
            </a:endParaRPr>
          </a:p>
        </p:txBody>
      </p:sp>
      <p:sp>
        <p:nvSpPr>
          <p:cNvPr id="112" name="PlaceHolder 2"/>
          <p:cNvSpPr>
            <a:spLocks noGrp="1"/>
          </p:cNvSpPr>
          <p:nvPr>
            <p:ph/>
          </p:nvPr>
        </p:nvSpPr>
        <p:spPr>
          <a:xfrm>
            <a:off x="108000" y="1412640"/>
            <a:ext cx="8229600" cy="4530600"/>
          </a:xfrm>
          <a:prstGeom prst="rect">
            <a:avLst/>
          </a:prstGeom>
          <a:noFill/>
          <a:ln w="0">
            <a:noFill/>
          </a:ln>
        </p:spPr>
        <p:txBody>
          <a:bodyPr anchor="t">
            <a:normAutofit fontScale="89000"/>
          </a:bodyPr>
          <a:p>
            <a:pPr marL="305280" indent="-305280">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For instance, T.Bambara’s ‘The Black Woman’ argued that ‘a man cannot be politically correct and a male chauvinist too.’ At this stage the term is taken seriously. Personal behaviour was under scrutiny, and was expected to reflect the individual's professed politics. Fair enough you might say. Pulling out ‘Penthouse’ and expecting your partner to get the household chores completed, whilst simultaneously defining yourself as a Feminist was not particularly consistent!</a:t>
            </a:r>
            <a:endParaRPr b="0" lang="en-US" sz="1600" spc="-1" strike="noStrike">
              <a:solidFill>
                <a:srgbClr val="ffffff"/>
              </a:solidFill>
              <a:latin typeface="Arial"/>
            </a:endParaRPr>
          </a:p>
          <a:p>
            <a:pPr marL="3052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52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52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5280" indent="-305280">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However as the term took on a different meaning</a:t>
            </a:r>
            <a:endParaRPr b="0" lang="en-US" sz="1600" spc="-1" strike="noStrike">
              <a:solidFill>
                <a:srgbClr val="ffffff"/>
              </a:solidFill>
              <a:latin typeface="Arial"/>
            </a:endParaRPr>
          </a:p>
          <a:p>
            <a:pPr marL="3052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      </a:t>
            </a:r>
            <a:r>
              <a:rPr b="1" lang="en-GB" sz="1600" spc="-1" strike="noStrike">
                <a:solidFill>
                  <a:srgbClr val="ffffff"/>
                </a:solidFill>
                <a:latin typeface="Arial"/>
              </a:rPr>
              <a:t>it became a means of self-satire, a guard</a:t>
            </a:r>
            <a:endParaRPr b="0" lang="en-US" sz="1600" spc="-1" strike="noStrike">
              <a:solidFill>
                <a:srgbClr val="ffffff"/>
              </a:solidFill>
              <a:latin typeface="Arial"/>
            </a:endParaRPr>
          </a:p>
          <a:p>
            <a:pPr marL="3052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      </a:t>
            </a:r>
            <a:r>
              <a:rPr b="1" lang="en-GB" sz="1600" spc="-1" strike="noStrike">
                <a:solidFill>
                  <a:srgbClr val="ffffff"/>
                </a:solidFill>
                <a:latin typeface="Arial"/>
              </a:rPr>
              <a:t>against orthodoxy in progressive social movements,</a:t>
            </a:r>
            <a:endParaRPr b="0" lang="en-US" sz="1600" spc="-1" strike="noStrike">
              <a:solidFill>
                <a:srgbClr val="ffffff"/>
              </a:solidFill>
              <a:latin typeface="Arial"/>
            </a:endParaRPr>
          </a:p>
          <a:p>
            <a:pPr marL="3052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      </a:t>
            </a:r>
            <a:r>
              <a:rPr b="1" lang="en-GB" sz="1600" spc="-1" strike="noStrike">
                <a:solidFill>
                  <a:srgbClr val="ffffff"/>
                </a:solidFill>
                <a:latin typeface="Arial"/>
              </a:rPr>
              <a:t>for instance in Feminism’s criticisms of the anti-</a:t>
            </a:r>
            <a:endParaRPr b="0" lang="en-US" sz="1600" spc="-1" strike="noStrike">
              <a:solidFill>
                <a:srgbClr val="ffffff"/>
              </a:solidFill>
              <a:latin typeface="Arial"/>
            </a:endParaRPr>
          </a:p>
          <a:p>
            <a:pPr marL="3052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      </a:t>
            </a:r>
            <a:r>
              <a:rPr b="1" lang="en-GB" sz="1600" spc="-1" strike="noStrike">
                <a:solidFill>
                  <a:srgbClr val="ffffff"/>
                </a:solidFill>
                <a:latin typeface="Arial"/>
              </a:rPr>
              <a:t>-pornography movement. (E. Willis)</a:t>
            </a:r>
            <a:endParaRPr b="0" lang="en-US" sz="1600" spc="-1" strike="noStrike">
              <a:solidFill>
                <a:srgbClr val="ffffff"/>
              </a:solidFill>
              <a:latin typeface="Arial"/>
            </a:endParaRPr>
          </a:p>
          <a:p>
            <a:pPr marL="3052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      </a:t>
            </a:r>
            <a:endParaRPr b="0" lang="en-US" sz="1600" spc="-1" strike="noStrike">
              <a:solidFill>
                <a:srgbClr val="ffffff"/>
              </a:solidFill>
              <a:latin typeface="Arial"/>
            </a:endParaRPr>
          </a:p>
          <a:p>
            <a:pPr marL="3052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52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52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      </a:t>
            </a:r>
            <a:endParaRPr b="0" lang="en-US" sz="1600" spc="-1" strike="noStrike">
              <a:solidFill>
                <a:srgbClr val="ffffff"/>
              </a:solidFill>
              <a:latin typeface="Arial"/>
            </a:endParaRPr>
          </a:p>
        </p:txBody>
      </p:sp>
      <p:pic>
        <p:nvPicPr>
          <p:cNvPr id="113" name="Picture 5" descr="AfricanSlaveTradePoster"/>
          <p:cNvPicPr/>
          <p:nvPr/>
        </p:nvPicPr>
        <p:blipFill>
          <a:blip r:embed="rId1"/>
          <a:stretch/>
        </p:blipFill>
        <p:spPr>
          <a:xfrm>
            <a:off x="5940360" y="2997360"/>
            <a:ext cx="3044880" cy="3743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68360" y="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b2b2b2"/>
                </a:solidFill>
                <a:latin typeface="Arial"/>
              </a:rPr>
              <a:t>Racism and Language</a:t>
            </a:r>
            <a:endParaRPr b="0" lang="en-US" sz="4400" spc="-1" strike="noStrike">
              <a:solidFill>
                <a:srgbClr val="b2b2b2"/>
              </a:solidFill>
              <a:latin typeface="Arial"/>
            </a:endParaRPr>
          </a:p>
        </p:txBody>
      </p:sp>
      <p:sp>
        <p:nvSpPr>
          <p:cNvPr id="115" name="PlaceHolder 2"/>
          <p:cNvSpPr>
            <a:spLocks noGrp="1"/>
          </p:cNvSpPr>
          <p:nvPr>
            <p:ph/>
          </p:nvPr>
        </p:nvSpPr>
        <p:spPr>
          <a:xfrm>
            <a:off x="108000" y="1196640"/>
            <a:ext cx="8229600" cy="4530600"/>
          </a:xfrm>
          <a:prstGeom prst="rect">
            <a:avLst/>
          </a:prstGeom>
          <a:noFill/>
          <a:ln w="0">
            <a:noFill/>
          </a:ln>
        </p:spPr>
        <p:txBody>
          <a:bodyPr anchor="t">
            <a:normAutofit/>
          </a:bodyPr>
          <a:p>
            <a:pPr marL="343080" indent="-343080">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However, before elements of Political Correctness began to reflect on the power of language, it was routine to hear racist, sexist, homophobic and xenophobic language on a daily basis, from buses and street corners to comedians, journalists and politicians. </a:t>
            </a:r>
            <a:endParaRPr b="0" lang="en-US" sz="1600" spc="-1" strike="noStrike">
              <a:solidFill>
                <a:srgbClr val="ffffff"/>
              </a:solidFill>
              <a:latin typeface="Arial"/>
            </a:endParaRPr>
          </a:p>
          <a:p>
            <a:pPr marL="343080" indent="-343080">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u="sng">
                <a:solidFill>
                  <a:srgbClr val="ffffff"/>
                </a:solidFill>
                <a:uFillTx/>
                <a:latin typeface="Arial"/>
              </a:rPr>
              <a:t>Question</a:t>
            </a:r>
            <a:r>
              <a:rPr b="1" lang="en-GB" sz="1600" spc="-1" strike="noStrike">
                <a:solidFill>
                  <a:srgbClr val="ffffff"/>
                </a:solidFill>
                <a:latin typeface="Arial"/>
              </a:rPr>
              <a:t> – write done a list of emotions that might be experienced were you to be the subject of an insult that homes in on your race, sexuality, gender, disability. Why do these words have such an impact? </a:t>
            </a:r>
            <a:endParaRPr b="0" lang="en-US" sz="1600" spc="-1" strike="noStrike">
              <a:solidFill>
                <a:srgbClr val="ffffff"/>
              </a:solidFill>
              <a:latin typeface="Arial"/>
            </a:endParaRPr>
          </a:p>
          <a:p>
            <a:pPr marL="343080" indent="-343080">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On the question of Prince Harry’s (and subsequently Prince Charles – heirs to the throne both), do you believe the response  to their comments was disproportionate? Can such terms be seen as affectionate ‘nicknames?’</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pic>
        <p:nvPicPr>
          <p:cNvPr id="116" name="Picture 5" descr="prince-harry-paki-2"/>
          <p:cNvPicPr/>
          <p:nvPr/>
        </p:nvPicPr>
        <p:blipFill>
          <a:blip r:embed="rId1"/>
          <a:stretch/>
        </p:blipFill>
        <p:spPr>
          <a:xfrm>
            <a:off x="2124000" y="4005360"/>
            <a:ext cx="4800600" cy="26953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68360" y="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b2b2b2"/>
                </a:solidFill>
                <a:latin typeface="Arial"/>
              </a:rPr>
              <a:t>Racism and Language</a:t>
            </a:r>
            <a:endParaRPr b="0" lang="en-US" sz="4400" spc="-1" strike="noStrike">
              <a:solidFill>
                <a:srgbClr val="b2b2b2"/>
              </a:solidFill>
              <a:latin typeface="Arial"/>
            </a:endParaRPr>
          </a:p>
        </p:txBody>
      </p:sp>
      <p:sp>
        <p:nvSpPr>
          <p:cNvPr id="118" name="PlaceHolder 2"/>
          <p:cNvSpPr>
            <a:spLocks noGrp="1"/>
          </p:cNvSpPr>
          <p:nvPr>
            <p:ph/>
          </p:nvPr>
        </p:nvSpPr>
        <p:spPr>
          <a:xfrm>
            <a:off x="0" y="2060280"/>
            <a:ext cx="8229600" cy="4530600"/>
          </a:xfrm>
          <a:prstGeom prst="rect">
            <a:avLst/>
          </a:prstGeom>
          <a:noFill/>
          <a:ln w="0">
            <a:noFill/>
          </a:ln>
        </p:spPr>
        <p:txBody>
          <a:bodyPr anchor="t">
            <a:normAutofit/>
          </a:bodyPr>
          <a:p>
            <a:pPr marL="343080" indent="-343080">
              <a:lnSpc>
                <a:spcPct val="80000"/>
              </a:lnSpc>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The journalist Riazitt Butt reflects on</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       </a:t>
            </a:r>
            <a:r>
              <a:rPr b="1" lang="en-GB" sz="1600" spc="-1" strike="noStrike">
                <a:solidFill>
                  <a:srgbClr val="ffffff"/>
                </a:solidFill>
                <a:latin typeface="Arial"/>
              </a:rPr>
              <a:t>his experiences growing up in the UK in</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       </a:t>
            </a:r>
            <a:r>
              <a:rPr b="1" lang="en-GB" sz="1600" spc="-1" strike="noStrike">
                <a:solidFill>
                  <a:srgbClr val="ffffff"/>
                </a:solidFill>
                <a:latin typeface="Arial"/>
              </a:rPr>
              <a:t>the 1970s; </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      ‘</a:t>
            </a:r>
            <a:r>
              <a:rPr b="1" lang="en-GB" sz="1600" spc="-1" strike="noStrike">
                <a:solidFill>
                  <a:srgbClr val="ffffff"/>
                </a:solidFill>
                <a:latin typeface="Arial"/>
              </a:rPr>
              <a:t>Growing up in the late 70s and 80s it was something that I often heard in the playground. It was something my dad heard at the factory he worked in. And there was never any reply. What do you say to someone who, in two syllables, has judged you to be second-class, dirty and disgusting? </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      </a:t>
            </a:r>
            <a:r>
              <a:rPr b="1" lang="en-GB" sz="1600" spc="-1" strike="noStrike">
                <a:solidFill>
                  <a:srgbClr val="ffffff"/>
                </a:solidFill>
                <a:latin typeface="Arial"/>
              </a:rPr>
              <a:t>Paki is the reason someone threw an egg at my brothers and sisters and me as we walked to school. I can't forget the shock, thinking someone had chucked a glass bottle at us. An egg, thrown from a moving car, really hurts. And what can you do when you're halfway between home and school with yolk running down the side of your face? You wipe it off with your sleeve and keep walking. It's a word that takes me back to my childhood, a time of fear and prejudice, when people could get away with racial abuse because it wasn't seen as racial abuse but as an acceptable term for a minority that looked funny and smelled funny.’ </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      </a:t>
            </a:r>
            <a:r>
              <a:rPr b="1" lang="en-GB" sz="1600" spc="-1" strike="noStrike">
                <a:solidFill>
                  <a:srgbClr val="ffffff"/>
                </a:solidFill>
                <a:latin typeface="Arial"/>
              </a:rPr>
              <a:t>In other words, terms such as ‘Paki’ are not inoffensive terms of affection. They are often the prelude to vicious racist attacks. </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pic>
        <p:nvPicPr>
          <p:cNvPr id="119" name="Picture 5" descr="_1619668_graffiti300"/>
          <p:cNvPicPr/>
          <p:nvPr/>
        </p:nvPicPr>
        <p:blipFill>
          <a:blip r:embed="rId1"/>
          <a:stretch/>
        </p:blipFill>
        <p:spPr>
          <a:xfrm>
            <a:off x="5435640" y="1197000"/>
            <a:ext cx="2857320" cy="17143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68360" y="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b2b2b2"/>
                </a:solidFill>
                <a:latin typeface="Arial"/>
              </a:rPr>
              <a:t>Racism and Language</a:t>
            </a:r>
            <a:endParaRPr b="0" lang="en-US" sz="4400" spc="-1" strike="noStrike">
              <a:solidFill>
                <a:srgbClr val="b2b2b2"/>
              </a:solidFill>
              <a:latin typeface="Arial"/>
            </a:endParaRPr>
          </a:p>
        </p:txBody>
      </p:sp>
      <p:sp>
        <p:nvSpPr>
          <p:cNvPr id="121" name="PlaceHolder 2"/>
          <p:cNvSpPr>
            <a:spLocks noGrp="1"/>
          </p:cNvSpPr>
          <p:nvPr>
            <p:ph/>
          </p:nvPr>
        </p:nvSpPr>
        <p:spPr>
          <a:xfrm>
            <a:off x="250920" y="981000"/>
            <a:ext cx="8229600" cy="4530960"/>
          </a:xfrm>
          <a:prstGeom prst="rect">
            <a:avLst/>
          </a:prstGeom>
          <a:noFill/>
          <a:ln w="0">
            <a:noFill/>
          </a:ln>
        </p:spPr>
        <p:txBody>
          <a:bodyPr anchor="t">
            <a:normAutofit fontScale="86000"/>
          </a:bodyPr>
          <a:p>
            <a:pPr marL="294840" indent="-294840">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What kind of society accustoms itself to perceiving women as ‘sluts,’ ‘dogs,’ ‘bitches,’ and regards such words as ‘only a bit of fun?’</a:t>
            </a:r>
            <a:endParaRPr b="0" lang="en-US" sz="1600" spc="-1" strike="noStrike">
              <a:solidFill>
                <a:srgbClr val="ffffff"/>
              </a:solidFill>
              <a:latin typeface="Arial"/>
            </a:endParaRPr>
          </a:p>
          <a:p>
            <a:pPr marL="294840" indent="-294840">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Such terms originate as unambiguously </a:t>
            </a:r>
            <a:r>
              <a:rPr b="1" i="1" lang="en-GB" sz="1600" spc="-1" strike="noStrike">
                <a:solidFill>
                  <a:srgbClr val="ffffff"/>
                </a:solidFill>
                <a:latin typeface="Arial"/>
              </a:rPr>
              <a:t>pejorative. </a:t>
            </a:r>
            <a:r>
              <a:rPr b="1" lang="en-GB" sz="1600" spc="-1" strike="noStrike">
                <a:solidFill>
                  <a:srgbClr val="ffffff"/>
                </a:solidFill>
                <a:latin typeface="Arial"/>
              </a:rPr>
              <a:t>They are intended, without irony or humour, to undermine and dehumanise the individual. Suddenly, with the trigger of a single phrase, the individual is reduced to a ‘thing;’ a sum total of stereotypes and caricatures. S/he no longer has to be confronted as a human being, but as ‘culturally backward,’ ‘criminal,’ or ‘less than human’, and thereby less deriving of the rights others take for granted. </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94840" indent="-294840">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The process of </a:t>
            </a:r>
            <a:r>
              <a:rPr b="1" i="1" lang="en-GB" sz="1600" spc="-1" strike="noStrike">
                <a:solidFill>
                  <a:srgbClr val="ffffff"/>
                </a:solidFill>
                <a:latin typeface="Arial"/>
              </a:rPr>
              <a:t>dehumanisation</a:t>
            </a:r>
            <a:r>
              <a:rPr b="1" lang="en-GB" sz="1600" spc="-1" strike="noStrike">
                <a:solidFill>
                  <a:srgbClr val="ffffff"/>
                </a:solidFill>
                <a:latin typeface="Arial"/>
              </a:rPr>
              <a:t> has been used to justify slavery and the Jewish Holocaust. Words work. They lay the groundwork and offer licence to real, political bigots. </a:t>
            </a:r>
            <a:endParaRPr b="0" lang="en-US" sz="1600" spc="-1" strike="noStrike">
              <a:solidFill>
                <a:srgbClr val="ffffff"/>
              </a:solidFill>
              <a:latin typeface="Arial"/>
            </a:endParaRPr>
          </a:p>
          <a:p>
            <a:pPr marL="2948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94840" indent="-294840">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Words are simply the thin end of the wedge; headlines like  </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      </a:t>
            </a:r>
            <a:r>
              <a:rPr b="1" lang="en-GB" sz="1600" spc="-1" strike="noStrike">
                <a:solidFill>
                  <a:srgbClr val="ffffff"/>
                </a:solidFill>
                <a:latin typeface="Arial"/>
              </a:rPr>
              <a:t>the one opposite serve simply to soften up public opinion</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      </a:t>
            </a:r>
            <a:r>
              <a:rPr b="1" lang="en-GB" sz="1600" spc="-1" strike="noStrike">
                <a:solidFill>
                  <a:srgbClr val="ffffff"/>
                </a:solidFill>
                <a:latin typeface="Arial"/>
              </a:rPr>
              <a:t>so that the groups targeted feel powerless and alone, while</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      </a:t>
            </a:r>
            <a:r>
              <a:rPr b="1" lang="en-GB" sz="1600" spc="-1" strike="noStrike">
                <a:solidFill>
                  <a:srgbClr val="ffffff"/>
                </a:solidFill>
                <a:latin typeface="Arial"/>
              </a:rPr>
              <a:t>the rest of us feel under no obligation to offer support or</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      </a:t>
            </a:r>
            <a:r>
              <a:rPr b="1" lang="en-GB" sz="1600" spc="-1" strike="noStrike">
                <a:solidFill>
                  <a:srgbClr val="ffffff"/>
                </a:solidFill>
                <a:latin typeface="Arial"/>
              </a:rPr>
              <a:t>sympathy.  Why should we? They are taking our jobs and</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      </a:t>
            </a:r>
            <a:r>
              <a:rPr b="1" lang="en-GB" sz="1600" spc="-1" strike="noStrike">
                <a:solidFill>
                  <a:srgbClr val="ffffff"/>
                </a:solidFill>
                <a:latin typeface="Arial"/>
              </a:rPr>
              <a:t>bringing crime to our streets.</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pic>
        <p:nvPicPr>
          <p:cNvPr id="122" name="Picture 7" descr="e1670308-785329"/>
          <p:cNvPicPr/>
          <p:nvPr/>
        </p:nvPicPr>
        <p:blipFill>
          <a:blip r:embed="rId1"/>
          <a:stretch/>
        </p:blipFill>
        <p:spPr>
          <a:xfrm>
            <a:off x="6659640" y="4076640"/>
            <a:ext cx="2068560" cy="2641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68360" y="-17136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b2b2b2"/>
                </a:solidFill>
                <a:latin typeface="Arial"/>
              </a:rPr>
              <a:t>Racism and Language</a:t>
            </a:r>
            <a:endParaRPr b="0" lang="en-US" sz="4400" spc="-1" strike="noStrike">
              <a:solidFill>
                <a:srgbClr val="b2b2b2"/>
              </a:solidFill>
              <a:latin typeface="Arial"/>
            </a:endParaRPr>
          </a:p>
        </p:txBody>
      </p:sp>
      <p:sp>
        <p:nvSpPr>
          <p:cNvPr id="124" name="PlaceHolder 2"/>
          <p:cNvSpPr>
            <a:spLocks noGrp="1"/>
          </p:cNvSpPr>
          <p:nvPr>
            <p:ph/>
          </p:nvPr>
        </p:nvSpPr>
        <p:spPr>
          <a:xfrm>
            <a:off x="468360" y="907920"/>
            <a:ext cx="8229600" cy="4530960"/>
          </a:xfrm>
          <a:prstGeom prst="rect">
            <a:avLst/>
          </a:prstGeom>
          <a:noFill/>
          <a:ln w="0">
            <a:noFill/>
          </a:ln>
        </p:spPr>
        <p:txBody>
          <a:bodyPr anchor="t">
            <a:normAutofit/>
          </a:bodyPr>
          <a:p>
            <a:pPr marL="343080" indent="-343080">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Can language be reclaimed? Many black males call one another ‘nigger,’ a powerful word infused with racist meaning. </a:t>
            </a:r>
            <a:endParaRPr b="0" lang="en-US" sz="1600" spc="-1" strike="noStrike">
              <a:solidFill>
                <a:srgbClr val="ffffff"/>
              </a:solidFill>
              <a:latin typeface="Arial"/>
            </a:endParaRPr>
          </a:p>
          <a:p>
            <a:pPr marL="343080" indent="-343080">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Hip hop music in particular is littered with its usage. But many black people are uncomfortable about this attempt to diffuse a term previously burdened with racist baggage. Use of the word is now banned from stages around New York.</a:t>
            </a:r>
            <a:endParaRPr b="0" lang="en-US" sz="1600" spc="-1" strike="noStrike">
              <a:solidFill>
                <a:srgbClr val="ffffff"/>
              </a:solidFill>
              <a:latin typeface="Arial"/>
            </a:endParaRPr>
          </a:p>
          <a:p>
            <a:pPr marL="343080" indent="-343080">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Gay men and women have also attempted to reconfigure the meanings of ‘queer’ and ‘dyke.’</a:t>
            </a:r>
            <a:endParaRPr b="0" lang="en-US" sz="1600" spc="-1" strike="noStrike">
              <a:solidFill>
                <a:srgbClr val="ffffff"/>
              </a:solidFill>
              <a:latin typeface="Arial"/>
            </a:endParaRPr>
          </a:p>
          <a:p>
            <a:pPr marL="343080" indent="-343080">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But for Riazat Butt: ‘There is always talk when incidents like these occur of the power that can be derived from reclaiming a word. But I never associated ‘Paki’ with anything positive. Nobody could or should try to reclaim it.’</a:t>
            </a:r>
            <a:endParaRPr b="0" lang="en-US" sz="1600" spc="-1" strike="noStrike">
              <a:solidFill>
                <a:srgbClr val="ffffff"/>
              </a:solidFill>
              <a:latin typeface="Arial"/>
            </a:endParaRPr>
          </a:p>
        </p:txBody>
      </p:sp>
      <p:pic>
        <p:nvPicPr>
          <p:cNvPr id="125" name="Picture 17" descr="leunig-ban-the-business-burqa-cartoon"/>
          <p:cNvPicPr/>
          <p:nvPr/>
        </p:nvPicPr>
        <p:blipFill>
          <a:blip r:embed="rId1"/>
          <a:stretch/>
        </p:blipFill>
        <p:spPr>
          <a:xfrm>
            <a:off x="2484360" y="3645000"/>
            <a:ext cx="4473720" cy="3085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b2b2b2"/>
                </a:solidFill>
                <a:latin typeface="Arial"/>
              </a:rPr>
              <a:t>Racism and Language</a:t>
            </a:r>
            <a:endParaRPr b="0" lang="en-US" sz="4400" spc="-1" strike="noStrike">
              <a:solidFill>
                <a:srgbClr val="b2b2b2"/>
              </a:solidFill>
              <a:latin typeface="Arial"/>
            </a:endParaRPr>
          </a:p>
        </p:txBody>
      </p:sp>
      <p:sp>
        <p:nvSpPr>
          <p:cNvPr id="127" name="PlaceHolder 2"/>
          <p:cNvSpPr>
            <a:spLocks noGrp="1"/>
          </p:cNvSpPr>
          <p:nvPr>
            <p:ph/>
          </p:nvPr>
        </p:nvSpPr>
        <p:spPr>
          <a:xfrm>
            <a:off x="395280" y="1341360"/>
            <a:ext cx="8229600" cy="4530960"/>
          </a:xfrm>
          <a:prstGeom prst="rect">
            <a:avLst/>
          </a:prstGeom>
          <a:noFill/>
          <a:ln w="0">
            <a:noFill/>
          </a:ln>
        </p:spPr>
        <p:txBody>
          <a:bodyPr anchor="t">
            <a:normAutofit/>
          </a:bodyPr>
          <a:p>
            <a:pPr marL="343080" indent="-343080">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In fact it is often the political Right who seek to police our thoughts and language, and from far more sinister motives than the empowering of marginalised social groups. </a:t>
            </a:r>
            <a:endParaRPr b="0" lang="en-US" sz="1600" spc="-1" strike="noStrike">
              <a:solidFill>
                <a:srgbClr val="ffffff"/>
              </a:solidFill>
              <a:latin typeface="Arial"/>
            </a:endParaRPr>
          </a:p>
          <a:p>
            <a:pPr marL="343080" indent="-343080">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a:t>
            </a:r>
            <a:r>
              <a:rPr b="1" lang="en-GB" sz="1600" spc="-1" strike="noStrike">
                <a:solidFill>
                  <a:srgbClr val="ffffff"/>
                </a:solidFill>
                <a:latin typeface="Arial"/>
              </a:rPr>
              <a:t>The ugliest forms of political correctness occur when there is a war on. Then you’d better watch what you say.’ (D.Williams)</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In the aftermath of 9/11,  any US citizen seeking to question the strategy of their government left them vulnerable to attacks from powerful voices.  Dissenting ideas were labelled as ‘treasonous’ by shock-jocks such as Bill O’Reilly. A mood of fear and loathing overtook both the printed and visual media. They became besotted with their own version of</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      ‘</a:t>
            </a:r>
            <a:r>
              <a:rPr b="1" lang="en-GB" sz="1600" spc="-1" strike="noStrike">
                <a:solidFill>
                  <a:srgbClr val="ffffff"/>
                </a:solidFill>
                <a:latin typeface="Arial"/>
              </a:rPr>
              <a:t>political correctness’: </a:t>
            </a:r>
            <a:r>
              <a:rPr b="1" i="1" lang="en-GB" sz="1600" spc="-1" strike="noStrike">
                <a:solidFill>
                  <a:srgbClr val="ffffff"/>
                </a:solidFill>
                <a:latin typeface="Arial"/>
              </a:rPr>
              <a:t>Thou Shalt Not Question Anything.</a:t>
            </a:r>
            <a:endParaRPr b="0" lang="en-US" sz="1600" spc="-1" strike="noStrike">
              <a:solidFill>
                <a:srgbClr val="ffffff"/>
              </a:solidFill>
              <a:latin typeface="Arial"/>
            </a:endParaRPr>
          </a:p>
        </p:txBody>
      </p:sp>
      <p:pic>
        <p:nvPicPr>
          <p:cNvPr id="128" name="Picture 5" descr="patriotism"/>
          <p:cNvPicPr/>
          <p:nvPr/>
        </p:nvPicPr>
        <p:blipFill>
          <a:blip r:embed="rId1"/>
          <a:stretch/>
        </p:blipFill>
        <p:spPr>
          <a:xfrm>
            <a:off x="6877080" y="4221000"/>
            <a:ext cx="1511280" cy="2502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68360" y="-24300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b2b2b2"/>
                </a:solidFill>
                <a:latin typeface="Arial"/>
              </a:rPr>
              <a:t>Racism and Language</a:t>
            </a:r>
            <a:endParaRPr b="0" lang="en-US" sz="4400" spc="-1" strike="noStrike">
              <a:solidFill>
                <a:srgbClr val="b2b2b2"/>
              </a:solidFill>
              <a:latin typeface="Arial"/>
            </a:endParaRPr>
          </a:p>
        </p:txBody>
      </p:sp>
      <p:sp>
        <p:nvSpPr>
          <p:cNvPr id="130" name="PlaceHolder 2"/>
          <p:cNvSpPr>
            <a:spLocks noGrp="1"/>
          </p:cNvSpPr>
          <p:nvPr>
            <p:ph/>
          </p:nvPr>
        </p:nvSpPr>
        <p:spPr>
          <a:xfrm>
            <a:off x="395280" y="907920"/>
            <a:ext cx="8229600" cy="4530960"/>
          </a:xfrm>
          <a:prstGeom prst="rect">
            <a:avLst/>
          </a:prstGeom>
          <a:noFill/>
          <a:ln w="0">
            <a:noFill/>
          </a:ln>
        </p:spPr>
        <p:txBody>
          <a:bodyPr anchor="t">
            <a:normAutofit/>
          </a:bodyPr>
          <a:p>
            <a:pPr marL="343080" indent="-343080">
              <a:lnSpc>
                <a:spcPct val="80000"/>
              </a:lnSpc>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Critics of political correctness have been accused of showing the same sensitivity to words as those they claim to be opposing, and of perceiving a political agenda where none exists. For example,  during the 1980s, a number of news outlets claimed that a school altered the nursery rhyme "Baa Baa Black Sheep" to read "Baa Baa Rainbow Sheep." In fact, the nursery, run by Parents and Children Together (</a:t>
            </a:r>
            <a:r>
              <a:rPr b="1" i="1" lang="en-GB" sz="1600" spc="-1" strike="noStrike">
                <a:solidFill>
                  <a:srgbClr val="ffffff"/>
                </a:solidFill>
                <a:latin typeface="Arial"/>
              </a:rPr>
              <a:t>Pact</a:t>
            </a:r>
            <a:r>
              <a:rPr b="1" lang="en-GB" sz="1600" spc="-1" strike="noStrike">
                <a:solidFill>
                  <a:srgbClr val="ffffff"/>
                </a:solidFill>
                <a:latin typeface="Arial"/>
              </a:rPr>
              <a:t>), simply had the kids "turn the song into an action rhyme. ... They sing happy, sad, bouncing, hopping, pink, blue, black and white sheep etc." The spurious claim about the nursery rhyme was widely circulated and later amplified into a suggestion that similar bans applied to the terms "black coffee" and "blackboard." According to </a:t>
            </a:r>
            <a:r>
              <a:rPr b="0" lang="en-GB" sz="1600" spc="-1" strike="noStrike" u="sng">
                <a:solidFill>
                  <a:srgbClr val="ffffcc"/>
                </a:solidFill>
                <a:uFillTx/>
                <a:latin typeface="Arial"/>
                <a:hlinkClick r:id="rId1"/>
              </a:rPr>
              <a:t>Private Eye</a:t>
            </a:r>
            <a:r>
              <a:rPr b="1" lang="en-GB" sz="1600" spc="-1" strike="noStrike">
                <a:solidFill>
                  <a:srgbClr val="ffffff"/>
                </a:solidFill>
                <a:latin typeface="Arial"/>
              </a:rPr>
              <a:t> magazine, similar stories, all without factual basis, have run in the British press since first appearing in The Sun in 1986. </a:t>
            </a:r>
            <a:endParaRPr b="0" lang="en-US" sz="1600" spc="-1" strike="noStrike">
              <a:solidFill>
                <a:srgbClr val="ffffff"/>
              </a:solidFill>
              <a:latin typeface="Arial"/>
            </a:endParaRPr>
          </a:p>
        </p:txBody>
      </p:sp>
      <p:pic>
        <p:nvPicPr>
          <p:cNvPr id="131" name="Picture 5" descr="131432023_5bedd3116a"/>
          <p:cNvPicPr/>
          <p:nvPr/>
        </p:nvPicPr>
        <p:blipFill>
          <a:blip r:embed="rId2"/>
          <a:stretch/>
        </p:blipFill>
        <p:spPr>
          <a:xfrm>
            <a:off x="2627280" y="3789360"/>
            <a:ext cx="3384720" cy="2709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15T17:42:09Z</dcterms:created>
  <dc:creator>mikeco</dc:creator>
  <dc:description/>
  <dc:language>en-US</dc:language>
  <cp:lastModifiedBy>RomaK</cp:lastModifiedBy>
  <dcterms:modified xsi:type="dcterms:W3CDTF">2015-09-02T09:55:18Z</dcterms:modified>
  <cp:revision>7</cp:revision>
  <dc:subject/>
  <dc:title>Racism and Language</dc:title>
</cp:coreProperties>
</file>