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6506-BE05-4336-BC7C-FCCABC79E5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93E-84AC-4D84-8880-05012FDF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0AF-B698-417F-9DA0-C2C4F159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609-FE5C-4831-8198-A1A4FE69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C2F-134E-4003-95DA-5C2BD0ED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86D-97BD-4993-BEFE-156B854E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316-E2E3-4990-B2D4-0087AE98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6BC-0747-4EB8-A07A-8F0ABCD8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551-C8DF-41C7-93CB-A14D4EAE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A43-9E23-4B2B-840E-5F8880A7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015-4A02-47E6-8F8A-CB9A7C79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2B9-54D3-4A69-A7E2-1096DA01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6BE-2CCD-49DB-A280-B5EA9A73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B994-F105-450B-A847-68A12D355764}" type="slidenum">
              <a:rPr b="0" lang="en-US" sz="1400" spc="-1" strike="noStrike">
                <a:solidFill>
                  <a:srgbClr val="ccff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t Patrick was born in Scotland in 385 A.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2" name="Picture 5" descr="scotland"/>
          <p:cNvPicPr/>
          <p:nvPr/>
        </p:nvPicPr>
        <p:blipFill>
          <a:blip r:embed="rId1"/>
          <a:stretch/>
        </p:blipFill>
        <p:spPr>
          <a:xfrm>
            <a:off x="1393920" y="2093760"/>
            <a:ext cx="63626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Today Americans march in parades…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7" name="Picture 5" descr="HATS%20200%20St"/>
          <p:cNvPicPr/>
          <p:nvPr/>
        </p:nvPicPr>
        <p:blipFill>
          <a:blip r:embed="rId1"/>
          <a:stretch/>
        </p:blipFill>
        <p:spPr>
          <a:xfrm>
            <a:off x="2124000" y="2660760"/>
            <a:ext cx="5178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ance the Irish Jig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2" name="Picture 5" descr="jig"/>
          <p:cNvPicPr/>
          <p:nvPr/>
        </p:nvPicPr>
        <p:blipFill>
          <a:blip r:embed="rId1"/>
          <a:stretch/>
        </p:blipFill>
        <p:spPr>
          <a:xfrm>
            <a:off x="1979640" y="1857240"/>
            <a:ext cx="4505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ye rivers green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6" name="Picture 7" descr="Chicago-StPatricks-Day17"/>
          <p:cNvPicPr/>
          <p:nvPr/>
        </p:nvPicPr>
        <p:blipFill>
          <a:blip r:embed="rId1"/>
          <a:stretch/>
        </p:blipFill>
        <p:spPr>
          <a:xfrm>
            <a:off x="915840" y="2006640"/>
            <a:ext cx="72756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And of course, many people drink lots of bee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1" name="Picture 5" descr="Too_much_beer_already_Neil"/>
          <p:cNvPicPr/>
          <p:nvPr/>
        </p:nvPicPr>
        <p:blipFill>
          <a:blip r:embed="rId1"/>
          <a:stretch/>
        </p:blipFill>
        <p:spPr>
          <a:xfrm>
            <a:off x="1119240" y="1704960"/>
            <a:ext cx="65199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eople wear green in memory of Ireland 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6" name="Picture 5" descr="C2624-05"/>
          <p:cNvPicPr/>
          <p:nvPr/>
        </p:nvPicPr>
        <p:blipFill>
          <a:blip r:embed="rId1"/>
          <a:stretch/>
        </p:blipFill>
        <p:spPr>
          <a:xfrm>
            <a:off x="3497400" y="2368440"/>
            <a:ext cx="2314440" cy="34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2624-07"/>
          <p:cNvPicPr/>
          <p:nvPr/>
        </p:nvPicPr>
        <p:blipFill>
          <a:blip r:embed="rId2"/>
          <a:stretch/>
        </p:blipFill>
        <p:spPr>
          <a:xfrm>
            <a:off x="6056280" y="2332080"/>
            <a:ext cx="2343240" cy="345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2342-18"/>
          <p:cNvPicPr/>
          <p:nvPr/>
        </p:nvPicPr>
        <p:blipFill>
          <a:blip r:embed="rId3"/>
          <a:stretch/>
        </p:blipFill>
        <p:spPr>
          <a:xfrm>
            <a:off x="934920" y="2386080"/>
            <a:ext cx="23241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also wear Clover/Shamrocks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3" name="Picture 5" descr="clover-big"/>
          <p:cNvPicPr/>
          <p:nvPr/>
        </p:nvPicPr>
        <p:blipFill>
          <a:blip r:embed="rId1"/>
          <a:stretch/>
        </p:blipFill>
        <p:spPr>
          <a:xfrm>
            <a:off x="113832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four-leaf clover you will have good luck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8" name="Picture 7" descr="four-leaf-clover"/>
          <p:cNvPicPr/>
          <p:nvPr/>
        </p:nvPicPr>
        <p:blipFill>
          <a:blip r:embed="rId1"/>
          <a:stretch/>
        </p:blipFill>
        <p:spPr>
          <a:xfrm>
            <a:off x="1357200" y="1674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99"/>
                </a:solidFill>
                <a:latin typeface="Tahoma"/>
              </a:rPr>
              <a:t>Happy Saint Patrick’s Day!</a:t>
            </a:r>
            <a:endParaRPr b="1" lang="en-US" sz="9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became a pries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7" name="Picture 5" descr="stpatrick2"/>
          <p:cNvPicPr/>
          <p:nvPr/>
        </p:nvPicPr>
        <p:blipFill>
          <a:blip r:embed="rId1"/>
          <a:stretch/>
        </p:blipFill>
        <p:spPr>
          <a:xfrm>
            <a:off x="3203640" y="2147760"/>
            <a:ext cx="267012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He went to Ireland to teach people about Go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2" name="Picture 5" descr="UK"/>
          <p:cNvPicPr/>
          <p:nvPr/>
        </p:nvPicPr>
        <p:blipFill>
          <a:blip r:embed="rId1"/>
          <a:stretch/>
        </p:blipFill>
        <p:spPr>
          <a:xfrm>
            <a:off x="2674800" y="1765440"/>
            <a:ext cx="39355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say he drove all the snakes out of Irelan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7" name="Picture 5" descr="snakes"/>
          <p:cNvPicPr/>
          <p:nvPr/>
        </p:nvPicPr>
        <p:blipFill>
          <a:blip r:embed="rId1"/>
          <a:stretch/>
        </p:blipFill>
        <p:spPr>
          <a:xfrm>
            <a:off x="1595520" y="2459160"/>
            <a:ext cx="56451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Others say he used shamrocks to teach about the Trinity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2" name="Picture 5" descr="patrick"/>
          <p:cNvPicPr/>
          <p:nvPr/>
        </p:nvPicPr>
        <p:blipFill>
          <a:blip r:embed="rId1"/>
          <a:stretch/>
        </p:blipFill>
        <p:spPr>
          <a:xfrm>
            <a:off x="1265400" y="2075040"/>
            <a:ext cx="2199960" cy="376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hamrocks"/>
          <p:cNvPicPr/>
          <p:nvPr/>
        </p:nvPicPr>
        <p:blipFill>
          <a:blip r:embed="rId2"/>
          <a:stretch/>
        </p:blipFill>
        <p:spPr>
          <a:xfrm>
            <a:off x="3952800" y="2862360"/>
            <a:ext cx="2935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died March 17 in 461 A.D.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8" name="Picture 5" descr="0011_st_patrick"/>
          <p:cNvPicPr/>
          <p:nvPr/>
        </p:nvPicPr>
        <p:blipFill>
          <a:blip r:embed="rId1"/>
          <a:stretch/>
        </p:blipFill>
        <p:spPr>
          <a:xfrm>
            <a:off x="2270160" y="1438200"/>
            <a:ext cx="4067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Leprechauns are unfriendly and possess a pot of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2" name="Picture 13" descr="leprechaun"/>
          <p:cNvPicPr/>
          <p:nvPr/>
        </p:nvPicPr>
        <p:blipFill>
          <a:blip r:embed="rId1"/>
          <a:stretch/>
        </p:blipFill>
        <p:spPr>
          <a:xfrm>
            <a:off x="2292480" y="1789200"/>
            <a:ext cx="46670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Leprechaun, you can trick him into showing you his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6" name="Picture 4" descr="leprechaun"/>
          <p:cNvPicPr/>
          <p:nvPr/>
        </p:nvPicPr>
        <p:blipFill>
          <a:blip r:embed="rId1"/>
          <a:stretch/>
        </p:blipFill>
        <p:spPr>
          <a:xfrm>
            <a:off x="882720" y="1706400"/>
            <a:ext cx="3251160" cy="469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41%20Pot%20O%20Gold%2010'%20x%2010'"/>
          <p:cNvPicPr/>
          <p:nvPr/>
        </p:nvPicPr>
        <p:blipFill>
          <a:blip r:embed="rId2"/>
          <a:stretch/>
        </p:blipFill>
        <p:spPr>
          <a:xfrm>
            <a:off x="4556160" y="1819440"/>
            <a:ext cx="39020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But if you don’t watch the leprechaun very carefully, he and the gold will disappea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2" name="Picture 5" descr="ll83"/>
          <p:cNvPicPr/>
          <p:nvPr/>
        </p:nvPicPr>
        <p:blipFill>
          <a:blip r:embed="rId1"/>
          <a:stretch/>
        </p:blipFill>
        <p:spPr>
          <a:xfrm>
            <a:off x="1341360" y="2149560"/>
            <a:ext cx="6265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21:33:35Z</dcterms:created>
  <dc:creator>Laura Bergells</dc:creator>
  <dc:description>Free Saint Patrick's Day PowerPoint!</dc:description>
  <cp:keywords>March Saint Patrick St. Patrick's Day</cp:keywords>
  <dc:language>en-US</dc:language>
  <cp:lastModifiedBy>RomaK</cp:lastModifiedBy>
  <dcterms:modified xsi:type="dcterms:W3CDTF">2015-09-02T09:55:32Z</dcterms:modified>
  <cp:revision>15</cp:revision>
  <dc:subject>St. Patrick's Day</dc:subject>
  <dc:title>Saint Patrick's Day PowerPoint Template</dc:title>
</cp:coreProperties>
</file>