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91BD-CFD9-4E75-8D30-D9EF951A377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 Patrick was born in Scotland in 385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 Patrick was born in Scotland in 385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Americans march in parad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Americans march in parad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ce the Irish Jig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ce the Irish Ji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ye rivers gree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e rivers gre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of course, many people drink lots of be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f course, many people drink lots of be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wear green in memory of Ire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ar green in memory of Ire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lso wear Clover/Shamroc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so wear Clover/Shamro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find a four-leaf clover you will have good lu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find a four-leaf clover you will have good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y Saint Patrick’s Da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aint Patrick’s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became a pri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became a p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ent to Ireland to teach people about G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to Ireland to teach people about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ay he drove all the snakes out of Ire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ay he drove all the snakes out of Ire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say he used shamrocks to teach about the Tr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say he used shamrocks to teach about the Tr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died March 17 in 461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 March 17 in 461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prechauns are unfriendly and possess a pot of g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echauns are unfriendly and possess a pot of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find a Leprechaun, you can trick him into showing you his g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find a Leprechaun, you can trick him into showing you his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f you don’t watch the leprechaun very carefully, he and the gold will disapp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f you don’t watch the leprechaun very carefully, he and the gold will disappe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0EC-65FF-439B-B9A6-255462F3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B980-482A-41D0-8D64-976FAEFD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2825-F268-4279-860D-1C9F9D07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2B6-44E8-41A2-BC15-5B229411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8FC-849E-4EA4-8535-20F580EE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9AB-FDD4-4024-B76D-930B2A80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FF8-568E-420B-BB0B-E6C0DFF0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A668-AEAD-46B0-9DEE-C3C6CB9A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0FD-B27B-40FD-8C4E-AC16C08B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E7DF-3086-490A-A03E-6868CDCD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398-EA46-43ED-97F2-C4521F44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C55-EC65-41E0-A499-09559FC4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ccff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DD3E-D37C-457C-8C01-848A71FFE572}" type="slidenum">
              <a:rPr b="0" lang="en-US" sz="1400" spc="-1" strike="noStrike">
                <a:solidFill>
                  <a:srgbClr val="ccff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t Patrick was born in Scotland in 385 A.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52" name="Picture 5" descr="scotland"/>
          <p:cNvPicPr/>
          <p:nvPr/>
        </p:nvPicPr>
        <p:blipFill>
          <a:blip r:embed="rId1"/>
          <a:stretch/>
        </p:blipFill>
        <p:spPr>
          <a:xfrm>
            <a:off x="1393920" y="2093760"/>
            <a:ext cx="63626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Today Americans march in parades…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97" name="Picture 5" descr="HATS%20200%20St"/>
          <p:cNvPicPr/>
          <p:nvPr/>
        </p:nvPicPr>
        <p:blipFill>
          <a:blip r:embed="rId1"/>
          <a:stretch/>
        </p:blipFill>
        <p:spPr>
          <a:xfrm>
            <a:off x="2124000" y="2660760"/>
            <a:ext cx="51786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Dance the Irish Jig…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2" name="Picture 5" descr="jig"/>
          <p:cNvPicPr/>
          <p:nvPr/>
        </p:nvPicPr>
        <p:blipFill>
          <a:blip r:embed="rId1"/>
          <a:stretch/>
        </p:blipFill>
        <p:spPr>
          <a:xfrm>
            <a:off x="1979640" y="1857240"/>
            <a:ext cx="45054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Dye rivers green…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6" name="Picture 7" descr="Chicago-StPatricks-Day17"/>
          <p:cNvPicPr/>
          <p:nvPr/>
        </p:nvPicPr>
        <p:blipFill>
          <a:blip r:embed="rId1"/>
          <a:stretch/>
        </p:blipFill>
        <p:spPr>
          <a:xfrm>
            <a:off x="915840" y="2006640"/>
            <a:ext cx="72756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And of course, many people drink lots of beer!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11" name="Picture 5" descr="Too_much_beer_already_Neil"/>
          <p:cNvPicPr/>
          <p:nvPr/>
        </p:nvPicPr>
        <p:blipFill>
          <a:blip r:embed="rId1"/>
          <a:stretch/>
        </p:blipFill>
        <p:spPr>
          <a:xfrm>
            <a:off x="1119240" y="1704960"/>
            <a:ext cx="65199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People wear green in memory of Ireland 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16" name="Picture 5" descr="C2624-05"/>
          <p:cNvPicPr/>
          <p:nvPr/>
        </p:nvPicPr>
        <p:blipFill>
          <a:blip r:embed="rId1"/>
          <a:stretch/>
        </p:blipFill>
        <p:spPr>
          <a:xfrm>
            <a:off x="3497400" y="2368440"/>
            <a:ext cx="2314440" cy="341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2624-07"/>
          <p:cNvPicPr/>
          <p:nvPr/>
        </p:nvPicPr>
        <p:blipFill>
          <a:blip r:embed="rId2"/>
          <a:stretch/>
        </p:blipFill>
        <p:spPr>
          <a:xfrm>
            <a:off x="6056280" y="2332080"/>
            <a:ext cx="2343240" cy="3457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2342-18"/>
          <p:cNvPicPr/>
          <p:nvPr/>
        </p:nvPicPr>
        <p:blipFill>
          <a:blip r:embed="rId3"/>
          <a:stretch/>
        </p:blipFill>
        <p:spPr>
          <a:xfrm>
            <a:off x="934920" y="2386080"/>
            <a:ext cx="23241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ome also wear Clover/Shamrocks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23" name="Picture 5" descr="clover-big"/>
          <p:cNvPicPr/>
          <p:nvPr/>
        </p:nvPicPr>
        <p:blipFill>
          <a:blip r:embed="rId1"/>
          <a:stretch/>
        </p:blipFill>
        <p:spPr>
          <a:xfrm>
            <a:off x="1138320" y="1438200"/>
            <a:ext cx="72295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If you find a four-leaf clover you will have good luck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28" name="Picture 7" descr="four-leaf-clover"/>
          <p:cNvPicPr/>
          <p:nvPr/>
        </p:nvPicPr>
        <p:blipFill>
          <a:blip r:embed="rId1"/>
          <a:stretch/>
        </p:blipFill>
        <p:spPr>
          <a:xfrm>
            <a:off x="1357200" y="16747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ff99"/>
                </a:solidFill>
                <a:latin typeface="Tahoma"/>
              </a:rPr>
              <a:t>Happy Saint Patrick’s Day!</a:t>
            </a:r>
            <a:endParaRPr b="1" lang="en-US" sz="96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He became a priest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57" name="Picture 5" descr="stpatrick2"/>
          <p:cNvPicPr/>
          <p:nvPr/>
        </p:nvPicPr>
        <p:blipFill>
          <a:blip r:embed="rId1"/>
          <a:stretch/>
        </p:blipFill>
        <p:spPr>
          <a:xfrm>
            <a:off x="3203640" y="2147760"/>
            <a:ext cx="267012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He went to Ireland to teach people about Go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62" name="Picture 5" descr="UK"/>
          <p:cNvPicPr/>
          <p:nvPr/>
        </p:nvPicPr>
        <p:blipFill>
          <a:blip r:embed="rId1"/>
          <a:stretch/>
        </p:blipFill>
        <p:spPr>
          <a:xfrm>
            <a:off x="2674800" y="1765440"/>
            <a:ext cx="393552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ome say he drove all the snakes out of Irelan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67" name="Picture 5" descr="snakes"/>
          <p:cNvPicPr/>
          <p:nvPr/>
        </p:nvPicPr>
        <p:blipFill>
          <a:blip r:embed="rId1"/>
          <a:stretch/>
        </p:blipFill>
        <p:spPr>
          <a:xfrm>
            <a:off x="1595520" y="2459160"/>
            <a:ext cx="56451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Others say he used shamrocks to teach about the Trinity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72" name="Picture 5" descr="patrick"/>
          <p:cNvPicPr/>
          <p:nvPr/>
        </p:nvPicPr>
        <p:blipFill>
          <a:blip r:embed="rId1"/>
          <a:stretch/>
        </p:blipFill>
        <p:spPr>
          <a:xfrm>
            <a:off x="1265400" y="2075040"/>
            <a:ext cx="2199960" cy="376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shamrocks"/>
          <p:cNvPicPr/>
          <p:nvPr/>
        </p:nvPicPr>
        <p:blipFill>
          <a:blip r:embed="rId2"/>
          <a:stretch/>
        </p:blipFill>
        <p:spPr>
          <a:xfrm>
            <a:off x="3952800" y="2862360"/>
            <a:ext cx="2935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He died March 17 in 461 A.D.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78" name="Picture 5" descr="0011_st_patrick"/>
          <p:cNvPicPr/>
          <p:nvPr/>
        </p:nvPicPr>
        <p:blipFill>
          <a:blip r:embed="rId1"/>
          <a:stretch/>
        </p:blipFill>
        <p:spPr>
          <a:xfrm>
            <a:off x="2270160" y="1438200"/>
            <a:ext cx="4067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Leprechauns are unfriendly and possess a pot of gol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2" name="Picture 13" descr="leprechaun"/>
          <p:cNvPicPr/>
          <p:nvPr/>
        </p:nvPicPr>
        <p:blipFill>
          <a:blip r:embed="rId1"/>
          <a:stretch/>
        </p:blipFill>
        <p:spPr>
          <a:xfrm>
            <a:off x="2292480" y="1789200"/>
            <a:ext cx="46670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If you find a Leprechaun, you can trick him into showing you his gol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6" name="Picture 4" descr="leprechaun"/>
          <p:cNvPicPr/>
          <p:nvPr/>
        </p:nvPicPr>
        <p:blipFill>
          <a:blip r:embed="rId1"/>
          <a:stretch/>
        </p:blipFill>
        <p:spPr>
          <a:xfrm>
            <a:off x="882720" y="1706400"/>
            <a:ext cx="3251160" cy="469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41%20Pot%20O%20Gold%2010'%20x%2010'"/>
          <p:cNvPicPr/>
          <p:nvPr/>
        </p:nvPicPr>
        <p:blipFill>
          <a:blip r:embed="rId2"/>
          <a:stretch/>
        </p:blipFill>
        <p:spPr>
          <a:xfrm>
            <a:off x="4556160" y="1819440"/>
            <a:ext cx="39020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But if you don’t watch the leprechaun very carefully, he and the gold will disappear!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92" name="Picture 5" descr="ll83"/>
          <p:cNvPicPr/>
          <p:nvPr/>
        </p:nvPicPr>
        <p:blipFill>
          <a:blip r:embed="rId1"/>
          <a:stretch/>
        </p:blipFill>
        <p:spPr>
          <a:xfrm>
            <a:off x="1341360" y="2149560"/>
            <a:ext cx="6265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21:33:35Z</dcterms:created>
  <dc:creator>Laura Bergells</dc:creator>
  <dc:description>Free Saint Patrick's Day PowerPoint!</dc:description>
  <cp:keywords>March Saint Patrick St. Patrick's Day</cp:keywords>
  <dc:language>en-US</dc:language>
  <cp:lastModifiedBy>RomaK</cp:lastModifiedBy>
  <dcterms:modified xsi:type="dcterms:W3CDTF">2015-09-02T09:55:32Z</dcterms:modified>
  <cp:revision>15</cp:revision>
  <dc:subject>St. Patrick's Day</dc:subject>
  <dc:title>Saint Patrick's Day PowerPoint Template</dc:title>
</cp:coreProperties>
</file>