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arbrake.wav" ContentType="audio/x-wav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22E8-378B-4A5B-A6ED-51BF81AAC20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 Marxism and 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a product of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is brought about by capit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ne hand it suggests that working-class people are simply innocent people who are picked on by the pol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other hand it suggests that working class people who engage in crime are really engaged in political action by opposing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the basic values and morality of a socie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ety is dominated and controlled by those at the hel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 is maintained via the socialisation process and thr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 OF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UES OF FREED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INTER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ists:  law reflects the will of the peo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xists:  law is a reflection of the will of the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economic power guarantees political and social power, the rich can manipulate the rest of us and pass laws that benefi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‘set the agenda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CRE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rder and Criminal Justice Act (199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 ENFORC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’ is more likely to be pursued by police than ‘white collar’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nsified policing and punishment of poorer individuals and commun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or are filtered into the criminal justice system while the rich are filtere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VIDUAL MOTIVATION FOR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capitalist societies the cultural stress in on competition, not cooperation, and the acquisition of weal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re for money can lead those who are blocked off from legitimate chances of gaining wealth to turn to criminal methods (anomi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d is built into the capitalist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ft ide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gnore the consequences for the victims of street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eet crime tends to be intra-class, not inter-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TIC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ms to suggest that the high rate of recorded crime among the working class, youth and blacks is solely the outcome of biased poli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same time they argue the laws are biased against the working class, forcing them into c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all laws are in the interests of the ruling-clas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17E-05F3-44C1-974C-F97E16782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995-063D-4D2B-A6D3-084F341F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33B3-8005-4050-A234-0DC87331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10D9-51D0-4474-8348-97CF516F8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4DFE-9791-462E-B7DF-3FB45C66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7EB2B-DC66-45AF-B8F5-F51FBD7A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9B4F-553B-4E03-BFDF-999D6B1CE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D49D-CE46-4546-A482-78345B28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E75CD-74A0-494E-816B-658D448B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D0749-7938-4871-A91B-16444B88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0357-BEE5-411B-AD9C-719DCC6B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CD01-826B-4023-A066-8903C648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F1618-30B8-456E-901B-76DFD9F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4F91-8B0E-4460-9151-7EDBF7AC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BC04C-EC77-4963-ACE5-C4E9CDA76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2865-63AF-4A4F-A2FD-517F18FC8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DA01-87F1-4C21-BFDC-66E7A7499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AF3D-51B8-4546-8195-85C75304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D189-A25B-4FE5-865F-8E699596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56D-377B-43AD-964B-473D02AE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67E5-F25D-456F-A65D-175C499D2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005D-6F77-4743-9E19-FD43E879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140-CA51-46EE-8066-0706FAA6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B7C-34FE-4B28-A63C-7837F28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CC5E-3977-48EE-A3BB-CB7EAA4153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2BF33-F452-4B9C-9595-A25766EA792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RADITIONAL MARXISM AND "/>
              </a:rPr>
              <a:t>Traditional Marxism and 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a product of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pover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Crime is brought about by </a:t>
            </a: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capitalis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6" descr="crime"/>
          <p:cNvPicPr/>
          <p:nvPr/>
        </p:nvPicPr>
        <p:blipFill>
          <a:blip r:embed="rId1"/>
          <a:stretch/>
        </p:blipFill>
        <p:spPr>
          <a:xfrm>
            <a:off x="685800" y="2003400"/>
            <a:ext cx="380988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ne hand it suggests that working-class people are simpl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nocent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people who are picked on by the polic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On the other hand it suggests that working class people who engage in crime are really engaged i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tion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by opposing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Manipulation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of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basic valu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morality of a soc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ety is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dominated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and controlled by those at the hel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ontrol is maintained via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socialisation process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thre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9" descr="hammock2"/>
          <p:cNvPicPr/>
          <p:nvPr/>
        </p:nvPicPr>
        <p:blipFill>
          <a:blip r:embed="rId1"/>
          <a:stretch/>
        </p:blipFill>
        <p:spPr>
          <a:xfrm>
            <a:off x="324000" y="2349360"/>
            <a:ext cx="4101840" cy="32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MANIPULATION OF VAL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VALUES OF FREED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SELF-INTE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Picture 11" descr="BigBrotherPoster"/>
          <p:cNvPicPr/>
          <p:nvPr/>
        </p:nvPicPr>
        <p:blipFill>
          <a:blip r:embed="rId1"/>
          <a:stretch/>
        </p:blipFill>
        <p:spPr>
          <a:xfrm>
            <a:off x="900000" y="1628640"/>
            <a:ext cx="3205440" cy="43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unctional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reflects the will of the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Marxist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:  law is a reflection of the will of the powerfu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economic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guarantees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olitical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ocial power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, the rich can manipulate the rest of us and pass laws that benefit 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y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set the agenda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Picture 6" descr="law creation"/>
          <p:cNvPicPr/>
          <p:nvPr/>
        </p:nvPicPr>
        <p:blipFill>
          <a:blip r:embed="rId1"/>
          <a:stretch/>
        </p:blipFill>
        <p:spPr>
          <a:xfrm>
            <a:off x="851040" y="1641600"/>
            <a:ext cx="3479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CRE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341000"/>
            <a:ext cx="38102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Public Order and Criminal Justice Act (199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Takes away civil liberties from the majority and limits the powers of the prote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ince 9/11, a raft of Anti-Terror legislation has been enacted, limiting freedoms we once took for grante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Like the Prevention of Terrorism Act (designed to combat the IRA during the 1970s), it has been enforced against many others, criminalising  people engaged in simple acts of protest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Picture 10" descr="drummer"/>
          <p:cNvPicPr/>
          <p:nvPr/>
        </p:nvPicPr>
        <p:blipFill>
          <a:blip r:embed="rId1"/>
          <a:stretch/>
        </p:blipFill>
        <p:spPr>
          <a:xfrm>
            <a:off x="324000" y="2349360"/>
            <a:ext cx="4387680" cy="30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LAW ENFORCEM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Street crime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more likely to be pursued by police tha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‘white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llar’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cr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ensified policing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punishment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poorer individuals and commun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poor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into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he criminal justice system while the rich ar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filtered ou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Picture 6" descr="LAW ENFORCEMENT"/>
          <p:cNvPicPr/>
          <p:nvPr/>
        </p:nvPicPr>
        <p:blipFill>
          <a:blip r:embed="rId1"/>
          <a:stretch/>
        </p:blipFill>
        <p:spPr>
          <a:xfrm>
            <a:off x="979560" y="1641600"/>
            <a:ext cx="322092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INDIVIDUAL MOTIVATION FOR CRI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 capitalist societies the cultural stress in on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ompetition,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not cooperation, and the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cquisition of weal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Desire for money can lead those who are blocked off from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te chance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of gaining wealth to turn to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criminal methods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(anomi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Greed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is built into the capitalist syst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11" descr="materialism"/>
          <p:cNvPicPr/>
          <p:nvPr/>
        </p:nvPicPr>
        <p:blipFill>
          <a:blip r:embed="rId1"/>
          <a:stretch/>
        </p:blipFill>
        <p:spPr>
          <a:xfrm>
            <a:off x="685800" y="2521080"/>
            <a:ext cx="3809880" cy="26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Left ide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gnore th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consequenc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for the victims of street cr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treet crime tends to be 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intra-clas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, not inter-cla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RITICISM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Seems to suggest that the high rate of recorded crime among the working class, youth and blacks is solely the outcome of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biased polic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At the same time they argue the laws are biased against the working class, </a:t>
            </a: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forcing them into cr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Not all laws are in the interests of the ruling-class on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6" descr="thumbs_down"/>
          <p:cNvPicPr/>
          <p:nvPr/>
        </p:nvPicPr>
        <p:blipFill>
          <a:blip r:embed="rId1"/>
          <a:stretch/>
        </p:blipFill>
        <p:spPr>
          <a:xfrm>
            <a:off x="685800" y="1719360"/>
            <a:ext cx="3809880" cy="42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02:16Z</dcterms:created>
  <dc:creator>aileend</dc:creator>
  <dc:description/>
  <dc:language>en-US</dc:language>
  <cp:lastModifiedBy>RomaK</cp:lastModifiedBy>
  <dcterms:modified xsi:type="dcterms:W3CDTF">2015-09-02T09:55:38Z</dcterms:modified>
  <cp:revision>8</cp:revision>
  <dc:subject/>
  <dc:title>Traditional Marxism and crime and deviance</dc:title>
</cp:coreProperties>
</file>