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lap.wav" ContentType="audio/x-wav"/>
  <Override PartName="/ppt/media/image3.wmf" ContentType="image/x-wmf"/>
  <Override PartName="/ppt/media/whoosh.wav" ContentType="audio/x-wav"/>
  <Override PartName="/ppt/media/image4.wmf" ContentType="image/x-wmf"/>
  <Override PartName="/ppt/media/camera.wav" ContentType="audio/x-wav"/>
  <Override PartName="/ppt/media/image5.wmf" ContentType="image/x-wmf"/>
  <Override PartName="/ppt/media/cashreg.wav" ContentType="audio/x-wav"/>
  <Override PartName="/ppt/media/driveby.wav" ContentType="audio/x-wav"/>
  <Override PartName="/ppt/media/projctor.wav" ContentType="audio/x-wav"/>
  <Override PartName="/ppt/media/chimes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AD06-EA7C-4601-A6FC-585F092400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B40A-B83D-4154-8CEC-8DC61048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DC9-316B-40AC-A69B-794998C0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B53-4907-42D1-9C0D-C89BB3A8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205-1B83-4A49-81B0-7F07C2F2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CBCC-69D7-4C4B-9E5E-F48DDB53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4D24-2CD8-4698-B753-ED012588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8229-3EB7-4806-B2C9-5B8A5436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1786-2F36-4486-8962-D00584D2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71A9-991D-4B85-BCA6-F65B6631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145E-8D06-4C62-B0EE-C0702EE0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770E-4E6E-4DFC-9F50-85DC3553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853-4EF2-41E4-B065-3FE4A114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EE39-BC0B-4F33-9151-B6A9DE4D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4B03-6A8F-42B6-AAD5-26BD8744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F5F7-8B7F-42F3-B746-FEED0ED9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A309-5FE0-4615-A135-7209CF97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0750-D139-4C2B-A018-64E9EC06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128-4C3A-46C0-8718-B96E3850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4AE-C59E-4137-AC17-54C83739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9A0-8248-461F-A9A7-430DF2FF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398-7B20-4982-8864-F121F741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006-2DF6-488C-B791-FE4F084F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2BB-A04C-487E-A02D-55324BA9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D9F-E0ED-4E2F-8BFF-DF26D67C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7BF8-0EAF-49B9-A24E-B0EEC6A96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DA6A-C62B-4A39-8430-7B055DE3D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800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5" descr="pe03254_"/>
          <p:cNvPicPr/>
          <p:nvPr/>
        </p:nvPicPr>
        <p:blipFill>
          <a:blip r:embed="rId1"/>
          <a:stretch/>
        </p:blipFill>
        <p:spPr>
          <a:xfrm>
            <a:off x="3429000" y="838080"/>
            <a:ext cx="26845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you retu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runk being 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gative Adver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arce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ve my eyes. ( 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miliar Adverbs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Kno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 &amp; ADVERB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TION OF AN ADJECTIV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w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ssel. (what k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ctory is mine. (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enjo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nner. (how many, 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tn00333_"/>
          <p:cNvPicPr/>
          <p:nvPr/>
        </p:nvPicPr>
        <p:blipFill>
          <a:blip r:embed="rId1"/>
          <a:stretch/>
        </p:blipFill>
        <p:spPr>
          <a:xfrm>
            <a:off x="4114800" y="2362320"/>
            <a:ext cx="11588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 ADVERB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YPES OF ADVERB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066680" y="533520"/>
          <a:ext cx="1219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1219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mo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e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Manner and tell h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ai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n hour. (Place and tell 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le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Time, tells wh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lled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Number, tells how m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s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ll. (Degree, tells how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rrogative Adverb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3:16:01Z</dcterms:created>
  <dc:creator>Tim Williams</dc:creator>
  <dc:description/>
  <dc:language>en-US</dc:language>
  <cp:lastModifiedBy>RomaK</cp:lastModifiedBy>
  <dcterms:modified xsi:type="dcterms:W3CDTF">2015-09-02T09:30:39Z</dcterms:modified>
  <cp:revision>7</cp:revision>
  <dc:subject/>
  <dc:title>adjectives and adverbs</dc:title>
</cp:coreProperties>
</file>