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83F5-1662-4E55-83B1-814865164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D57-A72D-4400-A7C9-B0C3F354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63A-4727-4042-8F55-18DD77EB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15F-14C6-46BC-8A68-0B0525FE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3A5-B336-4E70-85BC-67EB94B2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1BCE-9665-4311-9FA0-03928337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6015-991E-4E5F-9A3A-A9D3CBD4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FEB9-BD0D-427E-92A8-3220CC90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9DDF-131F-4ED0-9572-CAF46B6F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CF7B-8041-4D72-8174-1F268373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7849-CAA2-40A0-B018-35275888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8467-EB3D-4DBD-8489-8A175661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06B-A439-41FB-883F-6FC5156E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8724-09F7-483B-83D3-C48BE106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DF4E-367B-491C-A629-9EE26D3C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F3AB-CB7B-466C-9F91-BD336ABD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1CA4-4363-4F89-8332-BB984EB1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C3C5-8DBC-439E-8D80-4634E856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8430-18C4-4485-95BD-0BEC4069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F54BE-0292-45EF-92D2-71A7626D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219C2-A5C2-4D76-B9FD-866F9E3C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574A8-DF6E-414C-8E0C-D8D31CE9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42877-A0B0-46F3-9A2E-7CDE4F2E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E51-8BA4-4333-A2D3-612C6708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3C1A7-8152-4DEF-9658-87888738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855A4-6288-42DE-884C-4BF048DB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B7C6-41FA-41F3-ACBE-4236CEF3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38A40-7F78-4E32-8A27-B94ECEA2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E7B3-2D0F-4A6A-89A1-6B70120F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9CF9C-21D4-4233-BD53-5BB5D893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765C8-35B8-4AAA-90FA-F10B1372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ECAA9-EABB-44E0-9974-754C2BF6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97F21-322D-4864-960C-0EF20CE1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ED5DD-38FA-4411-8D81-1F9C9035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14F-4B29-437E-93B1-F579C239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101EE-3F78-457B-A3CE-8E030E07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979CB-AA63-48B8-9DEB-414F8874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D650B-6F2C-4A0C-8A8F-5E45FF05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C0D42-2AAA-4406-90EB-CC86B1A9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13AD4-14F6-4934-8137-30F228BF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162A5-A520-4270-B086-A375A4EF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F17F2-4AD9-442A-B0EF-2DD24248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3A793-FE44-47D1-BFDA-D5DBB47A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9DE27-18EC-44F4-B6C8-47B8F8D1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DAF-402C-4BA3-805E-B60617D9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F6E-D580-4E22-8025-D872BF1B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400-0A62-42CD-BAF2-5D9D9E93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005-1D89-489E-A39F-9DC9761A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0A0-2B21-46E9-90DA-6E18D386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D4D7-C4BC-483C-B108-B46C1010488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3E82-6446-4F3C-A735-5D196EC25F3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8FB7-E2B0-4AC9-B260-8805636CD8D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97D5-E99C-4824-A011-7AEF281B8E6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0" y="1328760"/>
            <a:ext cx="8308800" cy="271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Picture1.jpg"/>
          <p:cNvPicPr/>
          <p:nvPr/>
        </p:nvPicPr>
        <p:blipFill>
          <a:blip r:embed="rId2"/>
          <a:stretch/>
        </p:blipFill>
        <p:spPr>
          <a:xfrm>
            <a:off x="7518240" y="1600200"/>
            <a:ext cx="162576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Picture1.jpg"/>
          <p:cNvPicPr/>
          <p:nvPr/>
        </p:nvPicPr>
        <p:blipFill>
          <a:blip r:embed="rId3"/>
          <a:stretch/>
        </p:blipFill>
        <p:spPr>
          <a:xfrm>
            <a:off x="0" y="4675320"/>
            <a:ext cx="16257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114300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1693080" y="3962520"/>
            <a:ext cx="69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girls answered all the ques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orrect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He was driv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areless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plane la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afe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Ramu plays guit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killful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066680" y="914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Lucida Calligraphy"/>
                <a:ea typeface="Arial"/>
              </a:rPr>
              <a:t>Adverbs of Mann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066680" y="1981080"/>
            <a:ext cx="7894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describe the way people do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5"/>
          <a:stretch/>
        </p:blipFill>
        <p:spPr>
          <a:xfrm>
            <a:off x="6858000" y="4041720"/>
            <a:ext cx="2286000" cy="256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Program Files\Microsoft Office\CLIPART\PUB60COR\AG00165_.GIF"/>
          <p:cNvPicPr/>
          <p:nvPr/>
        </p:nvPicPr>
        <p:blipFill>
          <a:blip r:embed="rId6"/>
          <a:stretch/>
        </p:blipFill>
        <p:spPr>
          <a:xfrm flipH="1" rot="21289200">
            <a:off x="5586120" y="563364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838080" y="304920"/>
            <a:ext cx="830592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         </a:t>
            </a: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Adverb of manner</a:t>
            </a:r>
            <a:r>
              <a:rPr b="1" i="1" lang="en-US" sz="3200" spc="-1" strike="noStrike">
                <a:solidFill>
                  <a:srgbClr val="0070c0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y watch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flower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beauti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mad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She seem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ai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team pla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wonder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02640" y="68580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1447920" y="1676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how often an action is d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frequency</a:t>
            </a: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1262160" y="38862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1696680" y="4648320"/>
            <a:ext cx="67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childr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go to school on the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make that mistake aga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 clean my bedro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Dad polishes his sho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wice a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1414440" y="3505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2007000" y="4191120"/>
            <a:ext cx="668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train h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read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 moved into our new ho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last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ur favorite T.V. program star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t 6’o cloc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m going to my new scho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554120" y="7621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Tim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295280" y="1523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n?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"/>
          <p:cNvSpPr/>
          <p:nvPr/>
        </p:nvSpPr>
        <p:spPr>
          <a:xfrm>
            <a:off x="2414880" y="10666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comic"/>
                <a:ea typeface="Arial Unicode MS"/>
              </a:rPr>
              <a:t>Adverbs Of 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838080" y="2286000"/>
            <a:ext cx="83059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Maiandra GD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We shall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now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 begin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alled here a 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ew minutes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ago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I have spoken to him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yesterda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omes here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Mr. Guptha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ormerl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lived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quantity or degre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t  shows how much, or in what degree or to what ext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w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areles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rather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bus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prepar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se mango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alm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rip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reas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adverb which tells about a reason is called adverb of reas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nc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unable to refute the charg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</a:t>
            </a:r>
            <a:r>
              <a:rPr b="0" i="1" lang="en-US" sz="3200" spc="-1" strike="noStrike">
                <a:solidFill>
                  <a:srgbClr val="000000"/>
                </a:solidFill>
                <a:latin typeface="Lucida Calligraphy"/>
              </a:rPr>
              <a:t>t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f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eft school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628560"/>
            <a:ext cx="8656560" cy="585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08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04920" y="106668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Lucida Calligraphy"/>
              </a:rPr>
              <a:t>Some examples of adverbs of different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rtoise walks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low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(Mann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will have our Semester exam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April 1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Lucida Calligraphy"/>
              </a:rPr>
              <a:t>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accident happened nea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Highw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l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t least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twice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 week I used to go for Temple(Frequenc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all go for a picnic just for 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njoyment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urp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Degree /Quant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ure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you are mistaken(Affirmation/Ne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0" y="145080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609480" y="1143000"/>
            <a:ext cx="81536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His face was dirty and he was dressed ----------------------.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2. Have you---------------- ---------------------- been in a plane?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3. She was so ill that she missed school -------------------------. 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4. I did some homework last night and finished it--------------------.(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5. We went--------------------------------- to play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6. Dad takes the dog for a walk ------------------------------.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7. Sally left her pencil case--------------------------------- 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8. Speak -----------------------------so everyone can hear you. 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9. It was a fine day and the children played in the garden ------.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10. “Go and do your homework.” “I’ve------------------------done it.” (tim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28600" y="57913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(outside        this morning        ever                   on the bus        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all day          in old clothes       for a week        already             every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207440" y="685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alligraphy"/>
                <a:ea typeface="Arial"/>
              </a:rPr>
              <a:t>Try this exercis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715000" y="1066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in old clo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2666880" y="1600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48640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for a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6757560" y="274320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this mo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2209680" y="3276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572000" y="35812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y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3886200" y="3809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lligraphy"/>
                <a:ea typeface="Arial"/>
              </a:rPr>
              <a:t>on th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1752480" y="4114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5"/>
          <p:cNvSpPr/>
          <p:nvPr/>
        </p:nvSpPr>
        <p:spPr>
          <a:xfrm>
            <a:off x="7772400" y="4343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l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5181480" y="4952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990720" y="2057400"/>
            <a:ext cx="678168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erlin Sans FB Demi"/>
              </a:rPr>
              <a:t>THANK YOU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317520" y="933480"/>
            <a:ext cx="8674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540640" cy="39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219320" y="2514600"/>
          <a:ext cx="6095880" cy="3774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83808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Many adverbs end with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. You make these adverbs by adding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 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 adjective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09480" y="2666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Some words that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are not adverbs. Some adjectives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too. For Exampl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1.Sam was feeling very lon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2.She was wearing a lovely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3.It was a very livel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838080" y="1828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Kinds of Adverb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Man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urpose/Rea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in which manner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re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n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shows how many times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the purpose or reason for the a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0" y="2192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Quantity/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Affirmation /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038480" y="2133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It shows how much or in what degree or to what ex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Which says yes if it is yes and no if it is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685800" y="9144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Monotype Corsiva"/>
                <a:ea typeface="Arial"/>
              </a:rPr>
              <a:t>Kinds of Ad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18584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600200" y="3581280"/>
            <a:ext cx="63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boys are play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upstair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dog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in the  garden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’re go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 NewYork Cit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n our school tr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t’s very sunny but c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32440" y="762120"/>
            <a:ext cx="27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Calligraphy"/>
                <a:ea typeface="Arial"/>
              </a:rPr>
              <a:t>Adverbs of  Pl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523880" y="1219320"/>
            <a:ext cx="67820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re?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685800" y="0"/>
            <a:ext cx="84582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Adverb of places</a:t>
            </a:r>
            <a:r>
              <a:rPr b="0" lang="en-US" sz="3600" spc="-1" strike="noStrike">
                <a:solidFill>
                  <a:srgbClr val="d339bd"/>
                </a:solidFill>
                <a:latin typeface="Lucida Calligraph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’ve lived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for about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nglish and German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lose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s mark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ill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n b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is children 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everywher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with him</a:t>
            </a:r>
            <a:r>
              <a:rPr b="0" lang="en-US" sz="3600" spc="-1" strike="noStrike">
                <a:solidFill>
                  <a:srgbClr val="00b05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areth</dc:creator>
  <dc:description/>
  <dc:language>en-US</dc:language>
  <cp:lastModifiedBy>RomaK</cp:lastModifiedBy>
  <dcterms:modified xsi:type="dcterms:W3CDTF">2015-09-02T09:30:51Z</dcterms:modified>
  <cp:revision>89</cp:revision>
  <dc:subject/>
  <dc:title>Adverbs                                  by your friends</dc:title>
</cp:coreProperties>
</file>