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7CAC-59C8-4DEF-AC4C-E4AA9A87A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E6C6-06CC-4195-9ABA-61A01A42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40B-EA3C-4AA4-A288-7010FB06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F49-8B30-4BA9-84D2-DFC5EE6A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398-54D0-4358-901E-53636D0E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4B2D-CA00-4FD9-A684-0A242AE9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F9A1-6CEE-4835-BE65-AB61EE0C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2FE2-CB9B-4AE0-9ECC-1167D321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0246-B85D-4D7A-95B7-5EEA687C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4C88-7356-4212-9F2F-29E2CD60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78E2-660D-4A8A-9C5D-DEC6A3EC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057E-AEAE-42C0-A8A8-B8D87EC0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2E0-89BC-4525-B561-71B95615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4E4B-BE9D-4725-A820-9099311C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CD10-2131-4F09-B606-9DBB052C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736D-C6C6-4B86-849C-2ACB52B5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0787-A871-46A7-9A11-407882F5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DB15-71CD-4657-9CC0-2A418AA9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CBD8E-2D71-475B-BAFF-1E7975B1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51B5F-014C-4D92-B546-531CEB7D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8EF2D-CE60-44D4-91D1-FB6E1837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CD365-E805-4D8F-A20E-59B14344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9DB8B-6168-4ABE-8A50-77879025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D39-A2F0-41F6-A971-E4E215C5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E3276-AF9D-42B6-A759-9FEB7245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8FCAE-79A3-443A-A460-D27078C1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1085D-F786-4D47-B385-C0CABD6D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F38E-B0EE-46ED-8A72-9D0BBB34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37E53-4E4A-46A4-8169-27750A66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2DA23-6963-411C-A5E5-13902C77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214A-2E40-487A-9E89-4FD4CDBC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D898E-F7E3-4BCC-B872-2193271B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DBA32-994D-4142-BE05-B0A71CD5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8652F-01F1-478C-94F7-CE313DC4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CB2-F3AC-44D1-A0AC-8E5737C9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840FF-15DF-4227-ABED-402B0E9D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7C4D5-8D1E-490F-9406-483278F4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6E079-5F77-474A-990B-883AA695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7147E-4694-45F2-BB1F-9402645A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CE4A2-5E66-4763-ADA3-5BFEE37A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51FA0-BB42-4E7C-804E-3C0DFEFD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FEC67-EEA5-43EF-A39D-D7A6CA35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5EA3B-5247-4D85-8E5F-E3AE3895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7CF97-22FA-46D6-A0E8-128D73EE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9AF-2D4F-4F59-A0AD-A31C0988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8ED-7C40-4862-9AAB-E487B182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8925-4AAC-4AA8-99D1-803DF14E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695-C5C5-45BC-B0ED-9B1BFAA0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DAF-94D1-47AE-9B70-DB063F64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2799-35A0-423C-BB68-2F75713C35E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022F-6D11-49ED-9223-208303DAD4B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877C-50FF-4E04-979B-8F0E23B1331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BBDF-9F60-4F0E-BA87-0EDBE4F5FD6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0" y="1328760"/>
            <a:ext cx="8308800" cy="271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Picture1.jpg"/>
          <p:cNvPicPr/>
          <p:nvPr/>
        </p:nvPicPr>
        <p:blipFill>
          <a:blip r:embed="rId2"/>
          <a:stretch/>
        </p:blipFill>
        <p:spPr>
          <a:xfrm>
            <a:off x="7518240" y="1600200"/>
            <a:ext cx="162576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Picture1.jpg"/>
          <p:cNvPicPr/>
          <p:nvPr/>
        </p:nvPicPr>
        <p:blipFill>
          <a:blip r:embed="rId3"/>
          <a:stretch/>
        </p:blipFill>
        <p:spPr>
          <a:xfrm>
            <a:off x="0" y="4675320"/>
            <a:ext cx="16257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114300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1693080" y="3962520"/>
            <a:ext cx="69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girls answered all the ques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orrect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He was driv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areless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plane lan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afe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Ramu plays guit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killful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1066680" y="914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Lucida Calligraphy"/>
                <a:ea typeface="Arial"/>
              </a:rPr>
              <a:t>Adverbs of Mann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1066680" y="1981080"/>
            <a:ext cx="7894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describe the way people do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5"/>
          <a:stretch/>
        </p:blipFill>
        <p:spPr>
          <a:xfrm>
            <a:off x="6858000" y="4041720"/>
            <a:ext cx="2286000" cy="256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Program Files\Microsoft Office\CLIPART\PUB60COR\AG00165_.GIF"/>
          <p:cNvPicPr/>
          <p:nvPr/>
        </p:nvPicPr>
        <p:blipFill>
          <a:blip r:embed="rId6"/>
          <a:stretch/>
        </p:blipFill>
        <p:spPr>
          <a:xfrm flipH="1" rot="21289200">
            <a:off x="5586120" y="563364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838080" y="304920"/>
            <a:ext cx="8305920" cy="59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         </a:t>
            </a: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Adverb of manner</a:t>
            </a:r>
            <a:r>
              <a:rPr b="1" i="1" lang="en-US" sz="3200" spc="-1" strike="noStrike">
                <a:solidFill>
                  <a:srgbClr val="0070c0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y watch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flower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beauti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mad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She seem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ai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team play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wonder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502640" y="685800"/>
            <a:ext cx="43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1447920" y="16765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how often an action is d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frequency</a:t>
            </a: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1262160" y="38862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1696680" y="4648320"/>
            <a:ext cx="672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childr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go to school on the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make that mistake agai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 clean my bedro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every d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Dad polishes his sho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wice a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1414440" y="3505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2007000" y="4191120"/>
            <a:ext cx="668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train h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read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 moved into our new ho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last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ur favorite T.V. program star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t 6’o cloc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m going to my new schoo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554120" y="76212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Tim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295280" y="1523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n?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2"/>
          <p:cNvSpPr/>
          <p:nvPr/>
        </p:nvSpPr>
        <p:spPr>
          <a:xfrm>
            <a:off x="2414880" y="106668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d050"/>
                </a:solidFill>
                <a:latin typeface="comic"/>
                <a:ea typeface="Arial Unicode MS"/>
              </a:rPr>
              <a:t>Adverbs Of 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838080" y="2286000"/>
            <a:ext cx="83059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Maiandra GD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We shall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now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 begin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alled here a 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ew minutes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ago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I have spoken to him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yesterda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omes here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Mr. Guptha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ormerl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lived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quantity or degre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t  shows how much, or in what degree or to what exten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w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careles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rather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bus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prepare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se mango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alm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rip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reas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iandra GD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adverb which tells about a reason is called adverb of reas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nc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unable to refute the charg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</a:t>
            </a:r>
            <a:r>
              <a:rPr b="0" i="1" lang="en-US" sz="3200" spc="-1" strike="noStrike">
                <a:solidFill>
                  <a:srgbClr val="000000"/>
                </a:solidFill>
                <a:latin typeface="Lucida Calligraphy"/>
              </a:rPr>
              <a:t>t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f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eft school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628560"/>
            <a:ext cx="8656560" cy="5851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308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04920" y="106668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Lucida Calligraphy"/>
              </a:rPr>
              <a:t>Some examples of adverbs of different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rtoise walks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low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(Mann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will have our Semester exam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April 1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Lucida Calligraphy"/>
              </a:rPr>
              <a:t>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Ti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accident happened nea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Highw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la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t least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twice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 week I used to go for Temple(Frequenc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all go for a picnic just for 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njoyment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urp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Degree /Quant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ure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you are mistaken(Affirmation/Neg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0" y="1450800"/>
            <a:ext cx="8613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609480" y="1143000"/>
            <a:ext cx="81536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His face was dirty and he was dressed ----------------------.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2. Have you---------------- ---------------------- been in a plane?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3. She was so ill that she missed school -------------------------. 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4. I did some homework last night and finished it--------------------.(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5. We went--------------------------------- to play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6. Dad takes the dog for a walk ------------------------------.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7. Sally left her pencil case--------------------------------- 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8. Speak -----------------------------so everyone can hear you. 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9. It was a fine day and the children played in the garden ------.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10. “Go and do your homework.” “I’ve------------------------done it.” (tim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28600" y="579132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(outside        this morning        ever                   on the bus        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all day          in old clothes       for a week        already             every 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207440" y="685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alligraphy"/>
                <a:ea typeface="Arial"/>
              </a:rPr>
              <a:t>Try this exercis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715000" y="1066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in old clo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2666880" y="1600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48640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for a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6757560" y="274320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this mo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2209680" y="3276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572000" y="35812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y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3886200" y="3809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lligraphy"/>
                <a:ea typeface="Arial"/>
              </a:rPr>
              <a:t>on the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1752480" y="4114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5"/>
          <p:cNvSpPr/>
          <p:nvPr/>
        </p:nvSpPr>
        <p:spPr>
          <a:xfrm>
            <a:off x="7772400" y="4343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l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5181480" y="4952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>
            <a:off x="990720" y="2057400"/>
            <a:ext cx="6781680" cy="22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erlin Sans FB Demi"/>
              </a:rPr>
              <a:t>THANK YOU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317520" y="933480"/>
            <a:ext cx="86742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540640" cy="394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1219320" y="2514600"/>
          <a:ext cx="6095880" cy="37749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3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83808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Many adverbs end with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. You make these adverbs by adding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 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 adjective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09480" y="2666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Some words that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are not adverbs. Some adjectives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too. For Example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1.Sam was feeling very lon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2.She was wearing a lovely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3.It was a very livel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838080" y="1828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Kinds of Adverb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Man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urpose/Rea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in which manner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re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n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shows how many times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the purpose or reason for the a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0" y="2192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Quantity/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Affirmation /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038480" y="2133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It shows how much or in what degree or to what ex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Which says yes if it is yes and no if it is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685800" y="9144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Monotype Corsiva"/>
                <a:ea typeface="Arial"/>
              </a:rPr>
              <a:t>Kinds of Ad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185840" y="28954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600200" y="3581280"/>
            <a:ext cx="63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boys are play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upstair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dog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in the  garden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’re go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 NewYork Cit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n our school tr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t’s very sunny but c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32440" y="762120"/>
            <a:ext cx="27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Calligraphy"/>
                <a:ea typeface="Arial"/>
              </a:rPr>
              <a:t>Adverbs of  Pla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1523880" y="1219320"/>
            <a:ext cx="67820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re?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685800" y="0"/>
            <a:ext cx="845820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Adverb of places</a:t>
            </a:r>
            <a:r>
              <a:rPr b="0" lang="en-US" sz="3600" spc="-1" strike="noStrike">
                <a:solidFill>
                  <a:srgbClr val="d339bd"/>
                </a:solidFill>
                <a:latin typeface="Lucida Calligraph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’ve lived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for about two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nglish and German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lose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s mark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ill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n b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is children 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everywher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with him</a:t>
            </a:r>
            <a:r>
              <a:rPr b="0" lang="en-US" sz="3600" spc="-1" strike="noStrike">
                <a:solidFill>
                  <a:srgbClr val="00b05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areth</dc:creator>
  <dc:description/>
  <dc:language>en-US</dc:language>
  <cp:lastModifiedBy>RomaK</cp:lastModifiedBy>
  <dcterms:modified xsi:type="dcterms:W3CDTF">2015-09-02T09:30:51Z</dcterms:modified>
  <cp:revision>89</cp:revision>
  <dc:subject/>
  <dc:title>Adverbs                                  by your friends</dc:title>
</cp:coreProperties>
</file>