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7.png" ContentType="image/png"/>
  <Override PartName="/ppt/media/image14.gif" ContentType="image/gif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835D-E163-4A85-9067-41CAA875EA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verb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irls answered all the questions correct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driving careless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ne landed saf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mu plays guitar skillfu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Mann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describe the way people do th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irls answered all the questions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driving careles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ne landed saf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mu plays guitar skill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Mann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describe the way people do th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 of mann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atched Carefu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lower was beautifully made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seemed faint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am played wonderfu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 of mann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atched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lower was beautifully made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seemed fain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am played wonder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how often an action is don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frequ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ldren always go to school on the b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ll never make that mistake again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lean my bedroom every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polishes his shoes twice a we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how often an action is don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freq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ldren always go to school on the b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ll never make that mistake again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lean my bedroom every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polishes his shoes twice a we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in has already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moved into our new house last we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favorite T.V. program starts at 6’o clo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going to my new school tomorr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Tim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when?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in has already le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moved into our new house last we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favorite T.V. program starts at 6’o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going to my new school tomor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when?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w  begin to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alled here a few minutes ag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have spoken to him yeste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omes here dai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Guptha formerly lived 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w  begin to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alled here a few minute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have spoken to him yester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omes here da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Guptha formerly liv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quantity or 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shows how much, or in what degree or to what ext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too carel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a is very storm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rather bus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fully prepa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mangos are almost ri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quantity or 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shows how much, or in what degree or to what ex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too carel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a is very storm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rather bus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fully prepa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mangos are almost ri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rea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dverb which tells about a reason is called adverb of rea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is hence unable to refute the char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herefore left scho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rea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dverb which tells about a reason is called adverb of rea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is hence unable to refute th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herefore left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affirmation and nega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ays yes if it is yes and no if it is no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 don’t know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urely you are mistake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He certainly wen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affirmation and nega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ays yes if it is yes and no if it is no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 don’t know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urely you are mistake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He certainly wen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Adverbs:-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.She sings sweet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.He speaks quite clear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3.She shouts loud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4. She smiled cheerful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5.The  traffic was moving slow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6.She writes neat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.We waited patiently to see the doctor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Adverbs:-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.She sings sweet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.He speaks quite clear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3.She shouts loud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4. She smiled cheerful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5.The  traffic was moving slow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6.She writes neat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.We waited patiently to see the doctor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examples of adverbs of different kind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rtoise walks  slowly (Mann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have our Semester exams on April 1st week(Tim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cident happened near the Highway(Plac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least  twice a week I used to go for Temple(Frequenc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ll go for a picnic just for enjoyment(Purpos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a is very stormy(Degree /Quantit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ely you are mistaken(Affirmation/Negati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examples of adverbs of different kin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rtoise walks  slowly (Mann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have our Semester exams on April 1st week(Tim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cident happened near the Highway(Plac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least  twice a week I used to go for Temple(Frequenc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ll go for a picnic just for enjoyment(Purpos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a is very stormy(Degree /Quantit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ely you are mistaken(Affirmation/Nega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parts of speech adverb play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important role.  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Let us see what is it’s role …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parts of speech adverb play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important role.  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Let us see what is it’s role ………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face was dirty and he was dressed ----------------------.(mann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Have you---------------- ---------------------- been in a plane? (frequenc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She was so ill that she missed school -------------------------. (dur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I did some homework last night and finished it--------------------.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We went--------------------------------- to play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Dad takes the dog for a walk ------------------------------. (frequenc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ally left her pencil case--------------------------------- 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Speak -----------------------------so everyone can hear you. (mann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It was a fine day and the children played in the garden ------.(dur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“Go and do your homework.” “I’ve------------------------done it.” 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utside        this morning        ever                   on the bus        clear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ay          in old clothes       for a week        already             every da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 exercise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ld clot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s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b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r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rea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face was dirty and he was dressed ----------------------.(mann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Have you---------------- ---------------------- been in a plane? (frequenc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She was so ill that she missed school -------------------------. (du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I did some homework last night and finished it--------------------.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We went--------------------------------- to play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Dad takes the dog for a walk ------------------------------. (frequenc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ally left her pencil case--------------------------------- 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Speak -----------------------------so everyone can hear you. (mann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It was a fine day and the children played in the garden ------.(du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“Go and do your homework.” “I’ve------------------------done it.” 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utside        this morning        ever                   on the bus        cl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ay          in old clothes       for a week        already             every d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 exercis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ld clo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b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:- Basically, most adverbs tell you how, where or when some thing is done. In other words, they describe the manner, place or time of an 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:- Basically, most adverbs tell you how, where or when some thing is done. In other words, they describe the manner, place or time of a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ly adverbs are form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from adjectives. Some are below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ly adverbs are form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from adjectives. Some are below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adverbs end with ly. You make these adverbs by adding ly to adject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words that end in ly are not adverbs. Some adjectives end in ly too. For Example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Sam was feeling very lon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She was wearing a lovely dr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It was a very lively pa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adverbs end with ly. You make these adverbs by adding ly to adjec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words that end in ly are not adverbs. Some adjectives end in ly too. For Example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Sam was feeling very lon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She was wearing a lovely d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It was a very lively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Ad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pose/Rea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in which manner an action is d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where an action is d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when an action is d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hows how many times an action is d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the purpose or reason for the 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Ad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pose/Rea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in which manner an action is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where an action is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when an action is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hows how many times an action is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the purpose or reason for the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ntity/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irmation /Neg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hows how much or in what degree or to what ext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ays yes if it is yes and no if it is 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Ad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ntity/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irmation /Ne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hows how much or in what degree or to what ex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ays yes if it is yes and no if it is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Ad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s are playing upst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g is in the  gar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to NewYork City on our school tri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very sunny but cold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 Pla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where?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pl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s are playing upst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g is in the  ga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to NewYork City on our school tr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very sunny but cold out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 Pla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where?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 of plac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ve lived here for about two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and German are closely rel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mark still in b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children go everywhere with hi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 of pl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ve lived here for about two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and German are closely rel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mark still in b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children go everywhere with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4EA4-EA7B-4BF7-9A7E-12A754DE0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C494-31AF-42BF-BB9D-061CA575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5CD2-6E8C-411B-BED8-50431CC90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45B5-1A8B-4187-B9B7-9B3FCA29F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7F47-95ED-4D9E-AF03-2DEB9ED1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BB94-A855-4D1A-B5CE-67C4B145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08C7-8BA4-4DBE-BF90-7DF4136A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C300-ADC3-4F44-9D55-D34EA3F3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6AB8-9120-445F-96DF-AF280F31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A808-9B45-4041-9486-948A2674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CEF0-884D-4D8C-AA85-1197396F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BCB3-F1D3-45E6-93CC-4864101C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1529-F4BD-400D-B827-B7BEA1AC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9F9D-C07B-48B3-9415-77281464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EE6E-DEFF-4E87-8F63-7626E4DF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B1DF-9071-4C2D-88F4-AAB653B33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B6CF-50F8-4763-8915-DCF0D5DB3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54CB9-8EB9-486C-B234-2CC3F9433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C8DA7-8D58-4C09-8C26-85DF635A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5B77C-47F5-4216-92D8-E9B8422B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B85D6-9A19-45B1-B351-4F441B5F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77F4F-A7FF-465F-9B24-35C6BE03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D784-51D2-4782-A801-E80B25A5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EEF7A-0750-4F65-8E22-699D659C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804D0-CEC2-4F72-A756-7FE65216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C42E8-82ED-461D-AC8A-A575A14C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F65BC-DAF7-435C-837D-7D455B7E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5309C-C42B-42B5-81E1-1C013B0F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EBD26-BBB6-4232-8506-8B14F507C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2D7D7-3A9B-47E2-ABCC-D74AD3B18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05376-2B78-4518-9B26-06AFA3F26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E6FB6-C779-460E-B936-3377B276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24A2E-AFB0-43C0-B586-19DD76B6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5253-CCAB-4480-8159-3170C45C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F5159-0803-414E-A9DF-823E159E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A82BA-F6C7-424B-B2D3-DE4B556F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12053-7A8F-4D2F-8560-C33F0D91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C90EA-4530-4CAA-B685-D47D2E1E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CF4A3-7743-4FC1-8686-E697937E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6C283-12EE-4215-BED0-82357AAB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CC131-1080-4647-B569-389E391A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706A9-6350-4D31-A0E3-1B2745FA0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43F15-21DF-4E89-B0C5-52777606E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978B-9C59-4DD2-8CF3-EFABAA82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42C5-1BBD-4D0F-BCF1-FEA1BB7B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0D73-1080-4187-8B36-8C3C7C6C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84D4-E6EC-4E52-8015-DA06D73C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8287-8FFD-47B7-8AD5-5C3AF0E5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7415-AD4C-4562-BFAB-30872B34D65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C7FE-948B-4E31-8EB9-288D826C049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6D73-860D-4F8E-889B-49544AA6C77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D39B-FF4F-43DC-809F-8ACFD1E814E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0" y="1328760"/>
            <a:ext cx="8308800" cy="2712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Picture1.jpg"/>
          <p:cNvPicPr/>
          <p:nvPr/>
        </p:nvPicPr>
        <p:blipFill>
          <a:blip r:embed="rId2"/>
          <a:stretch/>
        </p:blipFill>
        <p:spPr>
          <a:xfrm>
            <a:off x="7518240" y="1600200"/>
            <a:ext cx="1625760" cy="20574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Picture1.jpg"/>
          <p:cNvPicPr/>
          <p:nvPr/>
        </p:nvPicPr>
        <p:blipFill>
          <a:blip r:embed="rId3"/>
          <a:stretch/>
        </p:blipFill>
        <p:spPr>
          <a:xfrm>
            <a:off x="0" y="4675320"/>
            <a:ext cx="162576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3"/>
          <p:cNvSpPr/>
          <p:nvPr/>
        </p:nvSpPr>
        <p:spPr>
          <a:xfrm>
            <a:off x="1143000" y="3200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1693080" y="3962520"/>
            <a:ext cx="694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girls answered all the question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correct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He was driv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careless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plane land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safe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Ramu plays guita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skillful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5"/>
          <p:cNvSpPr/>
          <p:nvPr/>
        </p:nvSpPr>
        <p:spPr>
          <a:xfrm>
            <a:off x="1066680" y="9144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Lucida Calligraphy"/>
                <a:ea typeface="Arial"/>
              </a:rPr>
              <a:t>Adverbs of Manner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6"/>
          <p:cNvSpPr/>
          <p:nvPr/>
        </p:nvSpPr>
        <p:spPr>
          <a:xfrm>
            <a:off x="1066680" y="1981080"/>
            <a:ext cx="78948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Some adverbs and adverb phrases describe the way people do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" descr=""/>
          <p:cNvPicPr/>
          <p:nvPr/>
        </p:nvPicPr>
        <p:blipFill>
          <a:blip r:embed="rId5"/>
          <a:stretch/>
        </p:blipFill>
        <p:spPr>
          <a:xfrm>
            <a:off x="6858000" y="4041720"/>
            <a:ext cx="2286000" cy="2560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Program Files\Microsoft Office\CLIPART\PUB60COR\AG00165_.GIF"/>
          <p:cNvPicPr/>
          <p:nvPr/>
        </p:nvPicPr>
        <p:blipFill>
          <a:blip r:embed="rId6"/>
          <a:stretch/>
        </p:blipFill>
        <p:spPr>
          <a:xfrm flipH="1" rot="21289200">
            <a:off x="5586120" y="5633640"/>
            <a:ext cx="1600200" cy="609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"/>
          <p:cNvSpPr/>
          <p:nvPr/>
        </p:nvSpPr>
        <p:spPr>
          <a:xfrm>
            <a:off x="838080" y="304920"/>
            <a:ext cx="8305920" cy="59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Lucida Calligraphy"/>
              </a:rPr>
              <a:t>         </a:t>
            </a:r>
            <a:r>
              <a:rPr b="0" lang="en-US" sz="4400" spc="-1" strike="noStrike">
                <a:solidFill>
                  <a:srgbClr val="ff0000"/>
                </a:solidFill>
                <a:latin typeface="Lucida Calligraphy"/>
              </a:rPr>
              <a:t>Adverb of manner</a:t>
            </a:r>
            <a:r>
              <a:rPr b="1" i="1" lang="en-US" sz="3200" spc="-1" strike="noStrike">
                <a:solidFill>
                  <a:srgbClr val="0070c0"/>
                </a:solidFill>
                <a:latin typeface="Lucida Calligraph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y watch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Carefu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 flower w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beautifully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made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She seem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fain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 team play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wonderfu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1502640" y="685800"/>
            <a:ext cx="433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alligraphy"/>
                <a:ea typeface="Arial"/>
              </a:rPr>
              <a:t>Adverbs of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"/>
          <p:cNvSpPr/>
          <p:nvPr/>
        </p:nvSpPr>
        <p:spPr>
          <a:xfrm>
            <a:off x="1447920" y="16765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Some adverbs and adverb phrases answer the question “how often an action is do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y are called adverbs of frequency</a:t>
            </a: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3"/>
          <p:cNvSpPr/>
          <p:nvPr/>
        </p:nvSpPr>
        <p:spPr>
          <a:xfrm>
            <a:off x="1262160" y="38862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Exampl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1696680" y="4648320"/>
            <a:ext cx="672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childr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go to school on the b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I’l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never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make that mistake agai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I clean my bedro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every da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Dad polishes his sho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twice a week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1"/>
          <p:cNvSpPr/>
          <p:nvPr/>
        </p:nvSpPr>
        <p:spPr>
          <a:xfrm>
            <a:off x="1414440" y="35053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Exampl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"/>
          <p:cNvSpPr/>
          <p:nvPr/>
        </p:nvSpPr>
        <p:spPr>
          <a:xfrm>
            <a:off x="2007000" y="4191120"/>
            <a:ext cx="6687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train ha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alread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le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We moved into our new hou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last week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Our favorite T.V. program star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at 6’o clock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I’m going to my new schoo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tomorrow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3"/>
          <p:cNvSpPr/>
          <p:nvPr/>
        </p:nvSpPr>
        <p:spPr>
          <a:xfrm>
            <a:off x="1554120" y="762120"/>
            <a:ext cx="33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alligraphy"/>
                <a:ea typeface="Arial"/>
              </a:rPr>
              <a:t>Adverbs of Tim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1295280" y="1523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Some adverbs and adverb phrases answer the question “when?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y are called adverbs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2"/>
          <p:cNvSpPr/>
          <p:nvPr/>
        </p:nvSpPr>
        <p:spPr>
          <a:xfrm>
            <a:off x="2414880" y="1066680"/>
            <a:ext cx="449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2d050"/>
                </a:solidFill>
                <a:latin typeface="comic"/>
                <a:ea typeface="Arial Unicode MS"/>
              </a:rPr>
              <a:t>Adverbs Of 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838080" y="2286000"/>
            <a:ext cx="830592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0d0d"/>
                </a:solidFill>
                <a:latin typeface="Maiandra GD"/>
                <a:ea typeface="Arial Unicode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We shall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now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 begin to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He called here a 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few minutes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ago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I have spoken to him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yesterday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He comes here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da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Mr. Guptha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formerly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lived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Lucida Calligraphy"/>
                <a:ea typeface="Tahoma"/>
              </a:rPr>
              <a:t>Adverbs of quantity or degre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t  shows how much, or in what degree or to what extent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He w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to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careles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 sea is ver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stormy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 am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rather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busy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 am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fully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prepared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se mangos 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almos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ripe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Lucida Calligraphy"/>
                <a:ea typeface="Tahoma"/>
              </a:rPr>
              <a:t>Adverbs of reas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aiandra GD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 adverb which tells about a reason is called adverb of reason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He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hence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unable to refute the charge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He </a:t>
            </a:r>
            <a:r>
              <a:rPr b="0" i="1" lang="en-US" sz="3200" spc="-1" strike="noStrike">
                <a:solidFill>
                  <a:srgbClr val="000000"/>
                </a:solidFill>
                <a:latin typeface="Lucida Calligraphy"/>
              </a:rPr>
              <a:t>t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herefor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left school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Title 1" descr=""/>
          <p:cNvPicPr/>
          <p:nvPr/>
        </p:nvPicPr>
        <p:blipFill>
          <a:blip r:embed="rId1"/>
          <a:stretch/>
        </p:blipFill>
        <p:spPr>
          <a:xfrm>
            <a:off x="212760" y="628560"/>
            <a:ext cx="8656560" cy="5851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30880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Monotype Corsiva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304920" y="1066680"/>
            <a:ext cx="8153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cc"/>
                </a:solidFill>
                <a:latin typeface="Lucida Calligraphy"/>
              </a:rPr>
              <a:t>Some examples of adverbs of different ki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Tortoise walks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slow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(Mann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We will have our Semester exams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April 1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Lucida Calligraphy"/>
              </a:rPr>
              <a:t>s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 week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(Tim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The accident happened near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Highwa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(Plac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At least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twice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a week I used to go for Temple(Frequenc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We all go for a picnic just for 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njoyment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(Purpo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The sea is ve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storm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(Degree /Quantit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Surely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you are mistaken(Affirmation/Neg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Title 1" descr=""/>
          <p:cNvPicPr/>
          <p:nvPr/>
        </p:nvPicPr>
        <p:blipFill>
          <a:blip r:embed="rId1"/>
          <a:stretch/>
        </p:blipFill>
        <p:spPr>
          <a:xfrm>
            <a:off x="0" y="1450800"/>
            <a:ext cx="861372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609480" y="1143000"/>
            <a:ext cx="815364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His face was dirty and he was dressed ----------------------.(m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2. Have you---------------- ---------------------- been in a plane? (freque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3. She was so ill that she missed school -------------------------. (du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4. I did some homework last night and finished it--------------------.(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5. We went--------------------------------- to play. (pl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6. Dad takes the dog for a walk ------------------------------. (freque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7. Sally left her pencil case--------------------------------- . (pl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8. Speak -----------------------------so everyone can hear you. (m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9. It was a fine day and the children played in the garden ------.(du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10. “Go and do your homework.” “I’ve------------------------done it.” (tim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228600" y="5791320"/>
            <a:ext cx="822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alligraphy"/>
                <a:ea typeface="Arial"/>
              </a:rPr>
              <a:t>(outside        this morning        ever                   on the bus        clea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alligraphy"/>
                <a:ea typeface="Arial"/>
              </a:rPr>
              <a:t>all day          in old clothes       for a week        already             every da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207440" y="68580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Calligraphy"/>
                <a:ea typeface="Arial"/>
              </a:rPr>
              <a:t>Try this exercis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5715000" y="10666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Lucida Calligraphy"/>
                <a:ea typeface="Arial"/>
              </a:rPr>
              <a:t>in old clot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8"/>
          <p:cNvSpPr/>
          <p:nvPr/>
        </p:nvSpPr>
        <p:spPr>
          <a:xfrm>
            <a:off x="2666880" y="16002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e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9"/>
          <p:cNvSpPr/>
          <p:nvPr/>
        </p:nvSpPr>
        <p:spPr>
          <a:xfrm>
            <a:off x="548640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Lucida Calligraphy"/>
                <a:ea typeface="Arial"/>
              </a:rPr>
              <a:t>for a we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0"/>
          <p:cNvSpPr/>
          <p:nvPr/>
        </p:nvSpPr>
        <p:spPr>
          <a:xfrm>
            <a:off x="6757560" y="2743200"/>
            <a:ext cx="14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this mo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1"/>
          <p:cNvSpPr/>
          <p:nvPr/>
        </p:nvSpPr>
        <p:spPr>
          <a:xfrm>
            <a:off x="2209680" y="32767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out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2"/>
          <p:cNvSpPr/>
          <p:nvPr/>
        </p:nvSpPr>
        <p:spPr>
          <a:xfrm>
            <a:off x="4572000" y="358128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every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3"/>
          <p:cNvSpPr/>
          <p:nvPr/>
        </p:nvSpPr>
        <p:spPr>
          <a:xfrm>
            <a:off x="3886200" y="3809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lligraphy"/>
                <a:ea typeface="Arial"/>
              </a:rPr>
              <a:t>on the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4"/>
          <p:cNvSpPr/>
          <p:nvPr/>
        </p:nvSpPr>
        <p:spPr>
          <a:xfrm>
            <a:off x="1752480" y="41148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clea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5"/>
          <p:cNvSpPr/>
          <p:nvPr/>
        </p:nvSpPr>
        <p:spPr>
          <a:xfrm>
            <a:off x="7772400" y="43434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all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6"/>
          <p:cNvSpPr/>
          <p:nvPr/>
        </p:nvSpPr>
        <p:spPr>
          <a:xfrm>
            <a:off x="5181480" y="49528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alrea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WordArt 2"/>
          <p:cNvSpPr txBox="1"/>
          <p:nvPr/>
        </p:nvSpPr>
        <p:spPr>
          <a:xfrm>
            <a:off x="990720" y="2057400"/>
            <a:ext cx="6781680" cy="22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Berlin Sans FB Demi"/>
              </a:rPr>
              <a:t>THANK YOU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Berlin Sans FB Demi"/>
              <a:ea typeface="Berlin Sans FB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317520" y="933480"/>
            <a:ext cx="867420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Title 1" descr=""/>
          <p:cNvPicPr/>
          <p:nvPr/>
        </p:nvPicPr>
        <p:blipFill>
          <a:blip r:embed="rId1"/>
          <a:stretch/>
        </p:blipFill>
        <p:spPr>
          <a:xfrm>
            <a:off x="457200" y="628560"/>
            <a:ext cx="8540640" cy="394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8" name=""/>
          <p:cNvGraphicFramePr/>
          <p:nvPr/>
        </p:nvGraphicFramePr>
        <p:xfrm>
          <a:off x="1219320" y="2514600"/>
          <a:ext cx="6095880" cy="377496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3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Constantia"/>
                        </a:rPr>
                        <a:t>Adjec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Constantia"/>
                        </a:rPr>
                        <a:t>Ad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i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ind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p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ppi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77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onder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onderfu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o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oud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23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d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06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auti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autifu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9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e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eet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2"/>
          <p:cNvSpPr/>
          <p:nvPr/>
        </p:nvSpPr>
        <p:spPr>
          <a:xfrm>
            <a:off x="838080" y="60948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Many adverbs end with 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. You make these adverbs by adding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 ly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to adjectives</a:t>
            </a: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609480" y="266688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Some words that end in 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are not adverbs. Some adjectives end in 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too. For Example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1.Sam was feeling very lon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2.She was wearing a lovely 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3.It was a very lively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838080" y="1828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alligraphy"/>
                <a:ea typeface="Arial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Monotype Corsiva"/>
              </a:rPr>
              <a:t>Kinds of Adverb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Mann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Plac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Purpose/Reas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describes in which manner an action is do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describes where an action is do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describes when an action is do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shows how many times an action is do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describes the purpose or reason for the ac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"/>
          <p:cNvSpPr/>
          <p:nvPr/>
        </p:nvSpPr>
        <p:spPr>
          <a:xfrm>
            <a:off x="0" y="21924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Quantity/De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Affirmation /N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4038480" y="21337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It shows how much or in what degree or to what ex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Which says yes if it is yes and no if it is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685800" y="91440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Monotype Corsiva"/>
                <a:ea typeface="Arial"/>
              </a:rPr>
              <a:t>Kinds of Adverb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1"/>
          <p:cNvSpPr/>
          <p:nvPr/>
        </p:nvSpPr>
        <p:spPr>
          <a:xfrm>
            <a:off x="1185840" y="289548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Lucida Calligraphy"/>
                <a:ea typeface="Arial"/>
              </a:rPr>
              <a:t>Exampl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2"/>
          <p:cNvSpPr/>
          <p:nvPr/>
        </p:nvSpPr>
        <p:spPr>
          <a:xfrm>
            <a:off x="1600200" y="3581280"/>
            <a:ext cx="631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boys are play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upstairs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dog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in the  garden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We’re go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to NewYork City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on our school tr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It’s very sunny but col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outside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32440" y="762120"/>
            <a:ext cx="271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Calligraphy"/>
                <a:ea typeface="Arial"/>
              </a:rPr>
              <a:t>Adverbs of  Plac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1523880" y="1219320"/>
            <a:ext cx="678204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Some adverbs and adverb phrases answer the question “where?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y are called adverbs of pl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685800" y="0"/>
            <a:ext cx="8458200" cy="54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Lucida Calligraphy"/>
              </a:rPr>
              <a:t>             </a:t>
            </a:r>
            <a:r>
              <a:rPr b="0" lang="en-US" sz="4000" spc="-1" strike="noStrike">
                <a:solidFill>
                  <a:srgbClr val="ff0000"/>
                </a:solidFill>
                <a:latin typeface="Lucida Calligraphy"/>
              </a:rPr>
              <a:t>Adverb of places</a:t>
            </a:r>
            <a:r>
              <a:rPr b="0" lang="en-US" sz="3600" spc="-1" strike="noStrike">
                <a:solidFill>
                  <a:srgbClr val="d339bd"/>
                </a:solidFill>
                <a:latin typeface="Lucida Calligraph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’ve lived</a:t>
            </a:r>
            <a:r>
              <a:rPr b="1" lang="en-US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here</a:t>
            </a:r>
            <a:r>
              <a:rPr b="1" lang="en-US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for about two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English and German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closely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rel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s mark</a:t>
            </a:r>
            <a:r>
              <a:rPr b="1" lang="en-US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still</a:t>
            </a:r>
            <a:r>
              <a:rPr b="1" lang="en-US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n b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His children g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everywhere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with him</a:t>
            </a:r>
            <a:r>
              <a:rPr b="0" lang="en-US" sz="3600" spc="-1" strike="noStrike">
                <a:solidFill>
                  <a:srgbClr val="00b050"/>
                </a:solidFill>
                <a:latin typeface="Lucida Calligraphy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areth</dc:creator>
  <dc:description/>
  <dc:language>en-US</dc:language>
  <cp:lastModifiedBy>RomaK</cp:lastModifiedBy>
  <dcterms:modified xsi:type="dcterms:W3CDTF">2015-09-02T09:30:51Z</dcterms:modified>
  <cp:revision>89</cp:revision>
  <dc:subject/>
  <dc:title>Adverbs                                  by your friends</dc:title>
</cp:coreProperties>
</file>