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2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6.gif" ContentType="image/gif"/>
  <Override PartName="/ppt/media/image15.gif" ContentType="image/gif"/>
  <Override PartName="/ppt/media/image7.jpeg" ContentType="image/jpeg"/>
  <Override PartName="/ppt/media/image10.gif" ContentType="image/gi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C80F-D76C-4598-B614-5A9F5CD5E4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ell or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ell or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links itself to things we like to do, so that when we do them we think of Orange. Even if they are not t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wants to be your frien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links itself to things we like to do, so that when we do them we think of Orange. Even if they are not t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movies, so Orange let us go for f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movies, so Orange let us go for f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Football, so Orange sponsors Liverp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pool (the greatest footb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ever) is sponsored by 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se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Football, so Orange sponsors Liverp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pool (the greatest footb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ever) is sponsored by 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se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mu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Orange have special offers to music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mu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Orange have special offers to music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Orange advert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advertise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s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az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b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where e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Orange advert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advertise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s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az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b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where e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is 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you will never forget th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is 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you will never forget th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7270-F403-4FC6-B9AF-54E4800F5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9C41-51C5-439C-B9D4-A2AB02B4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5F47-A3AE-4C4F-8695-42C347796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132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120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108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132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120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D2DD-5330-48F9-BF1B-7475FC72B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950E-981B-4D1B-BAB7-7A201C7D0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7C86B-654D-45F1-B322-38AABA88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324F-4A0D-4B9A-B1E0-45ED1758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E9A4-F42D-4968-9801-4F2CC0FB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38F0-B427-43D6-993E-93432AFA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2640" y="274680"/>
            <a:ext cx="75438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182F-DCAE-43F1-A17A-173ABD6F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63E0-639B-4A22-91CC-0B9A8B50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1992-9788-480F-9067-B0A57136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4553-FDEE-4D72-810E-373B3457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B840-B125-4FF6-A4B1-C6C8753A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2A22-7FD2-4469-AF0C-956A67D1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4FF2-0C45-4C2B-85CB-42E92B5D9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132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120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8108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132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120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072A-CC5D-4B6D-B354-F5B567160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8D60-58CC-4EA0-9A93-46C2C10D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BF95-54FC-48B2-B657-9A197D60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7325-97D9-47E5-A43A-3533C8AE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2640" y="274680"/>
            <a:ext cx="75438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AD78-E8B6-45C8-B694-BBB5ADEA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E024-21C0-4B47-AB02-B174BE69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7E90-DF41-4A46-BA55-F78BAF0C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03D7-9E0D-48B2-8454-CD3C6093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5e1f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F0EB-D417-4FA6-9AD3-58709776B7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5e1f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C2BF-FA9D-42AC-B215-75A4AB733A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1960" y="357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Advertis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79640" y="4723920"/>
            <a:ext cx="3240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 Rounded MT Bold"/>
              </a:rPr>
              <a:t>How to sell oranges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1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292720" y="4292640"/>
            <a:ext cx="1008000" cy="1081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5291280" y="4941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Rounded MT Bold"/>
              </a:rPr>
              <a:t>orange</a:t>
            </a:r>
            <a:r>
              <a:rPr b="0" lang="en-GB" sz="800" spc="-1" strike="noStrike" baseline="100000">
                <a:solidFill>
                  <a:srgbClr val="ffffff"/>
                </a:solidFill>
                <a:latin typeface="Arial Rounded MT Bold"/>
              </a:rPr>
              <a:t>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hand_dialing_cel_phone_hg_clr"/>
          <p:cNvPicPr/>
          <p:nvPr/>
        </p:nvPicPr>
        <p:blipFill>
          <a:blip r:embed="rId1"/>
          <a:stretch/>
        </p:blipFill>
        <p:spPr>
          <a:xfrm>
            <a:off x="1332000" y="907920"/>
            <a:ext cx="2468520" cy="23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26920" y="1106640"/>
            <a:ext cx="554544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 Rounded MT Bold"/>
              </a:rPr>
              <a:t>    </a:t>
            </a:r>
            <a:r>
              <a:rPr b="0" lang="en-GB" sz="24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2400" spc="-1" strike="noStrike">
                <a:solidFill>
                  <a:srgbClr val="5e1f08"/>
                </a:solidFill>
                <a:latin typeface="Arial Rounded MT Bold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links itself to things we like to do, so that when we do them we think of </a:t>
            </a:r>
            <a:r>
              <a:rPr b="0" lang="en-GB" sz="24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. Even if they are not there!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7020000" y="1411200"/>
            <a:ext cx="1008000" cy="1081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7020000" y="21258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Rounded MT Bold"/>
              </a:rPr>
              <a:t>orange</a:t>
            </a:r>
            <a:r>
              <a:rPr b="0" lang="en-GB" sz="800" spc="-1" strike="noStrike" baseline="100000">
                <a:solidFill>
                  <a:srgbClr val="ffffff"/>
                </a:solidFill>
                <a:latin typeface="Arial Rounded MT Bold"/>
              </a:rPr>
              <a:t>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2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friends_playing_standup_videogame_together_hg_clr"/>
          <p:cNvPicPr/>
          <p:nvPr/>
        </p:nvPicPr>
        <p:blipFill>
          <a:blip r:embed="rId1"/>
          <a:stretch/>
        </p:blipFill>
        <p:spPr>
          <a:xfrm>
            <a:off x="6156360" y="3357720"/>
            <a:ext cx="2325600" cy="23256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9"/>
          <p:cNvSpPr/>
          <p:nvPr/>
        </p:nvSpPr>
        <p:spPr>
          <a:xfrm>
            <a:off x="1187280" y="407664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wants to be your frien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46836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What does everyone lov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15" descr="orange_wednesdays2"/>
          <p:cNvPicPr/>
          <p:nvPr/>
        </p:nvPicPr>
        <p:blipFill>
          <a:blip r:embed="rId1"/>
          <a:stretch/>
        </p:blipFill>
        <p:spPr>
          <a:xfrm>
            <a:off x="971640" y="2349360"/>
            <a:ext cx="4754520" cy="35672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6"/>
          <p:cNvSpPr/>
          <p:nvPr/>
        </p:nvSpPr>
        <p:spPr>
          <a:xfrm>
            <a:off x="755640" y="155736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one loves movies, so </a:t>
            </a:r>
            <a:r>
              <a:rPr b="0" lang="en-GB" sz="24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let us go for f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9" descr="people_laughing_at_a_movie_lg_clr"/>
          <p:cNvPicPr/>
          <p:nvPr/>
        </p:nvPicPr>
        <p:blipFill>
          <a:blip r:embed="rId2"/>
          <a:stretch/>
        </p:blipFill>
        <p:spPr>
          <a:xfrm>
            <a:off x="6227640" y="3166920"/>
            <a:ext cx="1486080" cy="14860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0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3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46836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What does everyone lov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95280" y="141300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one loves Football, so </a:t>
            </a:r>
            <a:r>
              <a:rPr b="1" lang="en-GB" sz="24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sponsors Liverp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liverpool-bg"/>
          <p:cNvPicPr/>
          <p:nvPr/>
        </p:nvPicPr>
        <p:blipFill>
          <a:blip r:embed="rId1"/>
          <a:stretch/>
        </p:blipFill>
        <p:spPr>
          <a:xfrm>
            <a:off x="826920" y="2205000"/>
            <a:ext cx="5810400" cy="2381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emblemLiverpool"/>
          <p:cNvPicPr/>
          <p:nvPr/>
        </p:nvPicPr>
        <p:blipFill>
          <a:blip r:embed="rId2"/>
          <a:stretch/>
        </p:blipFill>
        <p:spPr>
          <a:xfrm>
            <a:off x="1763640" y="4873680"/>
            <a:ext cx="971640" cy="12193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2994840" y="5199120"/>
            <a:ext cx="520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Liverpool (the greatest footb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team ever) is sponsored by 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 flipV="1">
            <a:off x="2987640" y="5446440"/>
            <a:ext cx="1440000" cy="14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2987640" y="50594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radley Hand ITC"/>
              </a:rPr>
              <a:t>Arse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9" descr="ARSENAL_club%2520badge"/>
          <p:cNvPicPr/>
          <p:nvPr/>
        </p:nvPicPr>
        <p:blipFill>
          <a:blip r:embed="rId3"/>
          <a:stretch/>
        </p:blipFill>
        <p:spPr>
          <a:xfrm rot="20166000">
            <a:off x="1476000" y="5070240"/>
            <a:ext cx="762120" cy="1095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0" descr="boy_kicking_soccer_ball_hg_clr"/>
          <p:cNvPicPr/>
          <p:nvPr/>
        </p:nvPicPr>
        <p:blipFill>
          <a:blip r:embed="rId4"/>
          <a:stretch/>
        </p:blipFill>
        <p:spPr>
          <a:xfrm>
            <a:off x="6602400" y="2111400"/>
            <a:ext cx="2541600" cy="25416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21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4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46836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What does everyone lov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6000" y="1628640"/>
            <a:ext cx="7128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one loves music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So</a:t>
            </a:r>
            <a:r>
              <a:rPr b="1" lang="en-GB" sz="2400" spc="-1" strike="noStrike">
                <a:solidFill>
                  <a:srgbClr val="ff6600"/>
                </a:solidFill>
                <a:latin typeface="Arial Rounded MT Bold"/>
              </a:rPr>
              <a:t> Orange 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have special offers to music events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pic>
        <p:nvPicPr>
          <p:cNvPr id="122" name="Picture 4" descr="orangemusic2"/>
          <p:cNvPicPr/>
          <p:nvPr/>
        </p:nvPicPr>
        <p:blipFill>
          <a:blip r:embed="rId1"/>
          <a:stretch/>
        </p:blipFill>
        <p:spPr>
          <a:xfrm>
            <a:off x="900000" y="3573360"/>
            <a:ext cx="4791240" cy="542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orange-music"/>
          <p:cNvPicPr/>
          <p:nvPr/>
        </p:nvPicPr>
        <p:blipFill>
          <a:blip r:embed="rId2"/>
          <a:stretch/>
        </p:blipFill>
        <p:spPr>
          <a:xfrm>
            <a:off x="900000" y="4581360"/>
            <a:ext cx="5114880" cy="12481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5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boy_band_rockin_hg_clr"/>
          <p:cNvPicPr/>
          <p:nvPr/>
        </p:nvPicPr>
        <p:blipFill>
          <a:blip r:embed="rId3"/>
          <a:stretch/>
        </p:blipFill>
        <p:spPr>
          <a:xfrm>
            <a:off x="6084720" y="3573360"/>
            <a:ext cx="284328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99640" y="1044360"/>
            <a:ext cx="75438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How </a:t>
            </a:r>
            <a:r>
              <a:rPr b="0" lang="en-GB" sz="40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adverti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6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1547640" y="198900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Orange advertises i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611280" y="2708280"/>
            <a:ext cx="547200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Newspap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Magazi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On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On b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In the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Arial Rounded MT Bold"/>
              </a:rPr>
              <a:t>Anywhere el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orange-screen"/>
          <p:cNvPicPr/>
          <p:nvPr/>
        </p:nvPicPr>
        <p:blipFill>
          <a:blip r:embed="rId1"/>
          <a:stretch/>
        </p:blipFill>
        <p:spPr>
          <a:xfrm>
            <a:off x="3132000" y="2781360"/>
            <a:ext cx="5715000" cy="3619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advertise_here_md_clr"/>
          <p:cNvPicPr/>
          <p:nvPr/>
        </p:nvPicPr>
        <p:blipFill>
          <a:blip r:embed="rId2"/>
          <a:stretch/>
        </p:blipFill>
        <p:spPr>
          <a:xfrm>
            <a:off x="7164360" y="404640"/>
            <a:ext cx="87624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71280" y="2205000"/>
            <a:ext cx="7543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Orange is everywhere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7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68360" y="4797360"/>
            <a:ext cx="470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 rot="2197800">
            <a:off x="395640" y="4892760"/>
            <a:ext cx="280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1258920" y="537372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 rot="18704400">
            <a:off x="4044960" y="41004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 rot="669600">
            <a:off x="4258800" y="1897200"/>
            <a:ext cx="33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 rot="1906200">
            <a:off x="1762920" y="836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 rot="20660400">
            <a:off x="5749920" y="385920"/>
            <a:ext cx="395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 rot="21099000">
            <a:off x="415800" y="5941800"/>
            <a:ext cx="481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 rot="19668000">
            <a:off x="6336000" y="64004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020000" y="479736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-1549440" y="1125360"/>
            <a:ext cx="46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Rounded MT Bold"/>
              </a:rPr>
              <a:t>Wher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503280" y="2924280"/>
            <a:ext cx="8640720" cy="764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 Rounded MT Bold"/>
              </a:rPr>
              <a:t>So you will never forget them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3T11:28:13Z</dcterms:created>
  <dc:creator>The Learning Trust</dc:creator>
  <dc:description/>
  <dc:language>en-US</dc:language>
  <cp:lastModifiedBy>RomaK</cp:lastModifiedBy>
  <dcterms:modified xsi:type="dcterms:W3CDTF">2015-09-02T09:32:24Z</dcterms:modified>
  <cp:revision>78</cp:revision>
  <dc:subject/>
  <dc:title>Advertising</dc:title>
</cp:coreProperties>
</file>