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6.gif" ContentType="image/gif"/>
  <Override PartName="/ppt/media/image15.gif" ContentType="image/gif"/>
  <Override PartName="/ppt/media/image7.jpeg" ContentType="image/jpeg"/>
  <Override PartName="/ppt/media/image10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FC1C-DCD6-4306-AF95-0EA76B44B7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wants to be your frie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7FA-F713-4938-A749-F7B6A97C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469-35AA-40E5-B34C-7AA3D0F2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B45-10F2-4C84-81C0-C6F5DECC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AC6-90A7-4D10-A7AC-56F1AA06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695C-BCB7-4758-849B-06E37D5C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0763-3479-4C7C-8AA7-A6F57238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FC0D-2FE4-42C1-8577-6FC83636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30F4-144D-4295-9E11-B59BC4DD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5FA3-960B-485C-B486-FBC5E5A7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9361-05E6-4D06-AAA4-FE089A82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EAE3-B285-45A2-A2BD-0A98B1F7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CF4-9EB3-45E1-9D31-FE55089B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D28D-8399-4613-B4E4-42617194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30F6-1E08-4D95-906F-DD98BB79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D3FE-52A1-441D-83BF-B739FF14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1DE5-CA1A-4973-BC20-394FD9B8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65E1-37A9-4E66-BC35-3FE9C4B4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09B-82DF-42B0-A0CA-58483019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49E-D364-4DFE-9AAB-E4C94E03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E06-BE5F-4640-BE6D-303E1600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C70-186E-468B-A59A-908830BC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9DF-C07D-4E57-A8CA-DEE09E1C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1E8-A67F-4A70-B954-BB2C29D4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1D8-EA94-4780-9A3D-76D51384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B564-A21D-42F1-9DA3-CC67E59B71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759F-F20D-4D66-95EE-8BC6367DAB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1960" y="357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dvertis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79640" y="4723920"/>
            <a:ext cx="3240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 Rounded MT Bold"/>
              </a:rPr>
              <a:t>How to sell oranges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1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292720" y="429264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29128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hand_dialing_cel_phone_hg_clr"/>
          <p:cNvPicPr/>
          <p:nvPr/>
        </p:nvPicPr>
        <p:blipFill>
          <a:blip r:embed="rId1"/>
          <a:stretch/>
        </p:blipFill>
        <p:spPr>
          <a:xfrm>
            <a:off x="1332000" y="907920"/>
            <a:ext cx="246852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920" y="1106640"/>
            <a:ext cx="554544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5e1f08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nks itself to things we like to do, so that when we do them we think of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. Even if they are not there!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020000" y="141120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020000" y="21258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2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friends_playing_standup_videogame_together_hg_clr"/>
          <p:cNvPicPr/>
          <p:nvPr/>
        </p:nvPicPr>
        <p:blipFill>
          <a:blip r:embed="rId1"/>
          <a:stretch/>
        </p:blipFill>
        <p:spPr>
          <a:xfrm>
            <a:off x="6156360" y="3357720"/>
            <a:ext cx="2325600" cy="2325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1187280" y="4076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wants to be your fri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15" descr="orange_wednesdays2"/>
          <p:cNvPicPr/>
          <p:nvPr/>
        </p:nvPicPr>
        <p:blipFill>
          <a:blip r:embed="rId1"/>
          <a:stretch/>
        </p:blipFill>
        <p:spPr>
          <a:xfrm>
            <a:off x="971640" y="2349360"/>
            <a:ext cx="4754520" cy="356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755640" y="1557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ovies, so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let us go for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9" descr="people_laughing_at_a_movie_lg_clr"/>
          <p:cNvPicPr/>
          <p:nvPr/>
        </p:nvPicPr>
        <p:blipFill>
          <a:blip r:embed="rId2"/>
          <a:stretch/>
        </p:blipFill>
        <p:spPr>
          <a:xfrm>
            <a:off x="6227640" y="316692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0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3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95280" y="1413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Football, so 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sponsors Liver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liverpool-bg"/>
          <p:cNvPicPr/>
          <p:nvPr/>
        </p:nvPicPr>
        <p:blipFill>
          <a:blip r:embed="rId1"/>
          <a:stretch/>
        </p:blipFill>
        <p:spPr>
          <a:xfrm>
            <a:off x="826920" y="2205000"/>
            <a:ext cx="5810400" cy="238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mblemLiverpool"/>
          <p:cNvPicPr/>
          <p:nvPr/>
        </p:nvPicPr>
        <p:blipFill>
          <a:blip r:embed="rId2"/>
          <a:stretch/>
        </p:blipFill>
        <p:spPr>
          <a:xfrm>
            <a:off x="1763640" y="4873680"/>
            <a:ext cx="971640" cy="1219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994840" y="51991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verpool (the greatest foot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team ever) is sponsored by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2987640" y="5446440"/>
            <a:ext cx="144000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987640" y="50594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radley Hand ITC"/>
              </a:rPr>
              <a:t>Ars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9" descr="ARSENAL_club%2520badge"/>
          <p:cNvPicPr/>
          <p:nvPr/>
        </p:nvPicPr>
        <p:blipFill>
          <a:blip r:embed="rId3"/>
          <a:stretch/>
        </p:blipFill>
        <p:spPr>
          <a:xfrm rot="20166000">
            <a:off x="1476000" y="5070240"/>
            <a:ext cx="762120" cy="109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boy_kicking_soccer_ball_hg_clr"/>
          <p:cNvPicPr/>
          <p:nvPr/>
        </p:nvPicPr>
        <p:blipFill>
          <a:blip r:embed="rId4"/>
          <a:stretch/>
        </p:blipFill>
        <p:spPr>
          <a:xfrm>
            <a:off x="6602400" y="2111400"/>
            <a:ext cx="2541600" cy="2541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1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4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usic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So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 Orange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have special offers to music events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pic>
        <p:nvPicPr>
          <p:cNvPr id="122" name="Picture 4" descr="orangemusic2"/>
          <p:cNvPicPr/>
          <p:nvPr/>
        </p:nvPicPr>
        <p:blipFill>
          <a:blip r:embed="rId1"/>
          <a:stretch/>
        </p:blipFill>
        <p:spPr>
          <a:xfrm>
            <a:off x="900000" y="3573360"/>
            <a:ext cx="4791240" cy="54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orange-music"/>
          <p:cNvPicPr/>
          <p:nvPr/>
        </p:nvPicPr>
        <p:blipFill>
          <a:blip r:embed="rId2"/>
          <a:stretch/>
        </p:blipFill>
        <p:spPr>
          <a:xfrm>
            <a:off x="900000" y="4581360"/>
            <a:ext cx="5114880" cy="1248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5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oy_band_rockin_hg_clr"/>
          <p:cNvPicPr/>
          <p:nvPr/>
        </p:nvPicPr>
        <p:blipFill>
          <a:blip r:embed="rId3"/>
          <a:stretch/>
        </p:blipFill>
        <p:spPr>
          <a:xfrm>
            <a:off x="6084720" y="3573360"/>
            <a:ext cx="28432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104436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ow </a:t>
            </a: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adverti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6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547640" y="1989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Orange advertises 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1280" y="2708280"/>
            <a:ext cx="5472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Magaz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In the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 Rounded MT Bold"/>
              </a:rPr>
              <a:t>Anywhere el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orange-screen"/>
          <p:cNvPicPr/>
          <p:nvPr/>
        </p:nvPicPr>
        <p:blipFill>
          <a:blip r:embed="rId1"/>
          <a:stretch/>
        </p:blipFill>
        <p:spPr>
          <a:xfrm>
            <a:off x="3132000" y="2781360"/>
            <a:ext cx="5715000" cy="361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dvertise_here_md_clr"/>
          <p:cNvPicPr/>
          <p:nvPr/>
        </p:nvPicPr>
        <p:blipFill>
          <a:blip r:embed="rId2"/>
          <a:stretch/>
        </p:blipFill>
        <p:spPr>
          <a:xfrm>
            <a:off x="7164360" y="404640"/>
            <a:ext cx="8762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205000"/>
            <a:ext cx="7543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Orange is everywhere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797360"/>
            <a:ext cx="470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 rot="2197800">
            <a:off x="395640" y="489276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258920" y="53737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 rot="18704400">
            <a:off x="4044960" y="41004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 rot="669600">
            <a:off x="4258800" y="18972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 rot="1906200">
            <a:off x="1762920" y="836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 rot="20660400">
            <a:off x="5749920" y="385920"/>
            <a:ext cx="39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 rot="21099000">
            <a:off x="415800" y="5941800"/>
            <a:ext cx="48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 rot="19668000">
            <a:off x="6336000" y="6400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020000" y="4797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-1549440" y="112536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Rounded MT Bold"/>
              </a:rPr>
              <a:t>Wher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503280" y="2924280"/>
            <a:ext cx="864072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 Rounded MT Bold"/>
              </a:rPr>
              <a:t>So you will never forget th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1:28:13Z</dcterms:created>
  <dc:creator>The Learning Trust</dc:creator>
  <dc:description/>
  <dc:language>en-US</dc:language>
  <cp:lastModifiedBy>RomaK</cp:lastModifiedBy>
  <dcterms:modified xsi:type="dcterms:W3CDTF">2015-09-02T09:32:24Z</dcterms:modified>
  <cp:revision>78</cp:revision>
  <dc:subject/>
  <dc:title>Advertising</dc:title>
</cp:coreProperties>
</file>