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93BE-2255-4371-8271-4AC89464F9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wants to be your fri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A78-F3CF-4520-90B2-95B6B202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83A-491D-4029-9BD0-B4609345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7C2-EC07-4357-9CDB-BFDA1128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673-4EE3-46F0-B3B8-C1032C54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B035-1B16-4FDD-86C0-3E3148FB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4EE6-599D-4AD1-894A-601B6433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AE0A-11CE-4D99-ADA5-4D55B4A7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F25D-91A4-4C8E-83B3-27809CFD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272C-2969-4FDF-906B-95A2ED55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B448-5A55-4B8D-928D-58B2A161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0811-98BD-4285-9DAB-4C22F90A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D29-D1CC-499F-8510-0F4E65EF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7D31-F94C-4058-A0FC-69CF4F72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6C59-4EE7-4C0F-88B1-5E51CD5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03BE-6078-42B1-B5A9-926E1595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F369-2C99-4077-BD85-A3F98816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E124-EB77-4B9B-91E7-C55C3AAA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FB1-C34D-4801-9C3C-1D8631B6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16F-C068-499A-904B-0CC7EBFE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C54-D0BC-4F25-96E6-EFB3CA7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259-188A-4E3E-903F-253B44B4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F3E-E95B-43DA-9AE0-8EF38F4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EAE-BCBE-4488-9D96-CCC4B472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6E6-9D94-4EB7-97F6-1355EE86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5BCA-909E-4276-B08B-66E975456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315A-4C61-46A2-A647-0A4336B745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960" y="357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verti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472392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 Rounded MT Bold"/>
              </a:rPr>
              <a:t>How to sell oranges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1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292720" y="429264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291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and_dialing_cel_phone_hg_clr"/>
          <p:cNvPicPr/>
          <p:nvPr/>
        </p:nvPicPr>
        <p:blipFill>
          <a:blip r:embed="rId1"/>
          <a:stretch/>
        </p:blipFill>
        <p:spPr>
          <a:xfrm>
            <a:off x="1332000" y="907920"/>
            <a:ext cx="2468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1106640"/>
            <a:ext cx="554544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5e1f08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nks itself to things we like to do, so that when we do them we think of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 Even if they are not there!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020000" y="141120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020000" y="21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2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friends_playing_standup_videogame_together_hg_clr"/>
          <p:cNvPicPr/>
          <p:nvPr/>
        </p:nvPicPr>
        <p:blipFill>
          <a:blip r:embed="rId1"/>
          <a:stretch/>
        </p:blipFill>
        <p:spPr>
          <a:xfrm>
            <a:off x="6156360" y="335772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187280" y="407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wants to be your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5" descr="orange_wednesdays2"/>
          <p:cNvPicPr/>
          <p:nvPr/>
        </p:nvPicPr>
        <p:blipFill>
          <a:blip r:embed="rId1"/>
          <a:stretch/>
        </p:blipFill>
        <p:spPr>
          <a:xfrm>
            <a:off x="971640" y="2349360"/>
            <a:ext cx="4754520" cy="356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75564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ovies, so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let us go for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people_laughing_at_a_movie_lg_clr"/>
          <p:cNvPicPr/>
          <p:nvPr/>
        </p:nvPicPr>
        <p:blipFill>
          <a:blip r:embed="rId2"/>
          <a:stretch/>
        </p:blipFill>
        <p:spPr>
          <a:xfrm>
            <a:off x="6227640" y="316692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3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413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Football, so 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sponsors Liver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iverpool-bg"/>
          <p:cNvPicPr/>
          <p:nvPr/>
        </p:nvPicPr>
        <p:blipFill>
          <a:blip r:embed="rId1"/>
          <a:stretch/>
        </p:blipFill>
        <p:spPr>
          <a:xfrm>
            <a:off x="826920" y="2205000"/>
            <a:ext cx="581040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mblemLiverpool"/>
          <p:cNvPicPr/>
          <p:nvPr/>
        </p:nvPicPr>
        <p:blipFill>
          <a:blip r:embed="rId2"/>
          <a:stretch/>
        </p:blipFill>
        <p:spPr>
          <a:xfrm>
            <a:off x="1763640" y="4873680"/>
            <a:ext cx="97164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994840" y="51991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verpool (the greatest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eam ever) is sponsored by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987640" y="5446440"/>
            <a:ext cx="14400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505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Ars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ARSENAL_club%2520badge"/>
          <p:cNvPicPr/>
          <p:nvPr/>
        </p:nvPicPr>
        <p:blipFill>
          <a:blip r:embed="rId3"/>
          <a:stretch/>
        </p:blipFill>
        <p:spPr>
          <a:xfrm rot="20166000">
            <a:off x="1476000" y="5070240"/>
            <a:ext cx="762120" cy="109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boy_kicking_soccer_ball_hg_clr"/>
          <p:cNvPicPr/>
          <p:nvPr/>
        </p:nvPicPr>
        <p:blipFill>
          <a:blip r:embed="rId4"/>
          <a:stretch/>
        </p:blipFill>
        <p:spPr>
          <a:xfrm>
            <a:off x="6602400" y="21114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4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usic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So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 Orange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ave special offers to music event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pic>
        <p:nvPicPr>
          <p:cNvPr id="122" name="Picture 4" descr="orangemusic2"/>
          <p:cNvPicPr/>
          <p:nvPr/>
        </p:nvPicPr>
        <p:blipFill>
          <a:blip r:embed="rId1"/>
          <a:stretch/>
        </p:blipFill>
        <p:spPr>
          <a:xfrm>
            <a:off x="900000" y="3573360"/>
            <a:ext cx="479124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orange-music"/>
          <p:cNvPicPr/>
          <p:nvPr/>
        </p:nvPicPr>
        <p:blipFill>
          <a:blip r:embed="rId2"/>
          <a:stretch/>
        </p:blipFill>
        <p:spPr>
          <a:xfrm>
            <a:off x="900000" y="4581360"/>
            <a:ext cx="5114880" cy="12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5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oy_band_rockin_hg_clr"/>
          <p:cNvPicPr/>
          <p:nvPr/>
        </p:nvPicPr>
        <p:blipFill>
          <a:blip r:embed="rId3"/>
          <a:stretch/>
        </p:blipFill>
        <p:spPr>
          <a:xfrm>
            <a:off x="6084720" y="3573360"/>
            <a:ext cx="2843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0443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w 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advert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6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640" y="19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Orange advertises 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1280" y="2708280"/>
            <a:ext cx="54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Magaz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n the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Rounded MT Bold"/>
              </a:rPr>
              <a:t>Anywhere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orange-screen"/>
          <p:cNvPicPr/>
          <p:nvPr/>
        </p:nvPicPr>
        <p:blipFill>
          <a:blip r:embed="rId1"/>
          <a:stretch/>
        </p:blipFill>
        <p:spPr>
          <a:xfrm>
            <a:off x="3132000" y="278136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dvertise_here_md_clr"/>
          <p:cNvPicPr/>
          <p:nvPr/>
        </p:nvPicPr>
        <p:blipFill>
          <a:blip r:embed="rId2"/>
          <a:stretch/>
        </p:blipFill>
        <p:spPr>
          <a:xfrm>
            <a:off x="7164360" y="404640"/>
            <a:ext cx="876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Orange is everywhere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797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 rot="2197800">
            <a:off x="395640" y="48927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58920" y="5373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 rot="18704400">
            <a:off x="4044960" y="4100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 rot="669600">
            <a:off x="4258800" y="18972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 rot="1906200">
            <a:off x="1762920" y="83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 rot="20660400">
            <a:off x="5749920" y="3859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 rot="21099000">
            <a:off x="415800" y="5941800"/>
            <a:ext cx="48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 rot="19668000">
            <a:off x="6336000" y="64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020000" y="4797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-1549440" y="11253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</a:rPr>
              <a:t>Wher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03280" y="2924280"/>
            <a:ext cx="86407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 Rounded MT Bold"/>
              </a:rPr>
              <a:t>So you will never forget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13Z</dcterms:created>
  <dc:creator>The Learning Trust</dc:creator>
  <dc:description/>
  <dc:language>en-US</dc:language>
  <cp:lastModifiedBy>RomaK</cp:lastModifiedBy>
  <dcterms:modified xsi:type="dcterms:W3CDTF">2015-09-02T09:32:24Z</dcterms:modified>
  <cp:revision>78</cp:revision>
  <dc:subject/>
  <dc:title>Advertising</dc:title>
</cp:coreProperties>
</file>