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6.gif" ContentType="image/gif"/>
  <Override PartName="/ppt/media/image15.gif" ContentType="image/gif"/>
  <Override PartName="/ppt/media/image7.jpeg" ContentType="image/jpeg"/>
  <Override PartName="/ppt/media/image10.gif" ContentType="image/gi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74BE-6B37-49F5-BBA5-03FFF90361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l o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l o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links itself to things we like to do, so that when we do them we think of Orange. Even if they are not t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wants to be your frie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links itself to things we like to do, so that when we do them we think of Orange. Even if they are not t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ovies, so Orange let us go for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ovies, so Orange let us go for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Football, so Orange sponsors Liver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(the greatest footb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ver) is sponsored by 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Football, so Orange sponsors Liver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(the greatest footb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ver) is sponsored by 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range have special offers to music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range have special offers to music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ange advert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advertis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where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ange advert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advertis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where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is 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will never forget th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is 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will never forget th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E54-446C-4E17-85B2-44E5963F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316-387C-4FBE-BC51-DBAC0AD4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AC7-347C-40B1-AC73-B16FAD19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896-8485-48B5-BB37-90FBEBA5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0192-4D07-463E-8D5F-69846581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D11E-0A08-43F5-BA1B-0015F2C2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24E5-8FEA-441F-9E5B-F352488A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CCD2-0433-49DB-B9A8-7C976B14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3C08-B449-4393-9619-B10AC5FB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559B-B70A-4AF9-AAE3-867ABAA9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1526-CF7F-497B-82E1-9FB09556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6BE-7845-430B-A20F-E35D44CD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3653-C05B-4E3C-941B-0133CF0B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F2EA-878F-44E9-B222-7D297D6A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303F-DE3D-4FF6-9264-1DBEE81D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93D0-4A04-4148-83BB-9051B39F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C1C0-6A87-403D-9864-BEF4E870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277-B744-4268-96AE-958370FD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0F9F-BB58-4099-ABF6-94188E95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8444-D790-4D5C-B30F-590954E3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D1F-B5A0-4E30-89F0-9EB72CE2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0EF-FBA4-46B3-BBF1-9675EDC9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A98-011A-4B9B-AB0E-ED4C36AF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606-6ED8-4F0F-AC6C-6D9791F6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8D5F-8C76-4EBE-ACEF-BB550F99E4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13F7-B855-4AE6-A952-E446954220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1960" y="357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dvertis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79640" y="4723920"/>
            <a:ext cx="3240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 Rounded MT Bold"/>
              </a:rPr>
              <a:t>How to sell oranges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1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292720" y="4292640"/>
            <a:ext cx="1008000" cy="108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291280" y="49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r>
              <a:rPr b="0" lang="en-GB" sz="800" spc="-1" strike="noStrike" baseline="100000">
                <a:solidFill>
                  <a:srgbClr val="ffffff"/>
                </a:solidFill>
                <a:latin typeface="Arial Rounded MT Bold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hand_dialing_cel_phone_hg_clr"/>
          <p:cNvPicPr/>
          <p:nvPr/>
        </p:nvPicPr>
        <p:blipFill>
          <a:blip r:embed="rId1"/>
          <a:stretch/>
        </p:blipFill>
        <p:spPr>
          <a:xfrm>
            <a:off x="1332000" y="907920"/>
            <a:ext cx="246852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26920" y="1106640"/>
            <a:ext cx="554544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5e1f08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links itself to things we like to do, so that when we do them we think of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. Even if they are not there!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020000" y="1411200"/>
            <a:ext cx="1008000" cy="108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020000" y="21258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r>
              <a:rPr b="0" lang="en-GB" sz="800" spc="-1" strike="noStrike" baseline="100000">
                <a:solidFill>
                  <a:srgbClr val="ffffff"/>
                </a:solidFill>
                <a:latin typeface="Arial Rounded MT Bold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2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friends_playing_standup_videogame_together_hg_clr"/>
          <p:cNvPicPr/>
          <p:nvPr/>
        </p:nvPicPr>
        <p:blipFill>
          <a:blip r:embed="rId1"/>
          <a:stretch/>
        </p:blipFill>
        <p:spPr>
          <a:xfrm>
            <a:off x="6156360" y="3357720"/>
            <a:ext cx="2325600" cy="2325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1187280" y="4076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wants to be your frie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15" descr="orange_wednesdays2"/>
          <p:cNvPicPr/>
          <p:nvPr/>
        </p:nvPicPr>
        <p:blipFill>
          <a:blip r:embed="rId1"/>
          <a:stretch/>
        </p:blipFill>
        <p:spPr>
          <a:xfrm>
            <a:off x="971640" y="2349360"/>
            <a:ext cx="4754520" cy="356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755640" y="1557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movies, so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let us go for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9" descr="people_laughing_at_a_movie_lg_clr"/>
          <p:cNvPicPr/>
          <p:nvPr/>
        </p:nvPicPr>
        <p:blipFill>
          <a:blip r:embed="rId2"/>
          <a:stretch/>
        </p:blipFill>
        <p:spPr>
          <a:xfrm>
            <a:off x="6227640" y="316692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0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3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95280" y="141300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Football, so </a:t>
            </a:r>
            <a:r>
              <a:rPr b="1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sponsors Liverp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liverpool-bg"/>
          <p:cNvPicPr/>
          <p:nvPr/>
        </p:nvPicPr>
        <p:blipFill>
          <a:blip r:embed="rId1"/>
          <a:stretch/>
        </p:blipFill>
        <p:spPr>
          <a:xfrm>
            <a:off x="826920" y="2205000"/>
            <a:ext cx="5810400" cy="2381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emblemLiverpool"/>
          <p:cNvPicPr/>
          <p:nvPr/>
        </p:nvPicPr>
        <p:blipFill>
          <a:blip r:embed="rId2"/>
          <a:stretch/>
        </p:blipFill>
        <p:spPr>
          <a:xfrm>
            <a:off x="1763640" y="4873680"/>
            <a:ext cx="971640" cy="1219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994840" y="5199120"/>
            <a:ext cx="52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Liverpool (the greatest foot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team ever) is sponsored by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2987640" y="5446440"/>
            <a:ext cx="144000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987640" y="50594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radley Hand ITC"/>
              </a:rPr>
              <a:t>Ars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9" descr="ARSENAL_club%2520badge"/>
          <p:cNvPicPr/>
          <p:nvPr/>
        </p:nvPicPr>
        <p:blipFill>
          <a:blip r:embed="rId3"/>
          <a:stretch/>
        </p:blipFill>
        <p:spPr>
          <a:xfrm rot="20166000">
            <a:off x="1476000" y="5070240"/>
            <a:ext cx="762120" cy="109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boy_kicking_soccer_ball_hg_clr"/>
          <p:cNvPicPr/>
          <p:nvPr/>
        </p:nvPicPr>
        <p:blipFill>
          <a:blip r:embed="rId4"/>
          <a:stretch/>
        </p:blipFill>
        <p:spPr>
          <a:xfrm>
            <a:off x="6602400" y="2111400"/>
            <a:ext cx="2541600" cy="2541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1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4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128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music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So</a:t>
            </a:r>
            <a:r>
              <a:rPr b="1" lang="en-GB" sz="2400" spc="-1" strike="noStrike">
                <a:solidFill>
                  <a:srgbClr val="ff6600"/>
                </a:solidFill>
                <a:latin typeface="Arial Rounded MT Bold"/>
              </a:rPr>
              <a:t> Orange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have special offers to music events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pic>
        <p:nvPicPr>
          <p:cNvPr id="122" name="Picture 4" descr="orangemusic2"/>
          <p:cNvPicPr/>
          <p:nvPr/>
        </p:nvPicPr>
        <p:blipFill>
          <a:blip r:embed="rId1"/>
          <a:stretch/>
        </p:blipFill>
        <p:spPr>
          <a:xfrm>
            <a:off x="900000" y="3573360"/>
            <a:ext cx="4791240" cy="54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orange-music"/>
          <p:cNvPicPr/>
          <p:nvPr/>
        </p:nvPicPr>
        <p:blipFill>
          <a:blip r:embed="rId2"/>
          <a:stretch/>
        </p:blipFill>
        <p:spPr>
          <a:xfrm>
            <a:off x="900000" y="4581360"/>
            <a:ext cx="5114880" cy="1248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5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boy_band_rockin_hg_clr"/>
          <p:cNvPicPr/>
          <p:nvPr/>
        </p:nvPicPr>
        <p:blipFill>
          <a:blip r:embed="rId3"/>
          <a:stretch/>
        </p:blipFill>
        <p:spPr>
          <a:xfrm>
            <a:off x="6084720" y="3573360"/>
            <a:ext cx="28432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9640" y="104436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ow </a:t>
            </a:r>
            <a:r>
              <a:rPr b="0" lang="en-GB" sz="40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adverti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6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547640" y="1989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Orange advertises 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1280" y="2708280"/>
            <a:ext cx="5472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News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Magaz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In the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 Rounded MT Bold"/>
              </a:rPr>
              <a:t>Anywhere el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orange-screen"/>
          <p:cNvPicPr/>
          <p:nvPr/>
        </p:nvPicPr>
        <p:blipFill>
          <a:blip r:embed="rId1"/>
          <a:stretch/>
        </p:blipFill>
        <p:spPr>
          <a:xfrm>
            <a:off x="3132000" y="2781360"/>
            <a:ext cx="5715000" cy="361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dvertise_here_md_clr"/>
          <p:cNvPicPr/>
          <p:nvPr/>
        </p:nvPicPr>
        <p:blipFill>
          <a:blip r:embed="rId2"/>
          <a:stretch/>
        </p:blipFill>
        <p:spPr>
          <a:xfrm>
            <a:off x="7164360" y="404640"/>
            <a:ext cx="8762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2205000"/>
            <a:ext cx="7543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Orange is everywhere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4797360"/>
            <a:ext cx="470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 rot="2197800">
            <a:off x="395640" y="489276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258920" y="53737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 rot="18704400">
            <a:off x="4044960" y="41004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 rot="669600">
            <a:off x="4258800" y="18972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 rot="1906200">
            <a:off x="1762920" y="836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 rot="20660400">
            <a:off x="5749920" y="385920"/>
            <a:ext cx="39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 rot="21099000">
            <a:off x="415800" y="5941800"/>
            <a:ext cx="48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 rot="19668000">
            <a:off x="6336000" y="6400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020000" y="479736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-1549440" y="112536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Rounded MT Bold"/>
              </a:rPr>
              <a:t>Wher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503280" y="2924280"/>
            <a:ext cx="864072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 Rounded MT Bold"/>
              </a:rPr>
              <a:t>So you will never forget the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1:28:13Z</dcterms:created>
  <dc:creator>The Learning Trust</dc:creator>
  <dc:description/>
  <dc:language>en-US</dc:language>
  <cp:lastModifiedBy>RomaK</cp:lastModifiedBy>
  <dcterms:modified xsi:type="dcterms:W3CDTF">2015-09-02T09:32:24Z</dcterms:modified>
  <cp:revision>78</cp:revision>
  <dc:subject/>
  <dc:title>Advertising</dc:title>
</cp:coreProperties>
</file>