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7C20-A34E-4A3B-ABBD-90831243EA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mpowering African Ameri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mpowering Africa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eate a Committe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’t go ugh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ug, all your talents toge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what works b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 the boys in your schoo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the cataly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 Committe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o 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g, all your talent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what work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boys in your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the cataly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trongest word  anyone of us know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trongest word  anyone of us kno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reoty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reotypes are dangerous perceptions we all hav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cking one’s own attitude and hidden behavio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e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reotypes are dangerous perceptions we all h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ing one’s own attitude and hidden behavi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rican American Males are 72% less likely to attend college than Caucasian Ma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ver represented in Special education progra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ve higher levels of behavior problems in the school set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often feared by teachers regardless of the teacher’s ra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dds are against th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rican American Males are 72% less likely to attend college than Caucasian M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 represented in Special education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higher levels of behavior problems in the school set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often feared by teachers regardless of the teacher’s r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dds are against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ed Your Hel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college as an opport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crease self-este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what the student needs to do to reach his go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work within the child’s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Your Hel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college as an opport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what the student needs to do to reach his go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work within the child’s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African American History Part of Regular Curriculum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p the students to understand that all of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history involves interaction with one an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k and teach about positive African Americ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ole mode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African American History Part of Regular Curriculum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the students to understand that all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history involves interaction with one an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k and teach about positive African Ameri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 mod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rn About the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come a part of the child’s commun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tablish a safety net around the child by using the circle of trust mod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with community lead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with the child’s next school level teac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 About the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 a part of the child’s 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 a safety net around the child by using the circle of trust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with community le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with the child’s next school level teac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w self-esteem is the #1 cause for Black males acting out behavi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pitying them, start helping the child to see his own skin color as the gif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…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f-Este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self-esteem is the #1 cause for Black males acting out behavi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pitying them, start helping the child to see his own skin color as the gi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ive students the gift of high expec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lk to the child daily about colle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k the child what college he is going to att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the child does not know, help him explore some colle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 financial programs available in his fut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students the gift of high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to the child daily about colle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the child what college he is going to at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hild does not know, help him explore some colle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financial programs available in his 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iev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ldren know when you are ac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 the child that you believe in hi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aise the child oft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positives even when they are hard to f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s to mom, a warm smile, a compliment can go a long w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iev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ldren know when you are ac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child that you believe in h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 the child of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positives even when they are hard to f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to mom, a warm smile, a compliment can go a long 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D8CC-BD48-4A83-92AA-F7C268C8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8FC9-730A-4149-9DF1-A13E64202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D9E2-5DFA-4852-A2C5-28D8C14B6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E0DF-2E26-4A3B-B7D4-450ACEBC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E2F2-242D-45FE-93E3-E8940CCAA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3EA49-54C4-4A78-97FD-C24F4A6AC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2F241-7C90-4438-A045-A1293E72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73BB8-0BD8-4BC7-BAAC-0EF74806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A809-6D94-448D-A7B4-1D99BB89F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7A92-BF87-4045-ACC2-B2D5F9546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4AEA-6458-4F80-97F3-6569AD3D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78C-577F-4B03-B949-732C4A30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32B2-AC0D-44F0-97B2-FDC0D82C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3882-5F79-437C-A66C-CE7DD2D0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B9578-1529-4DF0-950C-81BA6396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F45A-E3CE-4612-A5B3-7702AB06D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0D11-F532-4EA5-B633-7F23EA78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29C7-EAA9-4B18-AC80-A6E90576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7F9C-0A41-4302-9479-73F49427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1C75-D29B-427A-AD4D-02CDF84C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7E1-E52A-473A-9423-DEE133B8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04F0-EEED-4255-8129-51A96AEB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6097-9763-428D-94D2-28D52CA9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9B71-6EFA-404D-9D8C-76D5D03E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4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77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7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1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1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1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1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2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2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2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2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53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73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1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1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1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1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7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3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55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56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7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8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9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60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75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46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47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48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49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0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1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52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3E85-1773-4E8C-BA78-10E20AE60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71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72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73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74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75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6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77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78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79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80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81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82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83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84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85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86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87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88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89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90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91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92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93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94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95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96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97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98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9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0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01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02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03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104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105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06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07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08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09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110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111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112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113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114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115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116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17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118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19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120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121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122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123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124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125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126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127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128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129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130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131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132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133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134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5251E-B6F0-4D91-924E-3D74FF9D31C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4"/>
          <p:cNvSpPr/>
          <p:nvPr/>
        </p:nvSpPr>
        <p:spPr>
          <a:xfrm>
            <a:off x="1066680" y="685800"/>
            <a:ext cx="586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powering African Americ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Man with Dog 1"/>
          <p:cNvPicPr/>
          <p:nvPr/>
        </p:nvPicPr>
        <p:blipFill>
          <a:blip r:embed="rId1"/>
          <a:stretch/>
        </p:blipFill>
        <p:spPr>
          <a:xfrm>
            <a:off x="3352680" y="2590920"/>
            <a:ext cx="26542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reate a Committee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6172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go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g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u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all your talents toge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find what works b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 the boys in your sch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Without a catalyst for change for the positive, African American males will continue to fall to the waysi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the cataly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Friends Talking 1"/>
          <p:cNvPicPr/>
          <p:nvPr/>
        </p:nvPicPr>
        <p:blipFill>
          <a:blip r:embed="rId1"/>
          <a:stretch/>
        </p:blipFill>
        <p:spPr>
          <a:xfrm>
            <a:off x="685800" y="3352680"/>
            <a:ext cx="20113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ov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trongest word  anyone of us know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Picture 4" descr="Kids on Slide 2"/>
          <p:cNvPicPr/>
          <p:nvPr/>
        </p:nvPicPr>
        <p:blipFill>
          <a:blip r:embed="rId1"/>
          <a:stretch/>
        </p:blipFill>
        <p:spPr>
          <a:xfrm>
            <a:off x="2895480" y="2438280"/>
            <a:ext cx="4800600" cy="33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ereotyp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tereotypes are dangerous perceptions we all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ing one’s own attitude and hidden behavio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4" descr="Boy Standing 07"/>
          <p:cNvPicPr/>
          <p:nvPr/>
        </p:nvPicPr>
        <p:blipFill>
          <a:blip r:embed="rId1"/>
          <a:stretch/>
        </p:blipFill>
        <p:spPr>
          <a:xfrm>
            <a:off x="4648320" y="1447920"/>
            <a:ext cx="26715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99"/>
                </a:solidFill>
                <a:latin typeface="Arial"/>
              </a:rPr>
              <a:t>African American Males are 72% less likely to attend college than Caucasian Males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Over represented in Special education program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Have higher levels of behavior problems in the school set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Are often feared by teachers regardless of the teacher’s ra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99"/>
                </a:solidFill>
                <a:latin typeface="Arial"/>
              </a:rPr>
              <a:t>The odds are against th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4" descr="Boy Standing 04"/>
          <p:cNvPicPr/>
          <p:nvPr/>
        </p:nvPicPr>
        <p:blipFill>
          <a:blip r:embed="rId1"/>
          <a:stretch/>
        </p:blipFill>
        <p:spPr>
          <a:xfrm>
            <a:off x="6858000" y="1752480"/>
            <a:ext cx="1916280" cy="47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Need Your Help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college as an opport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self-este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what the student needs to do to reach his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 within the child’s commun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7" descr="Doctor 10"/>
          <p:cNvPicPr/>
          <p:nvPr/>
        </p:nvPicPr>
        <p:blipFill>
          <a:blip r:embed="rId1"/>
          <a:stretch/>
        </p:blipFill>
        <p:spPr>
          <a:xfrm>
            <a:off x="5521320" y="2490840"/>
            <a:ext cx="2292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277560"/>
            <a:ext cx="838188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Make African American History Part of Regular Curriculum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4" descr="Boy Standing 12"/>
          <p:cNvPicPr/>
          <p:nvPr/>
        </p:nvPicPr>
        <p:blipFill>
          <a:blip r:embed="rId1"/>
          <a:stretch/>
        </p:blipFill>
        <p:spPr>
          <a:xfrm>
            <a:off x="228600" y="3809880"/>
            <a:ext cx="1725480" cy="27432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Boy Standing 05"/>
          <p:cNvPicPr/>
          <p:nvPr/>
        </p:nvPicPr>
        <p:blipFill>
          <a:blip r:embed="rId2"/>
          <a:stretch/>
        </p:blipFill>
        <p:spPr>
          <a:xfrm>
            <a:off x="7010280" y="3809880"/>
            <a:ext cx="1928880" cy="27432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1295280" y="2209680"/>
            <a:ext cx="6867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Help the students to understand that all o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our history involves interaction with one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Seek and teach about positive African Americ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role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arn About the Communit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ome a part of the child’s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a safety net around the child by using the circle of trus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with community lea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with the child’s next school level teac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Boy Tying Shoe"/>
          <p:cNvPicPr/>
          <p:nvPr/>
        </p:nvPicPr>
        <p:blipFill>
          <a:blip r:embed="rId1"/>
          <a:stretch/>
        </p:blipFill>
        <p:spPr>
          <a:xfrm>
            <a:off x="5437080" y="2490840"/>
            <a:ext cx="2459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f-Estee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elf-esteem is the #1 cause for Black males acting out behav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99"/>
                </a:solidFill>
                <a:latin typeface="Arial"/>
              </a:rPr>
              <a:t>Stop pitying them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, start helping the child to see his own skin color as the gi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99ff"/>
                </a:solidFill>
                <a:latin typeface="Arial"/>
              </a:rPr>
              <a:t>it is…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4" descr="Boy &amp; Skateboard 04"/>
          <p:cNvPicPr/>
          <p:nvPr/>
        </p:nvPicPr>
        <p:blipFill>
          <a:blip r:embed="rId1"/>
          <a:stretch/>
        </p:blipFill>
        <p:spPr>
          <a:xfrm>
            <a:off x="5278320" y="1219320"/>
            <a:ext cx="2570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Give students the gift of high expectation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lk to the child daily about colle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 the child what college he is going to atte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the child does not know, help him explore some colle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cuss financial programs available in his fu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4" descr="Boy Playing Basketball"/>
          <p:cNvPicPr/>
          <p:nvPr/>
        </p:nvPicPr>
        <p:blipFill>
          <a:blip r:embed="rId1"/>
          <a:stretch/>
        </p:blipFill>
        <p:spPr>
          <a:xfrm>
            <a:off x="5638680" y="1447920"/>
            <a:ext cx="243864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elieve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ildren know when you are a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 the child that you believe in h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ise the child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positives even when they are hard to fi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es to mom, a warm smile, a compliment can go a long 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4" descr="Flying Disc"/>
          <p:cNvPicPr/>
          <p:nvPr/>
        </p:nvPicPr>
        <p:blipFill>
          <a:blip r:embed="rId1"/>
          <a:stretch/>
        </p:blipFill>
        <p:spPr>
          <a:xfrm>
            <a:off x="5295960" y="3181320"/>
            <a:ext cx="3695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17:53:56Z</dcterms:created>
  <dc:creator>kathy</dc:creator>
  <dc:description/>
  <dc:language>en-US</dc:language>
  <cp:lastModifiedBy>RomaK</cp:lastModifiedBy>
  <dcterms:modified xsi:type="dcterms:W3CDTF">2015-09-02T09:32:37Z</dcterms:modified>
  <cp:revision>6</cp:revision>
  <dc:subject/>
  <dc:title>Empowering african american ma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