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6A95-1A40-42A2-BEC7-835E047AD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B54-37B1-4829-BA0E-80D75C7D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DB5-E37C-4E7C-B015-F694712E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5CD-A93B-4973-A95B-1B23B777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CBB-D506-45F0-9B21-7C4AAB1D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8289-092C-4350-902B-F5CD8CF4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6F84-07E2-461D-BE49-E6AED1EE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739B-DB99-4485-AA53-76132019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723-A1C6-4952-9DEA-1E4D1301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FD0A-5812-4162-AE47-4F8B7443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541F-1653-4870-A8E0-60F5F1AF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E456-EDC2-42A2-8CBD-BEBAFFD7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2E7-DF63-40E8-9AB5-F1E75FE6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26E8-4DF0-4705-8828-77A54417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65F4-7DD1-49F1-84DE-793A4DE8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9226-28AE-47C8-B6AB-E8691E87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5360-F9E5-4203-81A8-6C35980A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4EFF-9C04-4F93-A0CF-47E4299D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237-E98B-4F93-8F6B-A9462F74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9B7-289F-478D-ADFF-1FB4B4D3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3E0-D9A2-4523-B45A-A073B0D9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4E6-984F-407F-A44C-2463DF9C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E39-D65B-46EC-8816-0E1282A0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5CC-CFAE-44EF-A9CD-D5023E7E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B5B-1AE6-4201-8666-69114FE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20E3-6832-4F6A-BC3B-170AE056D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F542-4BA5-4391-9967-B40F3AED1A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066680" y="6858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Man with Dog 1"/>
          <p:cNvPicPr/>
          <p:nvPr/>
        </p:nvPicPr>
        <p:blipFill>
          <a:blip r:embed="rId1"/>
          <a:stretch/>
        </p:blipFill>
        <p:spPr>
          <a:xfrm>
            <a:off x="3352680" y="2590920"/>
            <a:ext cx="265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 Committe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g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u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ll your talent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Friends Talking 1"/>
          <p:cNvPicPr/>
          <p:nvPr/>
        </p:nvPicPr>
        <p:blipFill>
          <a:blip r:embed="rId1"/>
          <a:stretch/>
        </p:blipFill>
        <p:spPr>
          <a:xfrm>
            <a:off x="685800" y="3352680"/>
            <a:ext cx="2011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Kids on Slide 2"/>
          <p:cNvPicPr/>
          <p:nvPr/>
        </p:nvPicPr>
        <p:blipFill>
          <a:blip r:embed="rId1"/>
          <a:stretch/>
        </p:blipFill>
        <p:spPr>
          <a:xfrm>
            <a:off x="2895480" y="2438280"/>
            <a:ext cx="48006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ereotypes are dangerous perceptions we all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Boy Standing 07"/>
          <p:cNvPicPr/>
          <p:nvPr/>
        </p:nvPicPr>
        <p:blipFill>
          <a:blip r:embed="rId1"/>
          <a:stretch/>
        </p:blipFill>
        <p:spPr>
          <a:xfrm>
            <a:off x="4648320" y="1447920"/>
            <a:ext cx="2671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African American Males are 72% less likely to attend college than Caucasian Males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Over represented in Special education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Have higher levels of behavior problems in the school se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re often feared by teachers regardless of the teacher’s r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The odds are agains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Boy Standing 04"/>
          <p:cNvPicPr/>
          <p:nvPr/>
        </p:nvPicPr>
        <p:blipFill>
          <a:blip r:embed="rId1"/>
          <a:stretch/>
        </p:blipFill>
        <p:spPr>
          <a:xfrm>
            <a:off x="6858000" y="1752480"/>
            <a:ext cx="19162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Your He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Doctor 10"/>
          <p:cNvPicPr/>
          <p:nvPr/>
        </p:nvPicPr>
        <p:blipFill>
          <a:blip r:embed="rId1"/>
          <a:stretch/>
        </p:blipFill>
        <p:spPr>
          <a:xfrm>
            <a:off x="5521320" y="2490840"/>
            <a:ext cx="229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Make African American History Part of Regular Curriculu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Boy Standing 12"/>
          <p:cNvPicPr/>
          <p:nvPr/>
        </p:nvPicPr>
        <p:blipFill>
          <a:blip r:embed="rId1"/>
          <a:stretch/>
        </p:blipFill>
        <p:spPr>
          <a:xfrm>
            <a:off x="228600" y="380988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Boy Standing 05"/>
          <p:cNvPicPr/>
          <p:nvPr/>
        </p:nvPicPr>
        <p:blipFill>
          <a:blip r:embed="rId2"/>
          <a:stretch/>
        </p:blipFill>
        <p:spPr>
          <a:xfrm>
            <a:off x="7010280" y="3809880"/>
            <a:ext cx="1928880" cy="27432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1295280" y="2209680"/>
            <a:ext cx="686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Help the students to understand that all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ur history involves interaction with one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ek and teach about positive African Ameri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role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 About the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Boy Tying Shoe"/>
          <p:cNvPicPr/>
          <p:nvPr/>
        </p:nvPicPr>
        <p:blipFill>
          <a:blip r:embed="rId1"/>
          <a:stretch/>
        </p:blipFill>
        <p:spPr>
          <a:xfrm>
            <a:off x="5437080" y="2490840"/>
            <a:ext cx="245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Stop pitying them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, start helping the child to see his own skin color as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it is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Boy &amp; Skateboard 04"/>
          <p:cNvPicPr/>
          <p:nvPr/>
        </p:nvPicPr>
        <p:blipFill>
          <a:blip r:embed="rId1"/>
          <a:stretch/>
        </p:blipFill>
        <p:spPr>
          <a:xfrm>
            <a:off x="5278320" y="1219320"/>
            <a:ext cx="2570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ve students the gift of high expecta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Boy Playing Basketball"/>
          <p:cNvPicPr/>
          <p:nvPr/>
        </p:nvPicPr>
        <p:blipFill>
          <a:blip r:embed="rId1"/>
          <a:stretch/>
        </p:blipFill>
        <p:spPr>
          <a:xfrm>
            <a:off x="5638680" y="1447920"/>
            <a:ext cx="2438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eliev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Flying Disc"/>
          <p:cNvPicPr/>
          <p:nvPr/>
        </p:nvPicPr>
        <p:blipFill>
          <a:blip r:embed="rId1"/>
          <a:stretch/>
        </p:blipFill>
        <p:spPr>
          <a:xfrm>
            <a:off x="5295960" y="3181320"/>
            <a:ext cx="369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7:53:56Z</dcterms:created>
  <dc:creator>kathy</dc:creator>
  <dc:description/>
  <dc:language>en-US</dc:language>
  <cp:lastModifiedBy>RomaK</cp:lastModifiedBy>
  <dcterms:modified xsi:type="dcterms:W3CDTF">2015-09-02T09:32:37Z</dcterms:modified>
  <cp:revision>6</cp:revision>
  <dc:subject/>
  <dc:title>Empowering african american m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