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89A65-AA24-4D4C-87E2-618948E40A63}"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Guide to Writing an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Guide to Writing an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ing the Body Paragraph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body of the essay, all the preparation up to this point comes to fruition. The topic you have chosen must now be explained, described, or argued. Each main idea that you wrote down in your diagram or outline will become one of the body paragraphs. If you had three or four main ideas, you will have three or four body paragraphs. Each body paragraph will have the same basic structur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 by writing down one of your main ideas, in sentence form. Next, write down each of your supporting points for that main idea, but leave four or five lines in between each poi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space under each point, write down some elaboration for that point. Elaboration can be further description or explanation or discussio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fleshed out each of your body paragraphs, one for each main point, you are ready to continu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the Body Para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ody of the essay, all the preparation up to this point comes to fruition. The topic you have chosen must now be explained, described, or argued. Each main idea that you wrote down in your diagram or outline will become one of the body paragraphs. If you had three or four main ideas, you will have three or four body paragraphs. Each body paragraph will have the same basic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by writing down one of your main ideas, in sentence form. Next, write down each of your supporting points for that main idea, but leave four or five lines in between each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space under each point, write down some elaboration for that point. Elaboration can be further description or explanation or discu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fleshed out each of your body paragraphs, one for each main point, you are ready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r main idea is "reduces freeway congestion," you might say thi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blic transportation reduces freeway conges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pporting Poi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uters appreciate the cost savings of taking public transportation rather than driv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abor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riving time means less maintenance expense, such as oil chang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f course, less driving time means savings on gasoline as wel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many cases, these savings amount to more than the cost of riding public transport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r main idea is "reduces freeway congestion," you might say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transportation reduces freeway cong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ters appreciate the cost savings of taking public transportation rather than driv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riving time means less maintenance expense, such as oi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less driving time means savings on gasolin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any cases, these savings amount to more than the cost of riding public transpor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Introduction and Conclus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essay lacks only two paragraphs now: the introduction and the conclusion. These paragraphs will give the reader a point of entry to and a point of exit from your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Introduction and 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essay lacks only two paragraphs now: the introduction and the conclusion. These paragraphs will give the reader a point of entry to and a point of exit from your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roduc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ntroduction should be designed to attract the reader's attention and give her an idea of the essay's focus. Begin with an attention grabber. The attention grabber you use is up to you, but here are some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tling information.  This information must be true and verifiable, and it doesn't need to be totally new to your readers. It could simply be a pertinent fact that explicitly illustrates the point you wish to make. If you use a piece of startling information, follow it with a sentence or two of elabor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ecdote. An anecdote is a story that illustrates a point. Be sure your anecdote is short, to the point, and relevant to your topic. This can be a very effective opener for your essay, but use it carefull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alogue. An appropriate dialogue does not have to identify the speakers, but the reader must understand the point you are trying to convey. Use only two or three exchanges between speakers to make your point. Follow dialogue with a sentence or two of elabor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mmary Information. A few sentences explaining your topic in general terms can lead the reader gently to your thesis. Each sentence should become gradually more specific, until you reach your thesi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the attention grabber was only a sentence or two, add one or two more sentences that will lead the reader from your opening to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ish the paragraph with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roduction should be designed to attract the reader's attention and give her an idea of the essay's focus. Begin with an attention grabber. The attention grabber you use is up to you, but here are some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ling information.  This information must be true and verifiable, and it doesn't need to be totally new to your readers. It could simply be a pertinent fact that explicitly illustrates the point you wish to make. If you use a piece of startling information, follow it with a sentence or two of e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ecdote. An anecdote is a story that illustrates a point. Be sure your anecdote is short, to the point, and relevant to your topic. This can be a very effective opener for your essay, but use it carefu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logue. An appropriate dialogue does not have to identify the speakers, but the reader must understand the point you are trying to convey. Use only two or three exchanges between speakers to make your point. Follow dialogue with a sentence or two of elabo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Information. A few sentences explaining your topic in general terms can lead the reader gently to your thesis. Each sentence should become gradually more specific, until you reach your 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attention grabber was only a sentence or two, add one or two more sentences that will lead the reader from your opening to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ish the paragraph with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clus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lusion brings closure to the reader, summing up your points or providing a final perspective on your topic. All the conclusion needs is three or four strong sentences which do not need to follow any set formula. Simply review the main points (being careful not to restate them exactly) or briefly describe your feelings about the topic. Even an anecdote can end your essay in a useful way. The introduction and conclusion complete the paragraphs of your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n't stop just yet! One more step remains before your essay is truly finish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lusion brings closure to the reader, summing up your points or providing a final perspective on your topic. All the conclusion needs is three or four strong sentences which do not need to follow any set formula. Simply review the main points (being careful not to restate them exactly) or briefly describe your feelings about the topic. Even an anecdote can end your essay in a useful way. The introduction and conclusion complete the paragraphs of your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stop just yet! One more step remains before your essay is truly fin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the Finishing Touche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have now completed all of the paragraphs of your essay. Before you can consider this a finished product, however, you must give some thought to the formatting of your pap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ck the order of your paragraph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ck the instructions for the assign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ck your writ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inishing Touch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now completed all of the paragraphs of your essay. Before you can consider this a finished product, however, you must give some thought to the formatting of your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order of your paragrap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nstructions for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your 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checked your work and perfected your formatting,</a:t>
            </a:r>
            <a:br>
              <a:rPr sz="1200"/>
            </a:br>
            <a:r>
              <a:rPr b="0" lang="en-US" sz="1200" spc="-1" strike="noStrike">
                <a:solidFill>
                  <a:srgbClr val="ffffff"/>
                </a:solidFill>
                <a:latin typeface="Arial"/>
              </a:rPr>
              <a:t>your essay is finished.</a:t>
            </a:r>
            <a:br>
              <a:rPr sz="1200"/>
            </a:br>
            <a:br>
              <a:rPr sz="1200"/>
            </a:br>
            <a:br>
              <a:rPr sz="1200"/>
            </a:br>
            <a:r>
              <a:rPr b="0" lang="en-US" sz="1200" spc="-1" strike="noStrike">
                <a:solidFill>
                  <a:srgbClr val="ffffff"/>
                </a:solidFill>
                <a:latin typeface="Arial"/>
              </a:rPr>
              <a:t>Congratulation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checked your work and perfected your formatting,</a:t>
            </a:r>
            <a:br>
              <a:rPr sz="1200"/>
            </a:br>
            <a:r>
              <a:rPr b="0" lang="en-US" sz="1200" spc="-1" strike="noStrike">
                <a:solidFill>
                  <a:srgbClr val="000000"/>
                </a:solidFill>
                <a:latin typeface="Arial"/>
              </a:rPr>
              <a:t>your essay is finished.</a:t>
            </a:r>
            <a:br>
              <a:rPr sz="1200"/>
            </a:br>
            <a:br>
              <a:rPr sz="1200"/>
            </a:br>
            <a:br>
              <a:rPr sz="1200"/>
            </a:br>
            <a:r>
              <a:rPr b="0" lang="en-US" sz="1200" spc="-1" strike="noStrike">
                <a:solidFill>
                  <a:srgbClr val="000000"/>
                </a:solidFill>
                <a:latin typeface="Arial"/>
              </a:rPr>
              <a:t>Congratulation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an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ssay can have many purposes, but the basic structure is the same no matter what. You may be writing an essay to argue for a particular point of view or to explain the steps necessary to complete a task. Either way, your essay will have the same basic format. If you follow a few simple steps, you will find that the essay almost writes itself. You will be responsible only for supplying ideas, which are the important part of the essay anyway.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n't let the thought of putting pen to paper daunt you. Get start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an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ssay can have many purposes, but the basic structure is the same no matter what. You may be writing an essay to argue for a particular point of view or to explain the steps necessary to complete a task. Either way, your essay will have the same basic format. If you follow a few simple steps, you will find that the essay almost writes itself. You will be responsible only for supplying ideas, which are the important part of the essay any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let the thought of putting pen to paper daunt you. Get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say Forma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e simple steps will guide you through the essay writing proce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cide on your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pare an outline or diagram of your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bod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main poi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subpoi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aborate on the subpoi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introduc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he conclus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the finishing touch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ay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imple steps will guide you through the essay writing pro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de on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 an outline or diagram of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m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sub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aborate on the sub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e 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finishing tou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oosing a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may have no choice as to your topic. If this is the case, you still may not be ready to jump to the next step. Think about the type of paper you are expected to produce. Should it be a general overview, or a specific analysis of the topic? If it should be an overview, then you are probably ready to move to the next step. If it should be a specific analysis, make sure your topic is fairly specific. If it is too general, you must choose a narrower subtopic to discus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example, the topic "KENYA" is a general one. If your objective is to write an overview, this topic is suitable. If your objective is to write a specific analysis, this topic is too general. You must narrow it to something like "Politics in Kenya" or "Kenya's Cultur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determined that your topic will be suitable, you can move 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ing a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no choice as to your topic. If this is the case, you still may not be ready to jump to the next step. Think about the type of paper you are expected to produce. Should it be a general overview, or a specific analysis of the topic? If it should be an overview, then you are probably ready to move to the next step. If it should be a specific analysis, make sure your topic is fairly specific. If it is too general, you must choose a narrower subtopic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topic "KENYA" is a general one. If your objective is to write an overview, this topic is suitable. If your objective is to write a specific analysis, this topic is too general. You must narrow it to something like "Politics in Kenya" or "Kenya's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determined that your topic will be suitable, you can mov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ganize Your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rpose of an outline or diagram is to put your ideas about the topic on paper, in a moderately organized format. The structure you create here may still change before the essay is complete, so don't agonize over this. Decide whether you prefer the cut-and-dried structure of an outline or a more flowing structure. If you start one or the other and decide it isn't working for you, you can always switch later.</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an outline or diagram is to put your ideas about the topic on paper, in a moderately organized format. The structure you create here may still change before the essay is complete, so don't agonize over this. Decide whether you prefer the cut-and-dried structure of an outline or a more flowing structure. If you start one or the other and decide it isn't working for you, you can always switch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Organizing Your Idea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ing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ing Your Outlin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gin your outline by writing your topic at the top of the pag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write the Roman numerals I, II, and III, spread apart down the left side of the pag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to each Roman numeral, write the main ideas that you have about your topic, or the main points that you want to mak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are trying to persuade, you want to write your best argume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are trying to explain a process, you want to write the steps that should be followed. You will probably need to group these into categories. If you have trouble grouping the steps into categories, try using Beginning, Middle, and E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are trying to inform, you want to write the major categories into which your information can be divide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 each Roman numeral, write A, B, and C down the left side of the pag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to each letter, write the facts or information that support that main idea.</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have finished, you have the basic structure for your essay and are ready to continu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ing Your Out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 your outline by writing your topic at the top of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rite the Roman numerals I, II, and III, spread apart down the left side of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o each Roman numeral, write the main ideas that you have about your topic, or the main points that you want to 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rying to persuade, you want to write your best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rying to explain a process, you want to write the steps that should be followed. You will probably need to group these into categories. If you have trouble grouping the steps into categories, try using Beginning, Middle, and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trying to inform, you want to write the major categories into which your information can be di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each Roman numeral, write A, B, and C down the left side of the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to each letter, write the facts or information that support that main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finished, you have the basic structure for your essay and are ready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sing a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at you have decided, at least tentatively, what information you plan to present in your essay, you are ready to write your thesis statemen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hesis statement tells the reader what the essay will be about, and what point you, the author, will be making.</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know what the essay will be about. That was your topic. Now you must look at your outline or diagram and decide what point you will be making. What do the main ideas and supporting ideas that you listed say about your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sing a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have decided, at least tentatively, what information you plan to present in your essay, you are ready to write your thesis stat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sis statement tells the reader what the essay will be about, and what point you, the author, will be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what the essay will be about. That was your topic. Now you must look at your outline or diagram and decide what point you will be making. What do the main ideas and supporting ideas that you listed say about your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sis Statemen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thesis statement will have two part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part states the topic.</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nya's Cultur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ilding a Model Train Set</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blic Transport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econd part states the point of the essa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s a rich and varied history</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kes time and patien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solve some of our city's most persistent and pressing problem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ce you have formulated a thesis statement that fits this pattern and with which you are comfortable, you are ready to continu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is Stat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hesis statement will have two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part states the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ya's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a Model Train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Transpor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part states the point of the es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a rich and varied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time and pat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olve some of our city's most persistent and pressing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have formulated a thesis statement that fits this pattern and with which you are comfortable, you are ready to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0FD7E9-A3D1-4F52-8AEA-79CD299035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C5F8A-CEFE-46E9-89DB-A3244645F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96FE4-B4E8-496F-B392-32E14C75D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F0838-3BF2-4388-A057-9F91E3D38E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8F8853-3281-4886-874A-A809E52007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C16F4-0E92-4707-93F4-A59EF30203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39852-978A-40CD-AB91-3726095E4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0DD623-EC70-483B-A139-786BCDCCCC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4F63F-4C70-4BAC-AA19-38C2E958D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6664E-1EDA-4FD6-95C6-925EFE5E9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91BCC-3463-41FA-8BDE-9FDDE6BB8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4DA56-37C6-4C74-B163-FDB1655DD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9AECB-0427-43E7-9F72-616A09AF0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26E4B-1417-4E0A-B245-662C978BC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668ACA-D5EB-4849-B5A7-14BCFAE33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2C3677-29FC-4303-B759-78471E340D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00DF41-3DFD-4A2D-A72C-7364582DDE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0913D-6644-495C-B9E6-704400122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AEF465-5E89-4807-BE87-CCDFA909E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9890A-2BAE-4B9F-A24E-0A903B835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079E5-CEE3-495C-89B7-9F26926CA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F2A90-0E29-4CD7-A053-3C6D5DD10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B3243-D7FB-4CF2-9C1B-0C74E2795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BD6B5-F2D9-4E0C-97E2-11C9462932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24507-A4D9-4BE6-8F98-4D5D51C15B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6A6CC-7C0A-4480-8495-B112998F7FE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828800"/>
            <a:ext cx="7772400" cy="17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Basic Guide to Writing an Essay</a:t>
            </a:r>
            <a:endParaRPr b="1" lang="en-US" sz="54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riting the Body Paragraphs</a:t>
            </a:r>
            <a:endParaRPr b="1" lang="en-US" sz="4400" spc="-1" strike="noStrike">
              <a:solidFill>
                <a:srgbClr val="feec94"/>
              </a:solidFill>
              <a:latin typeface="Times New Roman"/>
            </a:endParaRPr>
          </a:p>
        </p:txBody>
      </p:sp>
      <p:sp>
        <p:nvSpPr>
          <p:cNvPr id="156" name="PlaceHolder 2"/>
          <p:cNvSpPr>
            <a:spLocks noGrp="1"/>
          </p:cNvSpPr>
          <p:nvPr>
            <p:ph/>
          </p:nvPr>
        </p:nvSpPr>
        <p:spPr>
          <a:xfrm>
            <a:off x="456840" y="1676520"/>
            <a:ext cx="8458200" cy="4952880"/>
          </a:xfrm>
          <a:prstGeom prst="rect">
            <a:avLst/>
          </a:prstGeom>
          <a:noFill/>
          <a:ln w="0">
            <a:noFill/>
          </a:ln>
        </p:spPr>
        <p:txBody>
          <a:bodyPr anchor="t">
            <a:normAutofit fontScale="99000"/>
          </a:bodyPr>
          <a:p>
            <a:pPr marL="339480" indent="-3394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body of the essay, all the preparation up to this point comes to fruition. The topic you have chosen must now be explained, described, or argued. Each main idea that you wrote down in your diagram or outline will become one of the body paragraphs. If you had three or four main ideas, you will have three or four body paragraphs. Each body paragraph will have the same basic structure. </a:t>
            </a:r>
            <a:endParaRPr b="0" lang="en-US" sz="2400" spc="-1" strike="noStrike">
              <a:solidFill>
                <a:srgbClr val="ffffff"/>
              </a:solidFill>
              <a:latin typeface="Times New Roman"/>
            </a:endParaRPr>
          </a:p>
          <a:p>
            <a:pPr lvl="1" marL="735480" indent="-28296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rt by writing down one of your main ideas, in sentence form. Next, write down each of your supporting points for that main idea, but leave four or five lines in between each point.</a:t>
            </a:r>
            <a:endParaRPr b="0" lang="en-US" sz="2400" spc="-1" strike="noStrike">
              <a:solidFill>
                <a:srgbClr val="ffffff"/>
              </a:solidFill>
              <a:latin typeface="Times New Roman"/>
            </a:endParaRPr>
          </a:p>
          <a:p>
            <a:pPr lvl="1" marL="735480" indent="-28296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the space under each point, write down some elaboration for that point. Elaboration can be further description or explanation or discussion. </a:t>
            </a:r>
            <a:endParaRPr b="0" lang="en-US" sz="2400" spc="-1" strike="noStrike">
              <a:solidFill>
                <a:srgbClr val="ffffff"/>
              </a:solidFill>
              <a:latin typeface="Times New Roman"/>
            </a:endParaRPr>
          </a:p>
          <a:p>
            <a:pPr lvl="1" marL="735480" indent="-282960">
              <a:lnSpc>
                <a:spcPct val="8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ce you have fleshed out each of your body paragraphs, one for each main point, you are ready to continue.</a:t>
            </a:r>
            <a:endParaRPr b="0" lang="en-US" sz="2400" spc="-1" strike="noStrike">
              <a:solidFill>
                <a:srgbClr val="ffffff"/>
              </a:solidFill>
              <a:latin typeface="Times New Roman"/>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xample</a:t>
            </a:r>
            <a:endParaRPr b="1" lang="en-US" sz="4400" spc="-1" strike="noStrike">
              <a:solidFill>
                <a:srgbClr val="feec94"/>
              </a:solidFill>
              <a:latin typeface="Times New Roman"/>
            </a:endParaRPr>
          </a:p>
        </p:txBody>
      </p:sp>
      <p:sp>
        <p:nvSpPr>
          <p:cNvPr id="158" name="PlaceHolder 2"/>
          <p:cNvSpPr>
            <a:spLocks noGrp="1"/>
          </p:cNvSpPr>
          <p:nvPr>
            <p:ph/>
          </p:nvPr>
        </p:nvSpPr>
        <p:spPr>
          <a:xfrm>
            <a:off x="457200" y="1600200"/>
            <a:ext cx="8229600" cy="4952880"/>
          </a:xfrm>
          <a:prstGeom prst="rect">
            <a:avLst/>
          </a:prstGeom>
          <a:noFill/>
          <a:ln w="0">
            <a:noFill/>
          </a:ln>
        </p:spPr>
        <p:txBody>
          <a:bodyPr anchor="t">
            <a:normAutofit/>
          </a:bodyPr>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your main idea is "reduces freeway congestion," you might say this:</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ublic transportation reduces freeway congestion.</a:t>
            </a:r>
            <a:endParaRPr b="0" lang="en-US" sz="20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orting Point:</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ommuters appreciate the cost savings of taking public transportation rather than driving.</a:t>
            </a:r>
            <a:endParaRPr b="0" lang="en-US" sz="2000" spc="-1" strike="noStrike">
              <a:solidFill>
                <a:srgbClr val="ffffff"/>
              </a:solidFill>
              <a:latin typeface="Times New Roman"/>
            </a:endParaRPr>
          </a:p>
          <a:p>
            <a:pPr lvl="1" marL="743040" indent="-285840">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boration</a:t>
            </a:r>
            <a:endParaRPr b="0" lang="en-US" sz="24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ess driving time means less maintenance expense, such as oil changes.</a:t>
            </a:r>
            <a:endParaRPr b="0" lang="en-US" sz="20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f course, less driving time means savings on gasoline as well.</a:t>
            </a:r>
            <a:endParaRPr b="0" lang="en-US" sz="2000" spc="-1" strike="noStrike">
              <a:solidFill>
                <a:srgbClr val="ffffff"/>
              </a:solidFill>
              <a:latin typeface="Times New Roman"/>
            </a:endParaRPr>
          </a:p>
          <a:p>
            <a:pPr lvl="2" marL="1143000" indent="-228600">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 many cases, these savings amount to more than the cost of riding public transportation.</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ec94"/>
                </a:solidFill>
                <a:latin typeface="Times New Roman"/>
              </a:rPr>
              <a:t>Write the Introduction and Conclusion</a:t>
            </a:r>
            <a:endParaRPr b="1" lang="en-US" sz="4000" spc="-1" strike="noStrike">
              <a:solidFill>
                <a:srgbClr val="feec94"/>
              </a:solidFill>
              <a:latin typeface="Times New Roman"/>
            </a:endParaRPr>
          </a:p>
        </p:txBody>
      </p:sp>
      <p:sp>
        <p:nvSpPr>
          <p:cNvPr id="160" name="Text Box 4"/>
          <p:cNvSpPr/>
          <p:nvPr/>
        </p:nvSpPr>
        <p:spPr>
          <a:xfrm>
            <a:off x="838080" y="1981080"/>
            <a:ext cx="7543800" cy="278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r essay lacks only two paragraphs now: the introduction and the conclusion. These paragraphs will give the reader a point of entry to and a point of exit from your essay.</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0"/>
            <a:ext cx="8153280" cy="78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Introduction</a:t>
            </a:r>
            <a:endParaRPr b="1" lang="en-US" sz="4400" spc="-1" strike="noStrike">
              <a:solidFill>
                <a:srgbClr val="feec94"/>
              </a:solidFill>
              <a:latin typeface="Times New Roman"/>
            </a:endParaRPr>
          </a:p>
        </p:txBody>
      </p:sp>
      <p:sp>
        <p:nvSpPr>
          <p:cNvPr id="162" name="PlaceHolder 2"/>
          <p:cNvSpPr>
            <a:spLocks noGrp="1"/>
          </p:cNvSpPr>
          <p:nvPr>
            <p:ph/>
          </p:nvPr>
        </p:nvSpPr>
        <p:spPr>
          <a:xfrm>
            <a:off x="457200" y="837720"/>
            <a:ext cx="8229600" cy="5715000"/>
          </a:xfrm>
          <a:prstGeom prst="rect">
            <a:avLst/>
          </a:prstGeom>
          <a:noFill/>
          <a:ln w="0">
            <a:noFill/>
          </a:ln>
        </p:spPr>
        <p:txBody>
          <a:bodyPr anchor="t">
            <a:normAutofit/>
          </a:bodyPr>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The introduction should be designed to attract the reader's attention and give her an idea of the essay's focus. Begin with an attention grabber. The attention grabber you use is up to you, but here are some ideas:</a:t>
            </a: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tartling information</a:t>
            </a:r>
            <a:r>
              <a:rPr b="0" lang="en-US" sz="1700" spc="-1" strike="noStrike">
                <a:solidFill>
                  <a:srgbClr val="ffffff"/>
                </a:solidFill>
                <a:latin typeface="Times New Roman"/>
              </a:rPr>
              <a:t>.  This information must be true and verifiable, and it doesn't need to be totally new to your readers. It could simply be a pertinent fact that explicitly illustrates the point you wish to make. If you use a piece of startling information, follow it with a sentence or two of elaboration.</a:t>
            </a:r>
            <a:endParaRPr b="0" lang="en-US" sz="1700" spc="-1" strike="noStrike">
              <a:solidFill>
                <a:srgbClr val="ffffff"/>
              </a:solidFill>
              <a:latin typeface="Times New Roman"/>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Anecdote</a:t>
            </a:r>
            <a:r>
              <a:rPr b="0" lang="en-US" sz="1700" spc="-1" strike="noStrike">
                <a:solidFill>
                  <a:srgbClr val="ffffff"/>
                </a:solidFill>
                <a:latin typeface="Times New Roman"/>
              </a:rPr>
              <a:t>. An anecdote is a story that illustrates a point. Be sure your anecdote is short, to the point, and relevant to your topic. This can be a very effective opener for your essay, but use it carefully.</a:t>
            </a:r>
            <a:endParaRPr b="0" lang="en-US" sz="1700" spc="-1" strike="noStrike">
              <a:solidFill>
                <a:srgbClr val="ffffff"/>
              </a:solidFill>
              <a:latin typeface="Times New Roman"/>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Dialogue</a:t>
            </a:r>
            <a:r>
              <a:rPr b="0" lang="en-US" sz="1700" spc="-1" strike="noStrike">
                <a:solidFill>
                  <a:srgbClr val="ffffff"/>
                </a:solidFill>
                <a:latin typeface="Times New Roman"/>
              </a:rPr>
              <a:t>. An appropriate dialogue does not have to identify the speakers, but the reader must understand the point you are trying to convey. Use only two or three exchanges between speakers to make your point. Follow dialogue with a sentence or two of elaboration.</a:t>
            </a:r>
            <a:endParaRPr b="0" lang="en-US" sz="1700" spc="-1" strike="noStrike">
              <a:solidFill>
                <a:srgbClr val="ffffff"/>
              </a:solidFill>
              <a:latin typeface="Times New Roman"/>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lvl="1" marL="743040" indent="-285840">
              <a:lnSpc>
                <a:spcPct val="80000"/>
              </a:lnSpc>
              <a:spcBef>
                <a:spcPts val="425"/>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Times New Roman"/>
              </a:rPr>
              <a:t>Summary Information</a:t>
            </a:r>
            <a:r>
              <a:rPr b="0" lang="en-US" sz="1700" spc="-1" strike="noStrike">
                <a:solidFill>
                  <a:srgbClr val="ffffff"/>
                </a:solidFill>
                <a:latin typeface="Times New Roman"/>
              </a:rPr>
              <a:t>. A few sentences explaining your topic in general terms can lead the reader gently to your thesis. Each sentence should become gradually more specific, until you reach your thesis.</a:t>
            </a:r>
            <a:endParaRPr b="0" lang="en-US" sz="1700" spc="-1" strike="noStrike">
              <a:solidFill>
                <a:srgbClr val="ffffff"/>
              </a:solidFill>
              <a:latin typeface="Times New Roman"/>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If the attention grabber was only a sentence or two, add one or two more sentences that will lead the reader from your opening to your thesis statement.</a:t>
            </a:r>
            <a:endParaRPr b="0" lang="en-US" sz="1700" spc="-1" strike="noStrike">
              <a:solidFill>
                <a:srgbClr val="ffffff"/>
              </a:solidFill>
              <a:latin typeface="Times New Roman"/>
            </a:endParaRPr>
          </a:p>
          <a:p>
            <a:pPr marL="343080" indent="-343080">
              <a:lnSpc>
                <a:spcPct val="80000"/>
              </a:lnSpc>
              <a:spcBef>
                <a:spcPts val="42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rPr>
              <a:t>Finish the paragraph with your thesis statement.</a:t>
            </a:r>
            <a:endParaRPr b="0" lang="en-US" sz="1700" spc="-1" strike="noStrike">
              <a:solidFill>
                <a:srgbClr val="ffffff"/>
              </a:solidFill>
              <a:latin typeface="Times New Roman"/>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nclusion</a:t>
            </a:r>
            <a:endParaRPr b="1" lang="en-US" sz="4400" spc="-1" strike="noStrike">
              <a:solidFill>
                <a:srgbClr val="feec94"/>
              </a:solidFill>
              <a:latin typeface="Times New Roman"/>
            </a:endParaRPr>
          </a:p>
        </p:txBody>
      </p:sp>
      <p:sp>
        <p:nvSpPr>
          <p:cNvPr id="164" name="PlaceHolder 2"/>
          <p:cNvSpPr>
            <a:spLocks noGrp="1"/>
          </p:cNvSpPr>
          <p:nvPr>
            <p:ph/>
          </p:nvPr>
        </p:nvSpPr>
        <p:spPr>
          <a:xfrm>
            <a:off x="457200" y="1218960"/>
            <a:ext cx="8229600" cy="491148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conclusion brings closure to the reader, summing up your points or providing a final perspective on your topic. All the conclusion needs is three or four strong sentences which do not need to follow any set formula. Simply review the main points (being careful not to restate them exactly) or briefly describe your feelings about the topic. Even an anecdote can end your essay in a useful way. The introduction and conclusion complete the paragraphs of your essay.</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n't stop just yet! One more step remains before your essay is truly finished.</a:t>
            </a:r>
            <a:endParaRPr b="0" lang="en-US" sz="2800" spc="-1" strike="noStrike">
              <a:solidFill>
                <a:srgbClr val="ffffff"/>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Add the Finishing Touches</a:t>
            </a:r>
            <a:br>
              <a:rPr sz="4000"/>
            </a:br>
            <a:endParaRPr b="1" lang="en-US" sz="4000" spc="-1" strike="noStrike">
              <a:solidFill>
                <a:srgbClr val="feec94"/>
              </a:solidFill>
              <a:latin typeface="Times New Roman"/>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have now completed all of the paragraphs of your essay. Before you can consider this a finished product, however, you must give some thought to the formatting of your paper.</a:t>
            </a:r>
            <a:endParaRPr b="0" lang="en-US" sz="32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the order of your paragraphs.</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the instructions for the assignment.</a:t>
            </a:r>
            <a:endParaRPr b="0" lang="en-US" sz="2800" spc="-1" strike="noStrike">
              <a:solidFill>
                <a:srgbClr val="ffffff"/>
              </a:solidFill>
              <a:latin typeface="Times New Roman"/>
            </a:endParaRPr>
          </a:p>
          <a:p>
            <a:pPr lvl="1" marL="743040" indent="-285840">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eck your writing.</a:t>
            </a:r>
            <a:endParaRPr b="0" lang="en-US" sz="28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828440"/>
            <a:ext cx="8229600" cy="322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ec94"/>
                </a:solidFill>
                <a:latin typeface="Times New Roman"/>
              </a:rPr>
              <a:t>Once you have checked your work and perfected your formatting,</a:t>
            </a:r>
            <a:br>
              <a:rPr sz="4000"/>
            </a:br>
            <a:r>
              <a:rPr b="0" lang="en-US" sz="4000" spc="-1" strike="noStrike">
                <a:solidFill>
                  <a:srgbClr val="feec94"/>
                </a:solidFill>
                <a:latin typeface="Times New Roman"/>
              </a:rPr>
              <a:t>your essay is finished.</a:t>
            </a:r>
            <a:br>
              <a:rPr sz="4000"/>
            </a:br>
            <a:br>
              <a:rPr sz="4000"/>
            </a:br>
            <a:br>
              <a:rPr sz="4000"/>
            </a:br>
            <a:r>
              <a:rPr b="1" lang="en-US" sz="4000" spc="-1" strike="noStrike">
                <a:solidFill>
                  <a:srgbClr val="feec94"/>
                </a:solidFill>
                <a:latin typeface="Times New Roman"/>
              </a:rPr>
              <a:t>Congratulations!</a:t>
            </a:r>
            <a:br>
              <a:rPr sz="4000"/>
            </a:br>
            <a:endParaRPr b="1" lang="en-US" sz="4000" spc="-1" strike="noStrike">
              <a:solidFill>
                <a:srgbClr val="feec9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hat is an Essay?</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 essay can have many purposes, but the basic structure is the same no matter what. You may be writing an essay to argue for a particular point of view or to explain the steps necessary to complete a task. Either way, your essay will have the same basic format. If you follow a few simple steps, you will find that the essay almost writes itself. You will be responsible only for supplying ideas, which are the important part of the essay anyway.</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on't let the thought of putting pen to paper daunt you. Get started!</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Essay Format</a:t>
            </a:r>
            <a:endParaRPr b="1" lang="en-US" sz="44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se simple steps will guide you through the essay writing proces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cide on your topic.</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pare an outline or diagram of your idea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your thesis statement.</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body.</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main point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subpoint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aborate on the subpoints.</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introduction.</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the conclusion.</a:t>
            </a:r>
            <a:endParaRPr b="0" lang="en-US" sz="2400" spc="-1" strike="noStrike">
              <a:solidFill>
                <a:srgbClr val="ffffff"/>
              </a:solidFill>
              <a:latin typeface="Times New Roman"/>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 the finishing touches.</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hoosing a Topic</a:t>
            </a:r>
            <a:endParaRPr b="1" lang="en-US" sz="4400" spc="-1" strike="noStrike">
              <a:solidFill>
                <a:srgbClr val="feec94"/>
              </a:solidFill>
              <a:latin typeface="Times New Roman"/>
            </a:endParaRPr>
          </a:p>
        </p:txBody>
      </p:sp>
      <p:sp>
        <p:nvSpPr>
          <p:cNvPr id="133" name="Rectangle 4"/>
          <p:cNvSpPr/>
          <p:nvPr/>
        </p:nvSpPr>
        <p:spPr>
          <a:xfrm>
            <a:off x="228600" y="1905120"/>
            <a:ext cx="86104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You may have no choice as to your topic. If this is the case, you still may not be ready to jump to the next step. Think about the type of paper you are expected to produce. Should it be a general overview, or a specific analysis of the topic? If it should be an overview, then you are probably ready to move to the next step. If it should be a specific analysis, make sure your topic is fairly specific. If it is too general, you must choose a narrower subtopic to discus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r example, the topic "KENYA" is a general one. If your objective is to write an overview, this topic is suitable. If your objective is to write a specific analysis, this topic is too general. You must narrow it to something like "Politics in Kenya" or "Kenya's Culture.“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nce you have determined that your topic will be suitable, you can move on.</a:t>
            </a:r>
            <a:endParaRPr b="0" lang="en-US" sz="20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rganize Your Ideas</a:t>
            </a:r>
            <a:endParaRPr b="1" lang="en-US" sz="4400" spc="-1" strike="noStrike">
              <a:solidFill>
                <a:srgbClr val="feec94"/>
              </a:solidFill>
              <a:latin typeface="Times New Roman"/>
            </a:endParaRPr>
          </a:p>
        </p:txBody>
      </p:sp>
      <p:sp>
        <p:nvSpPr>
          <p:cNvPr id="135" name="Rectangle 5"/>
          <p:cNvSpPr/>
          <p:nvPr/>
        </p:nvSpPr>
        <p:spPr>
          <a:xfrm>
            <a:off x="304920" y="2209680"/>
            <a:ext cx="845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urpose of an outline or diagram is to put your ideas about the topic on paper, in a moderately organized format. The structure you create here may still change before the essay is complete, so don't agonize over this. Decide whether you prefer the cut-and-dried structure of an outline or a more flowing structure. If you start one or the other and decide it isn't working for you, you can always switch lat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Organizing Your Ideas</a:t>
            </a:r>
            <a:endParaRPr b="1" lang="en-US" sz="4400" spc="-1" strike="noStrike">
              <a:solidFill>
                <a:srgbClr val="feec94"/>
              </a:solidFill>
              <a:latin typeface="Times New Roman"/>
            </a:endParaRPr>
          </a:p>
        </p:txBody>
      </p:sp>
      <p:grpSp>
        <p:nvGrpSpPr>
          <p:cNvPr id="137" name="Diagram 10"/>
          <p:cNvGrpSpPr/>
          <p:nvPr/>
        </p:nvGrpSpPr>
        <p:grpSpPr>
          <a:xfrm>
            <a:off x="2516040" y="1730520"/>
            <a:ext cx="4111920" cy="3962160"/>
            <a:chOff x="2516040" y="1730520"/>
            <a:chExt cx="4111920" cy="3962160"/>
          </a:xfrm>
        </p:grpSpPr>
        <p:sp>
          <p:nvSpPr>
            <p:cNvPr id="138" name="_s1028"/>
            <p:cNvSpPr/>
            <p:nvPr/>
          </p:nvSpPr>
          <p:spPr>
            <a:xfrm flipH="1" flipV="1">
              <a:off x="3557160" y="3533400"/>
              <a:ext cx="507960" cy="166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39" name="_s1029"/>
            <p:cNvSpPr/>
            <p:nvPr/>
          </p:nvSpPr>
          <p:spPr>
            <a:xfrm>
              <a:off x="2516040" y="2836800"/>
              <a:ext cx="1067040" cy="10670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reeds</a:t>
              </a:r>
              <a:endParaRPr b="0" lang="en-US" sz="1800" spc="-1" strike="noStrike">
                <a:solidFill>
                  <a:srgbClr val="ffffff"/>
                </a:solidFill>
                <a:latin typeface="Times New Roman"/>
              </a:endParaRPr>
            </a:p>
          </p:txBody>
        </p:sp>
        <p:sp>
          <p:nvSpPr>
            <p:cNvPr id="140" name="_s1030"/>
            <p:cNvSpPr/>
            <p:nvPr/>
          </p:nvSpPr>
          <p:spPr>
            <a:xfrm flipH="1">
              <a:off x="3943080" y="4295880"/>
              <a:ext cx="315720" cy="431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1" name="_s1031"/>
            <p:cNvSpPr/>
            <p:nvPr/>
          </p:nvSpPr>
          <p:spPr>
            <a:xfrm>
              <a:off x="3098880" y="4626000"/>
              <a:ext cx="106668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Health</a:t>
              </a:r>
              <a:endParaRPr b="0" lang="en-US" sz="1800" spc="-1" strike="noStrike">
                <a:solidFill>
                  <a:srgbClr val="ffffff"/>
                </a:solidFill>
                <a:latin typeface="Times New Roman"/>
              </a:endParaRPr>
            </a:p>
          </p:txBody>
        </p:sp>
        <p:sp>
          <p:nvSpPr>
            <p:cNvPr id="142" name="_s1032"/>
            <p:cNvSpPr/>
            <p:nvPr/>
          </p:nvSpPr>
          <p:spPr>
            <a:xfrm>
              <a:off x="4884840" y="4295880"/>
              <a:ext cx="314280" cy="433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3" name="_s1033"/>
            <p:cNvSpPr/>
            <p:nvPr/>
          </p:nvSpPr>
          <p:spPr>
            <a:xfrm>
              <a:off x="4979880" y="4626000"/>
              <a:ext cx="106704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utrition</a:t>
              </a:r>
              <a:endParaRPr b="0" lang="en-US" sz="1800" spc="-1" strike="noStrike">
                <a:solidFill>
                  <a:srgbClr val="ffffff"/>
                </a:solidFill>
                <a:latin typeface="Times New Roman"/>
              </a:endParaRPr>
            </a:p>
          </p:txBody>
        </p:sp>
        <p:sp>
          <p:nvSpPr>
            <p:cNvPr id="144" name="_s1034"/>
            <p:cNvSpPr/>
            <p:nvPr/>
          </p:nvSpPr>
          <p:spPr>
            <a:xfrm flipV="1">
              <a:off x="5078520" y="3534840"/>
              <a:ext cx="509400" cy="1652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5" name="_s1035"/>
            <p:cNvSpPr/>
            <p:nvPr/>
          </p:nvSpPr>
          <p:spPr>
            <a:xfrm>
              <a:off x="5560920" y="2836800"/>
              <a:ext cx="1067040" cy="106704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Behavior</a:t>
              </a:r>
              <a:endParaRPr b="0" lang="en-US" sz="1800" spc="-1" strike="noStrike">
                <a:solidFill>
                  <a:srgbClr val="ffffff"/>
                </a:solidFill>
                <a:latin typeface="Times New Roman"/>
              </a:endParaRPr>
            </a:p>
          </p:txBody>
        </p:sp>
        <p:sp>
          <p:nvSpPr>
            <p:cNvPr id="146" name="_s1036"/>
            <p:cNvSpPr/>
            <p:nvPr/>
          </p:nvSpPr>
          <p:spPr>
            <a:xfrm flipV="1">
              <a:off x="4572000" y="2797200"/>
              <a:ext cx="0" cy="534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Times New Roman"/>
              </a:endParaRPr>
            </a:p>
          </p:txBody>
        </p:sp>
        <p:sp>
          <p:nvSpPr>
            <p:cNvPr id="147" name="_s1037"/>
            <p:cNvSpPr/>
            <p:nvPr/>
          </p:nvSpPr>
          <p:spPr>
            <a:xfrm>
              <a:off x="4038480" y="1730520"/>
              <a:ext cx="106704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Grooming</a:t>
              </a:r>
              <a:endParaRPr b="0" lang="en-US" sz="1800" spc="-1" strike="noStrike">
                <a:solidFill>
                  <a:srgbClr val="ffffff"/>
                </a:solidFill>
                <a:latin typeface="Times New Roman"/>
              </a:endParaRPr>
            </a:p>
          </p:txBody>
        </p:sp>
        <p:sp>
          <p:nvSpPr>
            <p:cNvPr id="148" name="_s1038"/>
            <p:cNvSpPr/>
            <p:nvPr/>
          </p:nvSpPr>
          <p:spPr>
            <a:xfrm>
              <a:off x="4038480" y="3332160"/>
              <a:ext cx="1067040" cy="10666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ogs</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Writing Your Outline</a:t>
            </a:r>
            <a:endParaRPr b="1" lang="en-US" sz="4400" spc="-1" strike="noStrike">
              <a:solidFill>
                <a:srgbClr val="feec94"/>
              </a:solidFill>
              <a:latin typeface="Times New Roman"/>
            </a:endParaRPr>
          </a:p>
        </p:txBody>
      </p:sp>
      <p:sp>
        <p:nvSpPr>
          <p:cNvPr id="150" name="PlaceHolder 2"/>
          <p:cNvSpPr>
            <a:spLocks noGrp="1"/>
          </p:cNvSpPr>
          <p:nvPr>
            <p:ph/>
          </p:nvPr>
        </p:nvSpPr>
        <p:spPr>
          <a:xfrm>
            <a:off x="380880" y="1218960"/>
            <a:ext cx="8305920" cy="4911480"/>
          </a:xfrm>
          <a:prstGeom prst="rect">
            <a:avLst/>
          </a:prstGeom>
          <a:noFill/>
          <a:ln w="0">
            <a:noFill/>
          </a:ln>
        </p:spPr>
        <p:txBody>
          <a:bodyPr anchor="t">
            <a:normAutofit fontScale="96000"/>
          </a:bodyPr>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gin your outline by writing your topic at the top of the page.</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xt, write the Roman numerals I, II, and III, spread apart down the left side of the page.</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xt to each Roman numeral, write the main ideas that you have about your topic, or the main points that you want to make.</a:t>
            </a:r>
            <a:endParaRPr b="0" lang="en-US" sz="2000" spc="-1" strike="noStrike">
              <a:solidFill>
                <a:srgbClr val="ffffff"/>
              </a:solidFill>
              <a:latin typeface="Times New Roman"/>
            </a:endParaRPr>
          </a:p>
          <a:p>
            <a:pPr lvl="2" marL="1097280" indent="-21924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are trying to persuade, you want to write your best arguments.</a:t>
            </a:r>
            <a:endParaRPr b="0" lang="en-US" sz="2000" spc="-1" strike="noStrike">
              <a:solidFill>
                <a:srgbClr val="ffffff"/>
              </a:solidFill>
              <a:latin typeface="Times New Roman"/>
            </a:endParaRPr>
          </a:p>
          <a:p>
            <a:pPr lvl="2" marL="1097280" indent="-21924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are trying to explain a process, you want to write the steps that should be followed. You will probably need to group these into categories. If you have trouble grouping the steps into categories, try using Beginning, Middle, and End.</a:t>
            </a:r>
            <a:endParaRPr b="0" lang="en-US" sz="2000" spc="-1" strike="noStrike">
              <a:solidFill>
                <a:srgbClr val="ffffff"/>
              </a:solidFill>
              <a:latin typeface="Times New Roman"/>
            </a:endParaRPr>
          </a:p>
          <a:p>
            <a:pPr lvl="2" marL="1097280" indent="-21924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f you are trying to inform, you want to write the major categories into which your information can be divided.</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Under each Roman numeral, write A, B, and C down the left side of the page.</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ext to each letter, write the facts or information that support that main idea.</a:t>
            </a:r>
            <a:endParaRPr b="0" lang="en-US" sz="2000" spc="-1" strike="noStrike">
              <a:solidFill>
                <a:srgbClr val="ffffff"/>
              </a:solidFill>
              <a:latin typeface="Times New Roman"/>
            </a:endParaRPr>
          </a:p>
          <a:p>
            <a:pPr marL="329040" indent="-32904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hen you have finished, you have the basic structure for your essay and are ready to continue.</a:t>
            </a:r>
            <a:endParaRPr b="0" lang="en-US" sz="2000" spc="-1" strike="noStrike">
              <a:solidFill>
                <a:srgbClr val="ffffff"/>
              </a:solidFill>
              <a:latin typeface="Times New Roman"/>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omposing a Thesis Statement</a:t>
            </a:r>
            <a:endParaRPr b="1" lang="en-US" sz="4400" spc="-1" strike="noStrike">
              <a:solidFill>
                <a:srgbClr val="feec94"/>
              </a:solidFill>
              <a:latin typeface="Times New Roman"/>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w that you have decided, at least tentatively, what information you plan to present in your essay, you are ready to write your thesis statement.</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hesis statement tells the reader what the essay will be about, and what point you, the author, will be making.</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 know what the essay will be about. That was your topic. Now you must look at your outline or diagram and decide what point you will be making. What do the main ideas and supporting ideas that you listed say about your topic?</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Thesis Statements</a:t>
            </a:r>
            <a:endParaRPr b="1" lang="en-US" sz="44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Your thesis statement will have two parts.</a:t>
            </a:r>
            <a:endParaRPr b="0" lang="en-US" sz="28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irst part states the topic.</a:t>
            </a:r>
            <a:endParaRPr b="0" lang="en-US" sz="28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Kenya's Culture</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uilding a Model Train Set</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ublic Transportation</a:t>
            </a:r>
            <a:endParaRPr b="0" lang="en-US" sz="20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econd part states the point of the essay.</a:t>
            </a:r>
            <a:endParaRPr b="0" lang="en-US" sz="28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s a rich and varied history</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akes time and patience</a:t>
            </a:r>
            <a:endParaRPr b="0" lang="en-US" sz="2000" spc="-1" strike="noStrike">
              <a:solidFill>
                <a:srgbClr val="ffffff"/>
              </a:solidFill>
              <a:latin typeface="Times New Roman"/>
            </a:endParaRPr>
          </a:p>
          <a:p>
            <a:pPr lvl="2" marL="1143000" indent="-228600">
              <a:lnSpc>
                <a:spcPct val="80000"/>
              </a:lnSpc>
              <a:spcBef>
                <a:spcPts val="499"/>
              </a:spcBef>
              <a:buClr>
                <a:srgbClr val="cccc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n solve some of our city's most persistent and pressing problems</a:t>
            </a:r>
            <a:endParaRPr b="0" lang="en-US" sz="2000" spc="-1" strike="noStrike">
              <a:solidFill>
                <a:srgbClr val="ffffff"/>
              </a:solidFill>
              <a:latin typeface="Times New Roman"/>
            </a:endParaRPr>
          </a:p>
          <a:p>
            <a:pPr marL="343080" indent="-343080">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ce you have formulated a thesis statement that fits this pattern and with which you are comfortable, you are ready to continue.</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14:14:31Z</dcterms:created>
  <dc:creator>HRSB</dc:creator>
  <dc:description/>
  <dc:language>en-US</dc:language>
  <cp:lastModifiedBy>RomaK</cp:lastModifiedBy>
  <dcterms:modified xsi:type="dcterms:W3CDTF">2015-09-02T09:32:48Z</dcterms:modified>
  <cp:revision>12</cp:revision>
  <dc:subject/>
  <dc:title>Basic Guide to Writing an Essay</dc:title>
</cp:coreProperties>
</file>