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D03-7FBA-4EC5-964E-BB2881BB1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ns in Fitzgerald’s day weren’t so different from teens in the ‘80s or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did they do that was considered, trendy, rebellious, taboo, 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at they di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ls wore short, straight  dresses and cut their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shocking and rebellious- and it got atten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a big     no-no to these children of the conservative Victori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as you study this sto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what the popular teens are doing, how they behave and how they interact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attention to the main charac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Marjorie, Warren and Bernice each li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know people like these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a time when you may have done something to be more popular, or to be liked mo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at so different from Bern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it work out differently for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Jazz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hibition l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parties, underground nightclubs serving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B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new money, young and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zz- wild music that is on-the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es- depicting, among other socially taboo subjects, parties and sex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ice Bobs Her Hair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. Scott Fitzger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ing to f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Brainstor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eens do TODAY, in terms of fashion and image, that could be consider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belli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o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vers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et’s generate a list together as a 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who is the influence for these trends &amp; f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set the trends of earlier gener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influence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hion and Trends of the ‘8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ONNA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make-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sed mid-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wear becomes “outerw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jewelry tab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versi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267-5A9C-48FA-A924-AB985EEB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995-D0D7-458F-9DD6-5E4C574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8E3-1CB5-44AB-82CB-B61E4CE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384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5920" y="12949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384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5920" y="3802320"/>
            <a:ext cx="230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1FE-C51E-4704-BD6F-78A97109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D9A-2930-447B-933A-D517CBF0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05A-3091-443D-9BA3-6FE9E6D5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F52-2C70-45C8-8F53-5D8AE52C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412-B061-44B7-871D-9DA3FABC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15372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9D3-AF2C-46B6-8C69-E8D28662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6C5B-5513-4AEC-A0ED-17FF37CE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22680" y="38023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7F2-7F18-42A1-8873-B9CB8B4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22680" y="1294920"/>
            <a:ext cx="3495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802320"/>
            <a:ext cx="7162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9D52-090F-473C-830B-F2761F2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30F-81D0-42CD-835E-2FBB3FA66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646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3657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s in Fitzgerald’s day weren’t so different from teens in the ‘80s or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hat did they do that was considered, trendy, rebellious, taboo, controversi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And what they did THEN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3429000" cy="53341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wore short, straight  dresses and cut their hai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shocking and rebellious- and it got atten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was a big     no-no to these children of the conservative Victoria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Victorians"/>
          <p:cNvPicPr/>
          <p:nvPr/>
        </p:nvPicPr>
        <p:blipFill>
          <a:blip r:embed="rId1"/>
          <a:stretch/>
        </p:blipFill>
        <p:spPr>
          <a:xfrm>
            <a:off x="6399360" y="3352680"/>
            <a:ext cx="2668320" cy="3276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a_flapper"/>
          <p:cNvPicPr/>
          <p:nvPr/>
        </p:nvPicPr>
        <p:blipFill>
          <a:blip r:embed="rId2"/>
          <a:stretch/>
        </p:blipFill>
        <p:spPr>
          <a:xfrm>
            <a:off x="304920" y="1371600"/>
            <a:ext cx="240192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o, as you study this story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8440" y="1218960"/>
            <a:ext cx="7010280" cy="5257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ce what the popular teens are doing, how they behave and how they interact with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y attention to the main charact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are Marjorie, Warren and Bernice each lik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you know people like these character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k of a time when you may have done something to be more popular, or to be liked mo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at so different from Berni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it work out differently for you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bernice_art"/>
          <p:cNvPicPr/>
          <p:nvPr/>
        </p:nvPicPr>
        <p:blipFill>
          <a:blip r:embed="rId1"/>
          <a:stretch/>
        </p:blipFill>
        <p:spPr>
          <a:xfrm>
            <a:off x="1752480" y="568440"/>
            <a:ext cx="7162920" cy="51130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372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fe dur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e Jazz Age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716292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hibition l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egal parties, underground nightclubs serving alcoh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B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ts of new money, young and r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zz- wild music that is on-the-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ies- depicting, among other socially taboo subjects, parties and sex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5331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rnice Bobs Her Hair”</a:t>
            </a: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y F. Scott Fitzgerald</a:t>
            </a:r>
            <a:endParaRPr b="0" i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1640" y="2742840"/>
            <a:ext cx="426708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ory abou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ying to fit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4" descr="post"/>
          <p:cNvPicPr/>
          <p:nvPr/>
        </p:nvPicPr>
        <p:blipFill>
          <a:blip r:embed="rId1"/>
          <a:stretch/>
        </p:blipFill>
        <p:spPr>
          <a:xfrm rot="21385800">
            <a:off x="228240" y="2590560"/>
            <a:ext cx="4419720" cy="336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Let’s Brainstorm…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218960"/>
            <a:ext cx="6934320" cy="5715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teens do TODAY, in terms of fashion and image, that could be considered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end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bellio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bo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oversi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let’s generate a list together as a cla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ho is the influence for these trends &amp; fads?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85h3h_bowa_001"/>
          <p:cNvPicPr/>
          <p:nvPr/>
        </p:nvPicPr>
        <p:blipFill>
          <a:blip r:embed="rId1"/>
          <a:stretch/>
        </p:blipFill>
        <p:spPr>
          <a:xfrm>
            <a:off x="228600" y="228600"/>
            <a:ext cx="2779560" cy="4114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428px-Snoop_Dogg_Hawaii"/>
          <p:cNvPicPr/>
          <p:nvPr/>
        </p:nvPicPr>
        <p:blipFill>
          <a:blip r:embed="rId2"/>
          <a:stretch/>
        </p:blipFill>
        <p:spPr>
          <a:xfrm>
            <a:off x="6313320" y="0"/>
            <a:ext cx="28306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jayz"/>
          <p:cNvPicPr/>
          <p:nvPr/>
        </p:nvPicPr>
        <p:blipFill>
          <a:blip r:embed="rId3"/>
          <a:stretch/>
        </p:blipFill>
        <p:spPr>
          <a:xfrm>
            <a:off x="3886200" y="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miley-cyrus-hannah-400a062107"/>
          <p:cNvPicPr/>
          <p:nvPr/>
        </p:nvPicPr>
        <p:blipFill>
          <a:blip r:embed="rId4"/>
          <a:stretch/>
        </p:blipFill>
        <p:spPr>
          <a:xfrm>
            <a:off x="5943600" y="3352680"/>
            <a:ext cx="262908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paris-hilton-louis-vuitton"/>
          <p:cNvPicPr/>
          <p:nvPr/>
        </p:nvPicPr>
        <p:blipFill>
          <a:blip r:embed="rId5"/>
          <a:stretch/>
        </p:blipFill>
        <p:spPr>
          <a:xfrm>
            <a:off x="3429000" y="2514600"/>
            <a:ext cx="2479680" cy="4038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usher-lloyd"/>
          <p:cNvPicPr/>
          <p:nvPr/>
        </p:nvPicPr>
        <p:blipFill>
          <a:blip r:embed="rId6"/>
          <a:stretch/>
        </p:blipFill>
        <p:spPr>
          <a:xfrm>
            <a:off x="0" y="4664160"/>
            <a:ext cx="3657600" cy="2193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64008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So who set the trends of earlier generations?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influence??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5" descr="1980+madonna"/>
          <p:cNvPicPr/>
          <p:nvPr/>
        </p:nvPicPr>
        <p:blipFill>
          <a:blip r:embed="rId1"/>
          <a:stretch/>
        </p:blipFill>
        <p:spPr>
          <a:xfrm>
            <a:off x="1981080" y="1905120"/>
            <a:ext cx="2641680" cy="32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madonna2"/>
          <p:cNvPicPr/>
          <p:nvPr/>
        </p:nvPicPr>
        <p:blipFill>
          <a:blip r:embed="rId2"/>
          <a:stretch/>
        </p:blipFill>
        <p:spPr>
          <a:xfrm>
            <a:off x="1828800" y="1600200"/>
            <a:ext cx="2887560" cy="38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shion and Trends of the ‘80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24280" y="2057040"/>
            <a:ext cx="4267440" cy="4800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DONNA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ts of make-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ed mid-dri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wear becomes “outerwea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fbbfa"/>
              </a:buClr>
              <a:buSzPct val="8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gious jewelry tabo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6" descr="madonna2-1"/>
          <p:cNvPicPr/>
          <p:nvPr/>
        </p:nvPicPr>
        <p:blipFill>
          <a:blip r:embed="rId1"/>
          <a:stretch/>
        </p:blipFill>
        <p:spPr>
          <a:xfrm>
            <a:off x="304920" y="1447920"/>
            <a:ext cx="3543120" cy="4647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7162920" cy="10666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troversial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i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Picture 5" descr="200px-Madmtv1984"/>
          <p:cNvPicPr/>
          <p:nvPr/>
        </p:nvPicPr>
        <p:blipFill>
          <a:blip r:embed="rId1"/>
          <a:stretch/>
        </p:blipFill>
        <p:spPr>
          <a:xfrm rot="20811600">
            <a:off x="304920" y="228240"/>
            <a:ext cx="2655720" cy="3873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adonna198440519_400"/>
          <p:cNvPicPr/>
          <p:nvPr/>
        </p:nvPicPr>
        <p:blipFill>
          <a:blip r:embed="rId2"/>
          <a:stretch/>
        </p:blipFill>
        <p:spPr>
          <a:xfrm rot="428400">
            <a:off x="3123720" y="2743200"/>
            <a:ext cx="285768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remios5madonna"/>
          <p:cNvPicPr/>
          <p:nvPr/>
        </p:nvPicPr>
        <p:blipFill>
          <a:blip r:embed="rId3"/>
          <a:stretch/>
        </p:blipFill>
        <p:spPr>
          <a:xfrm rot="21163800">
            <a:off x="6095880" y="1371600"/>
            <a:ext cx="284976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madonna like a virgin 84"/>
          <p:cNvPicPr/>
          <p:nvPr/>
        </p:nvPicPr>
        <p:blipFill>
          <a:blip r:embed="rId4"/>
          <a:stretch/>
        </p:blipFill>
        <p:spPr>
          <a:xfrm>
            <a:off x="228600" y="41148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1:02:38Z</dcterms:created>
  <dc:creator>PVUSD PVUSD</dc:creator>
  <dc:description/>
  <dc:language>en-US</dc:language>
  <cp:lastModifiedBy>RomaK</cp:lastModifiedBy>
  <dcterms:modified xsi:type="dcterms:W3CDTF">2015-09-02T09:32:59Z</dcterms:modified>
  <cp:revision>14</cp:revision>
  <dc:subject/>
  <dc:title>“Bernice Bobs Her Hair”</dc:title>
</cp:coreProperties>
</file>