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F6B1-4FB7-4DE3-AE75-67D9ADA04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rnice Bobs Her Hair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ice Bobs Her Hai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ens in Fitzgerald’s day weren’t so different from teens in the ‘80s or tod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at did they do that was considered, trendy, rebellious, taboo, controversi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ns in Fitzgerald’s day weren’t so different from teens in the ‘80s or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did they do that was considered, trendy, rebellious, taboo, controvers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rls wore short, straight  dresses and cut their hai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as shocking and rebellious- and it got attention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was a big     no-no to these children of the conservative Victorian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rls wore short, straight  dresses and cut their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shocking and rebellious- and it got atten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s a big     no-no to these children of the conservative Victoria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as you study this stor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ice what the popular teens are doing, how they behave and how they interact with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y attention to the main charact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Marjorie, Warren and Bernice each lik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you know people like these characte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k of a time when you may have done something to be more popular, or to be liked more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at so different from Bernic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it work out differently for you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as you study this stor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what the popular teens are doing, how they behave and how they interact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attention to the main charac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Marjorie, Warren and Bernice each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know people like these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 time when you may have done something to be more popular, or to be liked mo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at so different from Bern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it work out differently for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fe during The Jazz 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hibition led t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egal parties, underground nightclubs serving alcoh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Bo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ts of new money, young and ri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tertainment Indu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zz- wild music that is on-the-ed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ies- depicting, among other socially taboo subjects, parties and sexu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Jazz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hibition l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parties, underground nightclubs serving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B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new money, young and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tainment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zz- wild music that is on-the-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es- depicting, among other socially taboo subjects, parties and sex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rnice Bobs Her Hair”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ory abou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popul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ing to fit 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ice Bobs Her Hair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ory abo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pop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ing to fi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t’s Brainstorm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teens do TODAY, in terms of fashion and image, that could be considere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d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belli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bo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versi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et’s generate a list together as a clas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, who is the influence for these trends &amp; fad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Brainstor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eens do TODAY, in terms of fashion and image, that could be consider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bellio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o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vers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et’s generate a list together as a cl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ho is the influence for these trends &amp; f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o set the trends of earlier generatio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o set the trends of earlier gener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jor influence??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influence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ts of make-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osed mid-dri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wear becomes “outerwear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gious jewelry tabo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make-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sed mid-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wear becomes “outerw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jewelry tabo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versial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versia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3DEA-9611-42FD-A9CF-88ECFF2F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8023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CA64-A140-42A6-9AED-CD6EF577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853D-A39F-49AC-9976-DC2601CC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6903-C9F1-467C-9DCB-7D7CF7D4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D1EE-C51F-4035-87C7-0917EA80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7094-4BDE-42AF-B9ED-AD34FCFC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F755-D477-4971-85F1-0CE86281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9132-77A8-43E0-A8B2-4BF6EAB3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153720"/>
            <a:ext cx="71629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5731-B5F2-4D9C-905D-3E034194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FE83-C1FC-4112-9063-7121F107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4AE5-6001-42F9-858C-B9882FF1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5571-ADEA-48A5-928C-7F5BAC22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075E-4B3B-4A25-B8C3-C6A36733D6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720" y="2285640"/>
            <a:ext cx="6400800" cy="646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rnice Bobs Her Hair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372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y F. Scott Fitzgera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And what they did THEN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6934320" cy="3657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ens in Fitzgerald’s day weren’t so different from teens in the ‘80s or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what did they do that was considered, trendy, rebellious, taboo, controversi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And what they did THEN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294920"/>
            <a:ext cx="3429000" cy="53341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rls wore short, straight  dresses and cut their hai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shocking and rebellious- and it got atten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was a big     no-no to these children of the conservative Victoria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4" descr="Victorians"/>
          <p:cNvPicPr/>
          <p:nvPr/>
        </p:nvPicPr>
        <p:blipFill>
          <a:blip r:embed="rId1"/>
          <a:stretch/>
        </p:blipFill>
        <p:spPr>
          <a:xfrm>
            <a:off x="6399360" y="3352680"/>
            <a:ext cx="2668320" cy="3276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a_flapper"/>
          <p:cNvPicPr/>
          <p:nvPr/>
        </p:nvPicPr>
        <p:blipFill>
          <a:blip r:embed="rId2"/>
          <a:stretch/>
        </p:blipFill>
        <p:spPr>
          <a:xfrm>
            <a:off x="304920" y="1371600"/>
            <a:ext cx="240192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So, as you study this story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28440" y="1218960"/>
            <a:ext cx="7010280" cy="5257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ice what the popular teens are doing, how they behave and how they interact with ot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y attention to the main charact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Marjorie, Warren and Bernice each lik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you know people like these characte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nk of a time when you may have done something to be more popular, or to be liked mor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that so different from Bernic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d it work out differently for you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bernice_art"/>
          <p:cNvPicPr/>
          <p:nvPr/>
        </p:nvPicPr>
        <p:blipFill>
          <a:blip r:embed="rId1"/>
          <a:stretch/>
        </p:blipFill>
        <p:spPr>
          <a:xfrm>
            <a:off x="1752480" y="568440"/>
            <a:ext cx="7162920" cy="51130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  <p:transition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fe during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e Jazz Ag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hibition led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egal parties, underground nightclubs serving alcoh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nomic B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ts of new money, young and r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ertainment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zz- wild music that is on-the-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ies- depicting, among other socially taboo subjects, parties and sex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5331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rnice Bobs Her Hair”</a:t>
            </a:r>
            <a:br>
              <a:rPr sz="40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y F. Scott Fitzgerald</a:t>
            </a:r>
            <a:endParaRPr b="0" i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1640" y="2742840"/>
            <a:ext cx="426708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tory abou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pop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ing to fit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4" descr="post"/>
          <p:cNvPicPr/>
          <p:nvPr/>
        </p:nvPicPr>
        <p:blipFill>
          <a:blip r:embed="rId1"/>
          <a:stretch/>
        </p:blipFill>
        <p:spPr>
          <a:xfrm rot="21385800">
            <a:off x="228240" y="2590560"/>
            <a:ext cx="4419720" cy="336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Let’s Brainstorm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800" y="1218960"/>
            <a:ext cx="6934320" cy="5715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teens do TODAY, in terms of fashion and image, that could be considered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nd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belliou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bo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oversia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let’s generate a list together as a cla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, who is the influence for these trends &amp; fads?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85h3h_bowa_001"/>
          <p:cNvPicPr/>
          <p:nvPr/>
        </p:nvPicPr>
        <p:blipFill>
          <a:blip r:embed="rId1"/>
          <a:stretch/>
        </p:blipFill>
        <p:spPr>
          <a:xfrm>
            <a:off x="228600" y="228600"/>
            <a:ext cx="2779560" cy="411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428px-Snoop_Dogg_Hawaii"/>
          <p:cNvPicPr/>
          <p:nvPr/>
        </p:nvPicPr>
        <p:blipFill>
          <a:blip r:embed="rId2"/>
          <a:stretch/>
        </p:blipFill>
        <p:spPr>
          <a:xfrm>
            <a:off x="6313320" y="0"/>
            <a:ext cx="2830680" cy="396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jayz"/>
          <p:cNvPicPr/>
          <p:nvPr/>
        </p:nvPicPr>
        <p:blipFill>
          <a:blip r:embed="rId3"/>
          <a:stretch/>
        </p:blipFill>
        <p:spPr>
          <a:xfrm>
            <a:off x="3886200" y="0"/>
            <a:ext cx="2222640" cy="274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miley-cyrus-hannah-400a062107"/>
          <p:cNvPicPr/>
          <p:nvPr/>
        </p:nvPicPr>
        <p:blipFill>
          <a:blip r:embed="rId4"/>
          <a:stretch/>
        </p:blipFill>
        <p:spPr>
          <a:xfrm>
            <a:off x="5943600" y="3352680"/>
            <a:ext cx="2629080" cy="350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paris-hilton-louis-vuitton"/>
          <p:cNvPicPr/>
          <p:nvPr/>
        </p:nvPicPr>
        <p:blipFill>
          <a:blip r:embed="rId5"/>
          <a:stretch/>
        </p:blipFill>
        <p:spPr>
          <a:xfrm>
            <a:off x="3429000" y="2514600"/>
            <a:ext cx="2479680" cy="4038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usher-lloyd"/>
          <p:cNvPicPr/>
          <p:nvPr/>
        </p:nvPicPr>
        <p:blipFill>
          <a:blip r:embed="rId6"/>
          <a:stretch/>
        </p:blipFill>
        <p:spPr>
          <a:xfrm>
            <a:off x="0" y="4664160"/>
            <a:ext cx="3657600" cy="219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720" y="228564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o who set the trends of earlier generations?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shion and Trends of the ‘80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24280" y="2057040"/>
            <a:ext cx="426744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 influence?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ONNA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5" descr="1980+madonna"/>
          <p:cNvPicPr/>
          <p:nvPr/>
        </p:nvPicPr>
        <p:blipFill>
          <a:blip r:embed="rId1"/>
          <a:stretch/>
        </p:blipFill>
        <p:spPr>
          <a:xfrm>
            <a:off x="1981080" y="1905120"/>
            <a:ext cx="2641680" cy="3276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madonna2"/>
          <p:cNvPicPr/>
          <p:nvPr/>
        </p:nvPicPr>
        <p:blipFill>
          <a:blip r:embed="rId2"/>
          <a:stretch/>
        </p:blipFill>
        <p:spPr>
          <a:xfrm>
            <a:off x="1828800" y="1600200"/>
            <a:ext cx="2887560" cy="385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shion and Trends of the ‘80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24280" y="2057040"/>
            <a:ext cx="426744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ONNA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ts of make-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sed mid-dri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wear becomes “outerwea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igious jewelry tabo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6" descr="madonna2-1"/>
          <p:cNvPicPr/>
          <p:nvPr/>
        </p:nvPicPr>
        <p:blipFill>
          <a:blip r:embed="rId1"/>
          <a:stretch/>
        </p:blipFill>
        <p:spPr>
          <a:xfrm>
            <a:off x="304920" y="1447920"/>
            <a:ext cx="3543120" cy="4647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ntroversial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5" descr="200px-Madmtv1984"/>
          <p:cNvPicPr/>
          <p:nvPr/>
        </p:nvPicPr>
        <p:blipFill>
          <a:blip r:embed="rId1"/>
          <a:stretch/>
        </p:blipFill>
        <p:spPr>
          <a:xfrm rot="20811600">
            <a:off x="304920" y="228240"/>
            <a:ext cx="2655720" cy="3873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Madonna198440519_400"/>
          <p:cNvPicPr/>
          <p:nvPr/>
        </p:nvPicPr>
        <p:blipFill>
          <a:blip r:embed="rId2"/>
          <a:stretch/>
        </p:blipFill>
        <p:spPr>
          <a:xfrm rot="428400">
            <a:off x="3123720" y="2743200"/>
            <a:ext cx="2857680" cy="3733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premios5madonna"/>
          <p:cNvPicPr/>
          <p:nvPr/>
        </p:nvPicPr>
        <p:blipFill>
          <a:blip r:embed="rId3"/>
          <a:stretch/>
        </p:blipFill>
        <p:spPr>
          <a:xfrm rot="21163800">
            <a:off x="6095880" y="1371600"/>
            <a:ext cx="284976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madonna like a virgin 84"/>
          <p:cNvPicPr/>
          <p:nvPr/>
        </p:nvPicPr>
        <p:blipFill>
          <a:blip r:embed="rId4"/>
          <a:stretch/>
        </p:blipFill>
        <p:spPr>
          <a:xfrm>
            <a:off x="228600" y="411480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01:02:38Z</dcterms:created>
  <dc:creator>PVUSD PVUSD</dc:creator>
  <dc:description/>
  <dc:language>en-US</dc:language>
  <cp:lastModifiedBy>RomaK</cp:lastModifiedBy>
  <dcterms:modified xsi:type="dcterms:W3CDTF">2015-09-02T09:32:59Z</dcterms:modified>
  <cp:revision>14</cp:revision>
  <dc:subject/>
  <dc:title>“Bernice Bobs Her Hair”</dc:title>
</cp:coreProperties>
</file>