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1171-33BB-4941-8AA6-A102A0A34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y in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Isaiah Bow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saiah Bow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ndrew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rew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us at all times remember that all American citizens are brothers of a common country, and should dwell together in bonds of fraternal feel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s at all times remember that all American citizens are brothers of a common country, and should dwell together in bonds of fraternal fe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requisite of a good citizen in this republic of ours is that he should be able and willing to pull his we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odore Roosev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quisite of a good citizen in this republic of ours is that he should be able and willing to pull hi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odore 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cked men obey from fear; good men, from l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cked men obey from fear; good men, from l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nly safe ruler is he who has learned to obey willing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omas a Kemp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safe ruler is he who has learned to obey will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omas a Kem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ect freedom is as necessary to the health and vigor of commerce as it is to the health and vigor of citizen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atrick Hen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ect freedom is as necessary to the health and vigor of commerce as it is to the health and vigor of 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atrick Hen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consists in the service of the coun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Jawaharlal Nehr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consists in the service of the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waharlal Neh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Goatherd and the Wild Goats.”</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Goatherd and the Wild Goats.”</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Being a good neighbor and member of the community and protecting the environ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Being a good neighbor and member of the community and protecting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o you think the wild goat was right with its predi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 you think the wild goat was right with its pre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treat new friends more kindly than you do your ol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treat new friends more kindly than you do your ol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What are some things that a friend does to let you know he is loy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are some things that a friend does to let you know he is 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How do you select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do you select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Goatherd and the Wild Goa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do you keep good fri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Goatherd and the Wild G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do you keep goo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ipe for Good Friendshi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up of 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hug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big smiles p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enerous helping of liste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giant scoop of kind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kle with sugar and sp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e for Goo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p of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hug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big smiles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ous helping of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iant scoop of kin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kle with sugar and sp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itizenship Definition:</a:t>
            </a:r>
            <a:br>
              <a:rPr sz="1200"/>
            </a:br>
            <a:br>
              <a:rPr sz="1200"/>
            </a:br>
            <a:r>
              <a:rPr b="0" lang="en-US" sz="1200" spc="-1" strike="noStrike">
                <a:solidFill>
                  <a:srgbClr val="ffffff"/>
                </a:solidFill>
                <a:latin typeface="Arial"/>
              </a:rPr>
              <a:t>Obeying the rules and working to make your community a better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itizenship Definition:</a:t>
            </a:r>
            <a:br>
              <a:rPr sz="1200"/>
            </a:br>
            <a:br>
              <a:rPr sz="1200"/>
            </a:br>
            <a:r>
              <a:rPr b="0" lang="en-US" sz="1200" spc="-1" strike="noStrike">
                <a:solidFill>
                  <a:srgbClr val="000000"/>
                </a:solidFill>
                <a:latin typeface="Arial"/>
              </a:rPr>
              <a:t>Obeying the rules and working to make your community a bette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plays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plays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eys parents, teachers, coaches, and others who have been given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eys parents, teachers, coaches, and others who have been given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observes just la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observes just l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izenship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respects authority honors the principles of democra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hip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respects authority honors the principles of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doing more than his/her fair share to make society work, now and in the fu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doing more than his/her fair share to make society work, now and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c Du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c Du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erforms his/her civic duty by staying informed on issues concerning privileges and obligations as a member of the community and of a democratic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431BC-A2A6-4002-9467-7D652A876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830AC-4C40-4613-9B1F-207366DB5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322AE-F2D9-417A-8229-5A6080480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CF97D-7991-46BA-AF42-773F045AA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ACBB6DF-A78D-418F-95F7-3F66B959A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A29D82B-4168-45D4-93CA-C703C9627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1D0A77C-6528-48B2-ADF7-7D03E7AC1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34EFD8-567E-4AB7-93D1-2D3D18BEF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1E9FF25-6AA5-4B1D-8810-430F25D6D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D91A9F-E422-45F2-BEC9-1CD329A19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0E4C09-4E82-4DBE-9569-016F66650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7210D-97BE-4FDF-AB7A-D14DE35D4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7654F8-8CD8-46A7-B94D-E91E8CBB2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59BDEB-B35F-4260-8AD0-1E9591BC6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5DCE5A-03C4-421E-BFD0-62CCA7DA8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FD2D061-1C6E-40CF-8E63-BDD787073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6400AB5-61DC-45CE-B78F-FFC7F7649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3E2B3-293D-4FDD-A6D3-200033520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BE6AD-C8DA-4D7E-BE95-DBB8CC909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0AB85-92BF-4BC1-82DB-1BE26F518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BF426-1691-4D7F-8608-26DD3E463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980F7-BE1E-413F-9C1C-FE16600C8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A955B-A406-413F-9625-1E8A8B434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36320-81D0-40C3-8870-77112E05C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7D43-0F25-480D-8D6A-3D08FDF75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59A8-61C8-4100-97FF-5F8EB619B54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Citizenship</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Word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uthor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ivic Du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nor</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ir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4"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e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 law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y informed</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6" name="PlaceHolder 2"/>
          <p:cNvSpPr>
            <a:spLocks noGrp="1"/>
          </p:cNvSpPr>
          <p:nvPr>
            <p:ph/>
          </p:nvPr>
        </p:nvSpPr>
        <p:spPr>
          <a:xfrm>
            <a:off x="457200" y="762120"/>
            <a:ext cx="8229600" cy="4495680"/>
          </a:xfrm>
          <a:prstGeom prst="rect">
            <a:avLst/>
          </a:prstGeom>
          <a:noFill/>
          <a:ln w="0">
            <a:noFill/>
          </a:ln>
        </p:spPr>
        <p:txBody>
          <a:bodyPr anchor="t">
            <a:normAutofit fontScale="89000"/>
          </a:bodyPr>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mes first today in our crowded world…No man can enjoy the privileges of education and thereafter with a clear conscience break his contract with society. To respect that contract is to be mature, to strengthen it is to be a good citizen, to do more than your share under it is noble.</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Isaiah Bow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1430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 good citizen makes his country’s honor his own, and cherishes it not only as precious but as sacred.  He is willing to risk his life in its defense and is conscious that he gains protection while he gives i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ndrew Jacks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t us at all times remember that all American citizens are brothers of a common country, and should dwell together in bonds of fraternal feeling.</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irst requisite of a good citizen in this republic of ours is that he should be able and willing to pull his weigh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eodore Roosevelt</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cked men obey from fear; good men, from lov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ristotl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nly safe ruler is he who has learned to obey willingl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Thomas a Kempi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fect freedom is as necessary to the health and vigor of commerce as it is to the health and vigor of citizenshi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Patrick Henry</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itizenship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itizenship consists in the service of the countr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Jawaharlal Nehru</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Goatherd and the Wild Goats.”</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Being a good neighbor and member of the community and protecting the environment.</a:t>
            </a:r>
            <a:endParaRPr b="0" lang="en-US" sz="4000" spc="-1" strike="noStrike">
              <a:solidFill>
                <a:srgbClr val="e3e3ff"/>
              </a:solidFill>
              <a:latin typeface="Arial"/>
            </a:endParaRPr>
          </a:p>
        </p:txBody>
      </p:sp>
      <p:pic>
        <p:nvPicPr>
          <p:cNvPr id="131" name="Picture 9" descr="j0285360"/>
          <p:cNvPicPr/>
          <p:nvPr/>
        </p:nvPicPr>
        <p:blipFill>
          <a:blip r:embed="rId1"/>
          <a:stretch/>
        </p:blipFill>
        <p:spPr>
          <a:xfrm>
            <a:off x="3962520" y="3897360"/>
            <a:ext cx="1474560" cy="181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3" name="PlaceHolder 2"/>
          <p:cNvSpPr>
            <a:spLocks noGrp="1"/>
          </p:cNvSpPr>
          <p:nvPr>
            <p:ph/>
          </p:nvPr>
        </p:nvSpPr>
        <p:spPr>
          <a:xfrm>
            <a:off x="1066320" y="3200400"/>
            <a:ext cx="7162920" cy="1752480"/>
          </a:xfrm>
          <a:prstGeom prst="rect">
            <a:avLst/>
          </a:prstGeom>
          <a:noFill/>
          <a:ln w="0">
            <a:noFill/>
          </a:ln>
        </p:spPr>
        <p:txBody>
          <a:bodyPr anchor="t">
            <a:normAutofit fontScale="93000"/>
          </a:bodyPr>
          <a:p>
            <a:pPr marL="3189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Do you think the wild goat was right with its predic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Do you treat new friends more kindly than you do your ol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What are some things that a friend does to let you know he is loya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How do you select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Goatherd and the Wild Goats</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123720"/>
            <a:ext cx="7162920" cy="17528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How do you keep good friend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Recipe for Good Friendship</a:t>
            </a:r>
            <a:endParaRPr b="0" lang="en-US" sz="4800" spc="-1" strike="noStrike">
              <a:solidFill>
                <a:srgbClr val="e3e3ff"/>
              </a:solidFill>
              <a:latin typeface="Arial"/>
            </a:endParaRPr>
          </a:p>
        </p:txBody>
      </p:sp>
      <p:sp>
        <p:nvSpPr>
          <p:cNvPr id="183" name="PlaceHolder 2"/>
          <p:cNvSpPr>
            <a:spLocks noGrp="1"/>
          </p:cNvSpPr>
          <p:nvPr>
            <p:ph/>
          </p:nvPr>
        </p:nvSpPr>
        <p:spPr>
          <a:xfrm>
            <a:off x="1066320" y="1905120"/>
            <a:ext cx="7162920" cy="1752480"/>
          </a:xfrm>
          <a:prstGeom prst="rect">
            <a:avLst/>
          </a:prstGeom>
          <a:noFill/>
          <a:ln w="0">
            <a:noFill/>
          </a:ln>
        </p:spPr>
        <p:txBody>
          <a:bodyPr anchor="t">
            <a:normAutofit fontScale="42000"/>
          </a:bodyPr>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cup of patience</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3 hug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3 big smiles per day</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generous helping of listening</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giant scoop of kindness</a:t>
            </a:r>
            <a:endParaRPr b="0" lang="en-US" sz="4000" spc="-1" strike="noStrike">
              <a:solidFill>
                <a:srgbClr val="ffffff"/>
              </a:solidFill>
              <a:latin typeface="Arial"/>
            </a:endParaRPr>
          </a:p>
          <a:p>
            <a:pPr marL="144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prinkle with sugar and spi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Citizenship Definition:</a:t>
            </a:r>
            <a:br>
              <a:rPr sz="4000"/>
            </a:br>
            <a:br>
              <a:rPr sz="4000"/>
            </a:br>
            <a:r>
              <a:rPr b="0" lang="en-US" sz="4000" spc="-1" strike="noStrike">
                <a:solidFill>
                  <a:srgbClr val="e3e3ff"/>
                </a:solidFill>
                <a:latin typeface="Arial"/>
              </a:rPr>
              <a:t>Obeying the rules and working to make your community a better place.</a:t>
            </a:r>
            <a:endParaRPr b="0" lang="en-US" sz="4000" spc="-1" strike="noStrike">
              <a:solidFill>
                <a:srgbClr val="e3e3ff"/>
              </a:solidFill>
              <a:latin typeface="Arial"/>
            </a:endParaRPr>
          </a:p>
        </p:txBody>
      </p:sp>
      <p:pic>
        <p:nvPicPr>
          <p:cNvPr id="133" name="Picture 5" descr="j0090386"/>
          <p:cNvPicPr/>
          <p:nvPr/>
        </p:nvPicPr>
        <p:blipFill>
          <a:blip r:embed="rId1"/>
          <a:stretch/>
        </p:blipFill>
        <p:spPr>
          <a:xfrm>
            <a:off x="3200400" y="3657600"/>
            <a:ext cx="2698920" cy="230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plays by the rul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11" descr="j0199036"/>
          <p:cNvPicPr/>
          <p:nvPr/>
        </p:nvPicPr>
        <p:blipFill>
          <a:blip r:embed="rId1"/>
          <a:stretch/>
        </p:blipFill>
        <p:spPr>
          <a:xfrm>
            <a:off x="5943600" y="2743200"/>
            <a:ext cx="1569960" cy="17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who respects authority obeys parents, teachers, coaches, and others who have been given authority.</a:t>
            </a:r>
            <a:endParaRPr b="0" lang="en-US" sz="3600" spc="-1" strike="noStrike">
              <a:solidFill>
                <a:srgbClr val="ffffff"/>
              </a:solidFill>
              <a:latin typeface="Arial"/>
            </a:endParaRPr>
          </a:p>
        </p:txBody>
      </p:sp>
      <p:pic>
        <p:nvPicPr>
          <p:cNvPr id="139" name="Picture 12"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1"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observes just laws.</a:t>
            </a:r>
            <a:endParaRPr b="0" lang="en-US" sz="4000" spc="-1" strike="noStrike">
              <a:solidFill>
                <a:srgbClr val="ffffff"/>
              </a:solidFill>
              <a:latin typeface="Arial"/>
            </a:endParaRPr>
          </a:p>
        </p:txBody>
      </p:sp>
      <p:pic>
        <p:nvPicPr>
          <p:cNvPr id="142"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tizenship Example</a:t>
            </a:r>
            <a:endParaRPr b="0" lang="en-US" sz="4400" spc="-1" strike="noStrike">
              <a:solidFill>
                <a:srgbClr val="e3e3ff"/>
              </a:solidFill>
              <a:latin typeface="Arial"/>
            </a:endParaRPr>
          </a:p>
        </p:txBody>
      </p:sp>
      <p:sp>
        <p:nvSpPr>
          <p:cNvPr id="144"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who respects authority honors the principles of democracy.</a:t>
            </a:r>
            <a:endParaRPr b="0" lang="en-US" sz="4000" spc="-1" strike="noStrike">
              <a:solidFill>
                <a:srgbClr val="ffffff"/>
              </a:solidFill>
              <a:latin typeface="Arial"/>
            </a:endParaRPr>
          </a:p>
        </p:txBody>
      </p:sp>
      <p:pic>
        <p:nvPicPr>
          <p:cNvPr id="145"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47"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erson performs his/her civic duty by doing more than his/her fair share to make society work, now and in the future.</a:t>
            </a:r>
            <a:endParaRPr b="0" lang="en-US" sz="4000" spc="-1" strike="noStrike">
              <a:solidFill>
                <a:srgbClr val="ffffff"/>
              </a:solidFill>
              <a:latin typeface="Arial"/>
            </a:endParaRPr>
          </a:p>
        </p:txBody>
      </p:sp>
      <p:pic>
        <p:nvPicPr>
          <p:cNvPr id="148" name="Picture 4" descr="j0297551"/>
          <p:cNvPicPr/>
          <p:nvPr/>
        </p:nvPicPr>
        <p:blipFill>
          <a:blip r:embed="rId1"/>
          <a:stretch/>
        </p:blipFill>
        <p:spPr>
          <a:xfrm>
            <a:off x="5334120" y="2362320"/>
            <a:ext cx="3047760" cy="27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vic Duty Example</a:t>
            </a:r>
            <a:endParaRPr b="0" lang="en-US" sz="4400" spc="-1" strike="noStrike">
              <a:solidFill>
                <a:srgbClr val="e3e3ff"/>
              </a:solidFill>
              <a:latin typeface="Arial"/>
            </a:endParaRPr>
          </a:p>
        </p:txBody>
      </p:sp>
      <p:sp>
        <p:nvSpPr>
          <p:cNvPr id="150" name="PlaceHolder 2"/>
          <p:cNvSpPr>
            <a:spLocks noGrp="1"/>
          </p:cNvSpPr>
          <p:nvPr>
            <p:ph/>
          </p:nvPr>
        </p:nvSpPr>
        <p:spPr>
          <a:xfrm>
            <a:off x="152280" y="1523880"/>
            <a:ext cx="6096240" cy="419112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performs his/her civic duty by staying informed on issues concerning privileges and obligations as a member of the community and of a democratic society.</a:t>
            </a:r>
            <a:endParaRPr b="0" lang="en-US" sz="3600" spc="-1" strike="noStrike">
              <a:solidFill>
                <a:srgbClr val="ffffff"/>
              </a:solidFill>
              <a:latin typeface="Arial"/>
            </a:endParaRPr>
          </a:p>
        </p:txBody>
      </p:sp>
      <p:pic>
        <p:nvPicPr>
          <p:cNvPr id="151" name="Picture 6" descr="j0299125"/>
          <p:cNvPicPr/>
          <p:nvPr/>
        </p:nvPicPr>
        <p:blipFill>
          <a:blip r:embed="rId1"/>
          <a:stretch/>
        </p:blipFill>
        <p:spPr>
          <a:xfrm>
            <a:off x="6781680" y="1905120"/>
            <a:ext cx="198144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3:43Z</dcterms:modified>
  <cp:revision>10</cp:revision>
  <dc:subject/>
  <dc:title>Citizenship</dc:title>
</cp:coreProperties>
</file>