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485A-27CC-41BF-852D-EE7257FE1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y in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Isaiah Bow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saiah Bow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ndrew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rew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us at all times remember that all American citizens are brothers of a common country, and should dwell together in bonds of fraternal feel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at all times remember that all American citizens are brothers of a common country, and should dwell together in bonds of fraternal fe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requisite of a good citizen in this republic of ours is that he should be able and willing to pull his we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odore Roosev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quisite of a good citizen in this republic of ours is that he should be able and willing to pull hi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odore 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cked men obey from fear; good men, from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 men obey from fear; good men, from l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nly safe ruler is he who has learned to obey willing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omas a Kemp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safe ruler is he who has learned to obey willing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omas a Kem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ect freedom is as necessary to the health and vigor of commerce as it is to the health and vigor of 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Patrick Hen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ect freedom is as necessary to the health and vigor of commerce as it is to the health and vigor of 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trick Hen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nsists in the service of the coun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Jawaharlal Nehr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nsists in the service of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awaharlal Neh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Goatherd and the Wild Goats.”</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Goatherd and the Wild Goats.”</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Being a good neighbor and member of the community and protecting the environ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Being a good neighbor and member of the community and protecting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o you think the wild goat was right with its predi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 you think the wild goat was right with its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treat new friends more kindly than you do your ol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treat new friends more kindly than you do your ol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are some things that a friend does to let you know he is loy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are some things that a friend does to let you know he is 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How do you select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do you select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do you keep goo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do you keep goo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ipe for Good Friend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of 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hug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big smile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enerous helping of liste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giant scoop of kind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kle with sugar and sp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e for Goo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up of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hug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big smile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ous helping of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iant scoop of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kle with sugar and sp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Obeying the rules and working to make your community a better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Obeying the rules and working to make your community a bette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plays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plays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eys parents, teachers, coaches, and others who have been given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eys parents, teachers, coaches, and others who have been given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serves 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serves 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honors the principles of democra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honors the principles of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doing more than his/her fair share to make society work, now and in the fu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doing more than his/her fair share to make society work, now and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C4422-6896-48B9-851C-2F4264CFA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90503-5F26-4665-87B6-BC1AEEBD0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D25C1-CAF6-489A-AB2B-AF89170D8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97A06-BD7A-4382-A48C-F38EC09AD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25C5D43-FDF7-48D6-86F0-1F81BF574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3853A1-57F0-41C1-902D-9F5BDCA3B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C6D5E14-1427-497F-9F68-004FDDDBB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7890E40-CE7E-4C53-B19F-0C9085207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2DFCFC3-C336-4130-881C-6720D1A13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C46E3C0-C3EB-4E44-A618-C56036E98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C90611E-B485-4E7D-9BE4-EF773F678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A462A-01C4-4E85-AE6E-8A5CC0210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D4CF81-291F-4B6C-90B5-016F7DA4F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94316B-BBAE-4DA4-89D7-8C7BE306B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A3FD6FF-3109-4590-936E-7B536BBED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132AD80-A9C3-4818-A0EA-9AE80AD0AE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4F722B9-A0C0-491D-91EC-515CBD99F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81D71-E080-4393-9552-797943B15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8DFDE-49EF-455D-8F05-C6879741B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9EC1E-9D1E-412A-818F-5CBA65D41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275D5-F205-4589-9B74-054B91FF6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4B249-4893-48E7-9CAA-B851C108C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9123A-84DC-449E-AB5D-02CA3BD87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88A9D-C3D0-4AC3-B1B5-2DBABC5B6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78EF-D707-4527-9571-C5115A993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F40C-8EB5-4A9F-9BDB-A4885BEBACC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Citizenship</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Word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thor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ivic Du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nor</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ir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4"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be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 law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y informed</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6" name="PlaceHolder 2"/>
          <p:cNvSpPr>
            <a:spLocks noGrp="1"/>
          </p:cNvSpPr>
          <p:nvPr>
            <p:ph/>
          </p:nvPr>
        </p:nvSpPr>
        <p:spPr>
          <a:xfrm>
            <a:off x="457200" y="762120"/>
            <a:ext cx="8229600" cy="4495680"/>
          </a:xfrm>
          <a:prstGeom prst="rect">
            <a:avLst/>
          </a:prstGeom>
          <a:noFill/>
          <a:ln w="0">
            <a:noFill/>
          </a:ln>
        </p:spPr>
        <p:txBody>
          <a:bodyPr anchor="t">
            <a:normAutofit fontScale="89000"/>
          </a:bodyPr>
          <a:p>
            <a:pPr marL="305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Isaiah Bow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1430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ndrew Jacks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t us at all times remember that all American citizens are brothers of a common country, and should dwell together in bonds of fraternal feeling.</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irst requisite of a good citizen in this republic of ours is that he should be able and willing to pull his weigh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eodore Roosevelt</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cked men obey from fear; good men, from lov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ristotl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nly safe ruler is he who has learned to obey willingl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omas a Kempi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rfect freedom is as necessary to the health and vigor of commerce as it is to the health and vigor of citizenshi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Patrick Henry</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nsists in the service of the countr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Jawaharlal Nehru</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Goatherd and the Wild Goats.”</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Being a good neighbor and member of the community and protecting the environment.</a:t>
            </a:r>
            <a:endParaRPr b="0" lang="en-US" sz="4000" spc="-1" strike="noStrike">
              <a:solidFill>
                <a:srgbClr val="e3e3ff"/>
              </a:solidFill>
              <a:latin typeface="Arial"/>
            </a:endParaRPr>
          </a:p>
        </p:txBody>
      </p:sp>
      <p:pic>
        <p:nvPicPr>
          <p:cNvPr id="131" name="Picture 9" descr="j0285360"/>
          <p:cNvPicPr/>
          <p:nvPr/>
        </p:nvPicPr>
        <p:blipFill>
          <a:blip r:embed="rId1"/>
          <a:stretch/>
        </p:blipFill>
        <p:spPr>
          <a:xfrm>
            <a:off x="3962520" y="3897360"/>
            <a:ext cx="1474560" cy="181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3" name="PlaceHolder 2"/>
          <p:cNvSpPr>
            <a:spLocks noGrp="1"/>
          </p:cNvSpPr>
          <p:nvPr>
            <p:ph/>
          </p:nvPr>
        </p:nvSpPr>
        <p:spPr>
          <a:xfrm>
            <a:off x="1066320" y="3200400"/>
            <a:ext cx="7162920" cy="1752480"/>
          </a:xfrm>
          <a:prstGeom prst="rect">
            <a:avLst/>
          </a:prstGeom>
          <a:noFill/>
          <a:ln w="0">
            <a:noFill/>
          </a:ln>
        </p:spPr>
        <p:txBody>
          <a:bodyPr anchor="t">
            <a:normAutofit fontScale="93000"/>
          </a:bodyPr>
          <a:p>
            <a:pPr marL="3189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Do you think the wild goat was right with its predic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Do you treat new friends more kindly than you do your ol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What are some things that a friend does to let you know he is loya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How do you select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123720"/>
            <a:ext cx="7162920" cy="17528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How do you keep goo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Recipe for Good Friendship</a:t>
            </a:r>
            <a:endParaRPr b="0" lang="en-US" sz="4800" spc="-1" strike="noStrike">
              <a:solidFill>
                <a:srgbClr val="e3e3ff"/>
              </a:solidFill>
              <a:latin typeface="Arial"/>
            </a:endParaRPr>
          </a:p>
        </p:txBody>
      </p:sp>
      <p:sp>
        <p:nvSpPr>
          <p:cNvPr id="183" name="PlaceHolder 2"/>
          <p:cNvSpPr>
            <a:spLocks noGrp="1"/>
          </p:cNvSpPr>
          <p:nvPr>
            <p:ph/>
          </p:nvPr>
        </p:nvSpPr>
        <p:spPr>
          <a:xfrm>
            <a:off x="1066320" y="1905120"/>
            <a:ext cx="7162920" cy="1752480"/>
          </a:xfrm>
          <a:prstGeom prst="rect">
            <a:avLst/>
          </a:prstGeom>
          <a:noFill/>
          <a:ln w="0">
            <a:noFill/>
          </a:ln>
        </p:spPr>
        <p:txBody>
          <a:bodyPr anchor="t">
            <a:normAutofit fontScale="42000"/>
          </a:bodyPr>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cup of patience</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3 hug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3 big smile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generous helping of listening</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giant scoop of kindness</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rinkle with sugar and spi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Obeying the rules and working to make your community a better place.</a:t>
            </a:r>
            <a:endParaRPr b="0" lang="en-US" sz="4000" spc="-1" strike="noStrike">
              <a:solidFill>
                <a:srgbClr val="e3e3ff"/>
              </a:solidFill>
              <a:latin typeface="Arial"/>
            </a:endParaRPr>
          </a:p>
        </p:txBody>
      </p:sp>
      <p:pic>
        <p:nvPicPr>
          <p:cNvPr id="133" name="Picture 5" descr="j0090386"/>
          <p:cNvPicPr/>
          <p:nvPr/>
        </p:nvPicPr>
        <p:blipFill>
          <a:blip r:embed="rId1"/>
          <a:stretch/>
        </p:blipFill>
        <p:spPr>
          <a:xfrm>
            <a:off x="3200400" y="3657600"/>
            <a:ext cx="2698920" cy="230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plays by the rul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11" descr="j0199036"/>
          <p:cNvPicPr/>
          <p:nvPr/>
        </p:nvPicPr>
        <p:blipFill>
          <a:blip r:embed="rId1"/>
          <a:stretch/>
        </p:blipFill>
        <p:spPr>
          <a:xfrm>
            <a:off x="5943600" y="2743200"/>
            <a:ext cx="1569960" cy="17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who respects authority obeys parents, teachers, coaches, and others who have been given authority.</a:t>
            </a:r>
            <a:endParaRPr b="0" lang="en-US" sz="3600" spc="-1" strike="noStrike">
              <a:solidFill>
                <a:srgbClr val="ffffff"/>
              </a:solidFill>
              <a:latin typeface="Arial"/>
            </a:endParaRPr>
          </a:p>
        </p:txBody>
      </p:sp>
      <p:pic>
        <p:nvPicPr>
          <p:cNvPr id="139" name="Picture 12"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1"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observes just laws.</a:t>
            </a:r>
            <a:endParaRPr b="0" lang="en-US" sz="4000" spc="-1" strike="noStrike">
              <a:solidFill>
                <a:srgbClr val="ffffff"/>
              </a:solidFill>
              <a:latin typeface="Arial"/>
            </a:endParaRPr>
          </a:p>
        </p:txBody>
      </p:sp>
      <p:pic>
        <p:nvPicPr>
          <p:cNvPr id="142"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4"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honors the principles of democracy.</a:t>
            </a:r>
            <a:endParaRPr b="0" lang="en-US" sz="4000" spc="-1" strike="noStrike">
              <a:solidFill>
                <a:srgbClr val="ffffff"/>
              </a:solidFill>
              <a:latin typeface="Arial"/>
            </a:endParaRPr>
          </a:p>
        </p:txBody>
      </p:sp>
      <p:pic>
        <p:nvPicPr>
          <p:cNvPr id="145"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47"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performs his/her civic duty by doing more than his/her fair share to make society work, now and in the future.</a:t>
            </a:r>
            <a:endParaRPr b="0" lang="en-US" sz="4000" spc="-1" strike="noStrike">
              <a:solidFill>
                <a:srgbClr val="ffffff"/>
              </a:solidFill>
              <a:latin typeface="Arial"/>
            </a:endParaRPr>
          </a:p>
        </p:txBody>
      </p:sp>
      <p:pic>
        <p:nvPicPr>
          <p:cNvPr id="148"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50" name="PlaceHolder 2"/>
          <p:cNvSpPr>
            <a:spLocks noGrp="1"/>
          </p:cNvSpPr>
          <p:nvPr>
            <p:ph/>
          </p:nvPr>
        </p:nvSpPr>
        <p:spPr>
          <a:xfrm>
            <a:off x="152280" y="1523880"/>
            <a:ext cx="6096240" cy="419112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3600" spc="-1" strike="noStrike">
              <a:solidFill>
                <a:srgbClr val="ffffff"/>
              </a:solidFill>
              <a:latin typeface="Arial"/>
            </a:endParaRPr>
          </a:p>
        </p:txBody>
      </p:sp>
      <p:pic>
        <p:nvPicPr>
          <p:cNvPr id="151" name="Picture 6" descr="j0299125"/>
          <p:cNvPicPr/>
          <p:nvPr/>
        </p:nvPicPr>
        <p:blipFill>
          <a:blip r:embed="rId1"/>
          <a:stretch/>
        </p:blipFill>
        <p:spPr>
          <a:xfrm>
            <a:off x="6781680" y="1905120"/>
            <a:ext cx="198144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3:43Z</dcterms:modified>
  <cp:revision>10</cp:revision>
  <dc:subject/>
  <dc:title>Citizenship</dc:title>
</cp:coreProperties>
</file>