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658E-F891-4203-A039-46106124B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y in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Isaiah Bow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aiah Bow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ndrew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rew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us at all times remember that all American citizens are brothers of a common country, and should dwell together in bonds of fraternal feel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t all times remember that all American citizens are brothers of a common country, and should dwell together in bonds of fraternal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requisite of a good citizen in this republic of ours is that he should be able and willing to pull his we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odore Roosev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quisite of a good citizen in this republic of ours is that he should be able and willing to pull hi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odore 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cked men obey from fear; good men, from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 men obey from fear; good men, from 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nly safe ruler is he who has learned to obey willing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omas a Kemp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safe ruler is he who has learned to obey will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mas a Kem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ect freedom is as necessary to the health and vigor of commerce as it is to the health and vigor of 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atrick Hen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freedom is as necessary to the health and vigor of commerce as it is to the health and vigor of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trick Hen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nsists in the service of the coun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Jawaharlal Nehr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nsists in the service of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waharlal Neh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Goatherd and the Wild Goats.”</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therd and the Wild Goats.”</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Being a good neighbor and member of the community and protecting the environ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Being a good neighbor and member of the community and protecting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o you think the wild goat was right with its predi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 you think the wild goat was right with its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treat new friends more kindly than you do your ol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treat new friends more kindly than you do your ol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are some things that a friend does to let you know he is loy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are some things that a friend does to let you know he is 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How do you select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do you select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do you keep goo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do you keep goo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ipe for Good Friend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of 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hug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big smile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ous helping of liste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iant scoop of kind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kle with sugar and sp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e for Goo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p of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hug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g smil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ous helping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iant scoop of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kle with sugar and sp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Obeying the rules and working to make your community a better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Obeying the rules and working to make your community a bette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plays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plays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eys parents, teachers, coaches, and others who have been given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eys parents, teachers, coaches, and others who have been give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serves 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serves 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honors the principles of democra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honors the principles of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doing more than his/her fair share to make society work, now and in the fu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doing more than his/her fair share to make society work, now and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A71D9-2FE4-4980-A947-94AB04D6F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DB419-DBFA-4210-AC51-9DED03E5F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4FF90-A53A-41D9-86B1-5979E3EEB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3DAD7-A1D8-4D37-8D15-28A272ECC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F76E889-391F-427A-A3F6-B62735D79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62EB18-09F5-417A-8F93-04F70F554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93203C-1F37-42FE-8DFF-5DD19F783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41DEFE-3333-498D-9E9F-CA976B91F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AFF849-DE4D-4D0C-9BD6-ABB0E915A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190AA5-0B51-489D-8F4E-4F2A27A9C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2FB560-F021-444D-AAED-FF2C8DE58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1008A-A1F3-4715-B441-95BD24DED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FF9FB4-78F5-4D8E-B888-402B1F825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44AAA9-B8E8-4A3D-8D80-02014F4D7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A40E1D-309E-49FE-A549-044C846E5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5D7FF9A-D986-4F11-BC3C-D7E7037A2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079850D-5DD9-4459-B8E7-9A2739713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21563-7D27-4092-9F06-B37CAE457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7BEF7-FBA9-44CD-AB1E-03F25A181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3ADAE-83D5-43B8-B333-D8100A802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752A6-5BEE-4E2B-BE9F-9E86813C6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B24E-F0C3-4A03-B8A4-76FA1FE81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3302B-FFE9-4643-BD5C-80FFF6F37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70BF8-8F41-47A6-BD33-B862013F7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DC68-97AF-4BBC-8298-8E4FD6A72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760F-CA1F-41F1-9D20-142DA40713F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Citizenship</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Word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thor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vic Du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or</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ir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e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 law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y informed</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6" name="PlaceHolder 2"/>
          <p:cNvSpPr>
            <a:spLocks noGrp="1"/>
          </p:cNvSpPr>
          <p:nvPr>
            <p:ph/>
          </p:nvPr>
        </p:nvSpPr>
        <p:spPr>
          <a:xfrm>
            <a:off x="457200" y="762120"/>
            <a:ext cx="8229600" cy="4495680"/>
          </a:xfrm>
          <a:prstGeom prst="rect">
            <a:avLst/>
          </a:prstGeom>
          <a:noFill/>
          <a:ln w="0">
            <a:noFill/>
          </a:ln>
        </p:spPr>
        <p:txBody>
          <a:bodyPr anchor="t">
            <a:normAutofit fontScale="89000"/>
          </a:bodyPr>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saiah Bow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ndrew Jacks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 us at all times remember that all American citizens are brothers of a common country, and should dwell together in bonds of fraternal feeling.</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rst requisite of a good citizen in this republic of ours is that he should be able and willing to pull his weigh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eodore Roosevelt</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cked men obey from fear; good men, from lov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ristotl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ly safe ruler is he who has learned to obey willing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omas a Kempi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ect freedom is as necessary to the health and vigor of commerce as it is to the health and vigor of citizenshi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atrick Henry</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nsists in the service of the countr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Jawaharlal Nehru</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Goatherd and the Wild Goats.”</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Being a good neighbor and member of the community and protecting the environment.</a:t>
            </a:r>
            <a:endParaRPr b="0" lang="en-US" sz="4000" spc="-1" strike="noStrike">
              <a:solidFill>
                <a:srgbClr val="e3e3ff"/>
              </a:solidFill>
              <a:latin typeface="Arial"/>
            </a:endParaRPr>
          </a:p>
        </p:txBody>
      </p:sp>
      <p:pic>
        <p:nvPicPr>
          <p:cNvPr id="131" name="Picture 9" descr="j0285360"/>
          <p:cNvPicPr/>
          <p:nvPr/>
        </p:nvPicPr>
        <p:blipFill>
          <a:blip r:embed="rId1"/>
          <a:stretch/>
        </p:blipFill>
        <p:spPr>
          <a:xfrm>
            <a:off x="3962520" y="3897360"/>
            <a:ext cx="14745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3" name="PlaceHolder 2"/>
          <p:cNvSpPr>
            <a:spLocks noGrp="1"/>
          </p:cNvSpPr>
          <p:nvPr>
            <p:ph/>
          </p:nvPr>
        </p:nvSpPr>
        <p:spPr>
          <a:xfrm>
            <a:off x="1066320" y="3200400"/>
            <a:ext cx="7162920" cy="1752480"/>
          </a:xfrm>
          <a:prstGeom prst="rect">
            <a:avLst/>
          </a:prstGeom>
          <a:noFill/>
          <a:ln w="0">
            <a:noFill/>
          </a:ln>
        </p:spPr>
        <p:txBody>
          <a:bodyPr anchor="t">
            <a:normAutofit fontScale="93000"/>
          </a:bodyPr>
          <a:p>
            <a:pPr marL="3189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Do you think the wild goat was right with its predi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Do you treat new friends more kindly than you do your ol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What are some things that a friend does to let you know he is loy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How do you select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123720"/>
            <a:ext cx="7162920" cy="17528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How do you keep goo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Recipe for Good Friendship</a:t>
            </a:r>
            <a:endParaRPr b="0" lang="en-US" sz="4800" spc="-1" strike="noStrike">
              <a:solidFill>
                <a:srgbClr val="e3e3ff"/>
              </a:solidFill>
              <a:latin typeface="Arial"/>
            </a:endParaRPr>
          </a:p>
        </p:txBody>
      </p:sp>
      <p:sp>
        <p:nvSpPr>
          <p:cNvPr id="183" name="PlaceHolder 2"/>
          <p:cNvSpPr>
            <a:spLocks noGrp="1"/>
          </p:cNvSpPr>
          <p:nvPr>
            <p:ph/>
          </p:nvPr>
        </p:nvSpPr>
        <p:spPr>
          <a:xfrm>
            <a:off x="1066320" y="1905120"/>
            <a:ext cx="7162920" cy="1752480"/>
          </a:xfrm>
          <a:prstGeom prst="rect">
            <a:avLst/>
          </a:prstGeom>
          <a:noFill/>
          <a:ln w="0">
            <a:noFill/>
          </a:ln>
        </p:spPr>
        <p:txBody>
          <a:bodyPr anchor="t">
            <a:normAutofit fontScale="42000"/>
          </a:bodyPr>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cup of patience</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3 hug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3 big smile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enerous helping of listening</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giant scoop of kindness</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rinkle with sugar and spi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Obeying the rules and working to make your community a better place.</a:t>
            </a:r>
            <a:endParaRPr b="0" lang="en-US" sz="4000" spc="-1" strike="noStrike">
              <a:solidFill>
                <a:srgbClr val="e3e3ff"/>
              </a:solidFill>
              <a:latin typeface="Arial"/>
            </a:endParaRPr>
          </a:p>
        </p:txBody>
      </p:sp>
      <p:pic>
        <p:nvPicPr>
          <p:cNvPr id="133" name="Picture 5" descr="j0090386"/>
          <p:cNvPicPr/>
          <p:nvPr/>
        </p:nvPicPr>
        <p:blipFill>
          <a:blip r:embed="rId1"/>
          <a:stretch/>
        </p:blipFill>
        <p:spPr>
          <a:xfrm>
            <a:off x="3200400" y="3657600"/>
            <a:ext cx="2698920" cy="230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plays by the rul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11" descr="j0199036"/>
          <p:cNvPicPr/>
          <p:nvPr/>
        </p:nvPicPr>
        <p:blipFill>
          <a:blip r:embed="rId1"/>
          <a:stretch/>
        </p:blipFill>
        <p:spPr>
          <a:xfrm>
            <a:off x="5943600" y="2743200"/>
            <a:ext cx="1569960" cy="17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who respects authority obeys parents, teachers, coaches, and others who have been given authority.</a:t>
            </a:r>
            <a:endParaRPr b="0" lang="en-US" sz="3600" spc="-1" strike="noStrike">
              <a:solidFill>
                <a:srgbClr val="ffffff"/>
              </a:solidFill>
              <a:latin typeface="Arial"/>
            </a:endParaRPr>
          </a:p>
        </p:txBody>
      </p:sp>
      <p:pic>
        <p:nvPicPr>
          <p:cNvPr id="139" name="Picture 12"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1"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observes just laws.</a:t>
            </a:r>
            <a:endParaRPr b="0" lang="en-US" sz="4000" spc="-1" strike="noStrike">
              <a:solidFill>
                <a:srgbClr val="ffffff"/>
              </a:solidFill>
              <a:latin typeface="Arial"/>
            </a:endParaRPr>
          </a:p>
        </p:txBody>
      </p:sp>
      <p:pic>
        <p:nvPicPr>
          <p:cNvPr id="142"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4"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honors the principles of democracy.</a:t>
            </a:r>
            <a:endParaRPr b="0" lang="en-US" sz="4000" spc="-1" strike="noStrike">
              <a:solidFill>
                <a:srgbClr val="ffffff"/>
              </a:solidFill>
              <a:latin typeface="Arial"/>
            </a:endParaRPr>
          </a:p>
        </p:txBody>
      </p:sp>
      <p:pic>
        <p:nvPicPr>
          <p:cNvPr id="145"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47"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performs his/her civic duty by doing more than his/her fair share to make society work, now and in the future.</a:t>
            </a:r>
            <a:endParaRPr b="0" lang="en-US" sz="4000" spc="-1" strike="noStrike">
              <a:solidFill>
                <a:srgbClr val="ffffff"/>
              </a:solidFill>
              <a:latin typeface="Arial"/>
            </a:endParaRPr>
          </a:p>
        </p:txBody>
      </p:sp>
      <p:pic>
        <p:nvPicPr>
          <p:cNvPr id="148"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50" name="PlaceHolder 2"/>
          <p:cNvSpPr>
            <a:spLocks noGrp="1"/>
          </p:cNvSpPr>
          <p:nvPr>
            <p:ph/>
          </p:nvPr>
        </p:nvSpPr>
        <p:spPr>
          <a:xfrm>
            <a:off x="152280" y="1523880"/>
            <a:ext cx="6096240" cy="419112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3600" spc="-1" strike="noStrike">
              <a:solidFill>
                <a:srgbClr val="ffffff"/>
              </a:solidFill>
              <a:latin typeface="Arial"/>
            </a:endParaRPr>
          </a:p>
        </p:txBody>
      </p:sp>
      <p:pic>
        <p:nvPicPr>
          <p:cNvPr id="151" name="Picture 6" descr="j0299125"/>
          <p:cNvPicPr/>
          <p:nvPr/>
        </p:nvPicPr>
        <p:blipFill>
          <a:blip r:embed="rId1"/>
          <a:stretch/>
        </p:blipFill>
        <p:spPr>
          <a:xfrm>
            <a:off x="6781680" y="1905120"/>
            <a:ext cx="198144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3:43Z</dcterms:modified>
  <cp:revision>10</cp:revision>
  <dc:subject/>
  <dc:title>Citizenship</dc:title>
</cp:coreProperties>
</file>