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B262-61F6-4F3B-97A6-83D12737D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AE0-0607-467C-BA6C-8BC9D959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356-7981-43F8-A017-CC465909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29A-A614-4E76-88D1-599C3991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FF9-511F-4469-8ECD-D9A41381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B13B-61F3-4749-B77A-39120B1F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92EE-7E69-4910-969A-27DE05D5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E104-268F-472B-BE1E-9DADCA0C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A618-25D0-4EF2-9B27-19E80EE2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2DBC-AE1C-4D0D-B39D-4B038FE0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9A6C-763B-42CF-8FF7-FD25EF9F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1924-53FF-442C-80F4-8AFCC1C2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447-044D-49DA-A78C-E433BB30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92C2-5FB1-4C96-A9CC-79B38454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3CA9-77B4-4B6E-9EF6-A2583854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3738-0F89-48D1-A32C-DE742EC3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2601-6C76-4576-AEA1-4D17B0B1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82A8-743F-4A30-84C2-4792AB41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736-156E-423C-9151-AA47E5F9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F1F-D618-4515-9815-AAD1233F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B55-58AA-4F2B-B250-B934A25C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C72-EC6D-46FD-B872-965CBC9F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854-E033-48DD-A096-49591C42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566-5F35-4A4A-A7C9-0FECAA9C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DE1-BF46-417B-AA63-659F9BDD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3574-BD26-4873-B957-EE6B83FB6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AC2E-EACF-45FF-BD16-DDEA7E993A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ss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ion and the Shepherd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scussion Questions for “The Lion and the Shepherd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Defined:</a:t>
            </a:r>
            <a:br>
              <a:rPr sz="4400"/>
            </a:br>
            <a:br>
              <a:rPr sz="40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means being kind and thoughtful towards other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ssionate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genuinely concerned for the welfa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j0281904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mpathetic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eeling an emotional response to the pain and pleasu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sideration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kind, loving, and sensitive to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4:01Z</dcterms:modified>
  <cp:revision>7</cp:revision>
  <dc:subject/>
  <dc:title>Character Education compassion</dc:title>
</cp:coreProperties>
</file>