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4668-50FE-485C-9280-3CDA26AE0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Wo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athe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l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rn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hear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t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evol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a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he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ion and the Shepherd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on and the Shepherd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Lion and the Shepherd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o you think the shepherd helped the l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a person feel the emotions that someone else is feel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it mean to have empathy for someon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are empathetic with a person, how does that make him fee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what person do you empathize the mos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Lion and the Shepher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you think the shepherd helped the l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a person feel the emotions that someone else is feel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mean to have empathy for some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empathetic with a person, how does that make him fe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what person do you empathize the mo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 Defined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 means being kind and thoughtful towards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Defined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means being kind and thoughtful towards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genuinely concerned for the welfare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genuinely concerned for the welfare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compassionate shows that he/she cares about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compassionate shows that he/she cares about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ling an emotional response to the pain and pleasure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 an emotional response to the pain and pleasure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empathetic has a generous spirit toward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empathetic has a generous spirit toward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kind, loving, and sensitive to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kind, loving, and sensitive to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siderate person is kind and lov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siderate person is kind and l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165F-4FEB-4773-B41F-EEF75315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55F6-E4E2-4A71-BDC9-27BD3767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8DB8-502F-4B4A-A8C3-88E7CA93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717B-4605-4FB0-AB3E-DE1342A3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4705-C361-4BF4-9F34-9DFC6467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8E3B-8467-439B-9E3A-82124ABE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155D-BD24-4D2B-9803-11DBA30A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765D-7FA4-4022-AB3D-206BB25C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EAFC-03F8-4254-8643-48D21F08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BCD0-D45B-41E7-9A4D-364595A7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940B-BD05-4155-9A55-F687AC42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3685-83BE-4A8B-80D8-9C26C4E0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A25B-F477-4BC8-BC49-FE8B3EC6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8939-F0D9-458B-9327-0850890E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19B8-14C0-434D-A165-708E6A5C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7818-2BB4-4EDD-B4C6-A67FFDCC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0142-E7C6-4C1F-8EAD-AB284AD5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D4B3-620D-446F-B436-0AD10280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9CF6-99F8-4DDE-B48D-047D543A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3176-F5B1-468C-B5D7-BA0FEB73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CC37-0391-4DD0-AD74-44961D8F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B945-281E-4CD2-8389-31A8E9A6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7526-7631-4F05-B6DD-FDB33148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3FC1-B425-465C-B8E0-36126C52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DD5D-ABF4-4735-B9A6-9320E8A6A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3E86-398D-4D21-A934-EE157AE46E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Education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r. Anderson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Trait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mpassio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ideration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Wor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mpathet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pathet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el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ern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hear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ider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evol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Lion and the Shepherd”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Aesop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iscussion Questions for “The Lion and the Shepherd”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you think the shepherd helped the l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a person feel the emotions that someone else is feel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 to have empathy for some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are empathetic with a person, how does that make him fee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what person do you empathiz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 Defined:</a:t>
            </a:r>
            <a:br>
              <a:rPr sz="4400"/>
            </a:br>
            <a:br>
              <a:rPr sz="40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 means being kind and thoughtful towards other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mpassionate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eing genuinely concerned for the welfare of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5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21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j0281904"/>
          <p:cNvPicPr/>
          <p:nvPr/>
        </p:nvPicPr>
        <p:blipFill>
          <a:blip r:embed="rId1"/>
          <a:stretch/>
        </p:blipFill>
        <p:spPr>
          <a:xfrm>
            <a:off x="5029200" y="228600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compassionate shows that he/she cares about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mpathetic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eeling an emotional response to the pain and pleasure of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mpathetic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mpathetic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empathetic has a generous spirit toward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nsideration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eing kind, loving, and sensitive to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ideration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nsiderate person is kind and lov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4:01Z</dcterms:modified>
  <cp:revision>7</cp:revision>
  <dc:subject/>
  <dc:title>Character Education compassion</dc:title>
</cp:coreProperties>
</file>