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4E0D-1623-4F0F-8930-4FF687A15B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Determines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Determines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 vs. Under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ing a need, a task, or 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new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 vs. Under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ing a need, a task, or 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new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 vs. Procra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recognize key factor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ize difficult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 vs. Procra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recognize key factor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ize difficult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 vs. Rude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ing my freedom so I do not off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ste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 vs. Rude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ing my freedom so I do not off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ste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 vs. Inconsist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filling what I consented to do, even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unexpected sacri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 vs. Inconsist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filling what I consented to do, even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unexpected sacri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 vs. Fainthear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ing to accomplish right goals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ime, regardless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 vs. Fainthear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ing to accomplish right goals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ime, regardless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 vs. Slo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my time and energ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each task assigned to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 vs. Slo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my time and energ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each task assigned to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 vs. Shortsigh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deeper reasons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 vs. Shortsigh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deeper reasons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 vs. Simplemind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avoiding wor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and attitudes that could b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sirabl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 vs. Simplemind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avoiding wor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and attitudes that could b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sirabl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 vs. Discour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ward strength to withstand st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my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 vs. Discour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ward strength to withstand st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my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 vs. Apath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joy in each task as I gi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best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 vs. Apath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joy in each task as I gi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best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 vs. Car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Aware of what is taking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me so  I can have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 vs. Car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Aware of what is taking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me so  I can have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 vs. Pre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actions rooted in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will yield the best outco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I cannot see 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 vs. Pre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actions rooted in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will yield the best outco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I cannot see 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 vs.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ngness to change plans or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the direction of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 vs.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ngness to change plans or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the direction of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 vs. Re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ing the record of those who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ed me and not holding a gru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 vs. Re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ing the record of those who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ed me and not holding a gru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 vs. Sting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managing my resources so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freely give to those in n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 vs. Sting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managing my resources so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freely give to those in n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 vs. Har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consideration and 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 vs. Har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consideration and 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 vs. Unthank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ing others know by my word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how they have benefited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 vs. Unthank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ing others know by my word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how they have benefited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 vs. Disresp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ing those in 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higher authorities th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 vs. Disresp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ing those in 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higher authorities th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 vs. Lone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erfully sharing food, shelter,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sation to benefit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 vs. Lone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erfully sharing food, shelter,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sation to benefit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 vs. P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ing that my 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rom the investment of other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 vs. P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ing that my 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rom the investment of other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 vs. Id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doing what nee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done before I am asked to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 vs. Id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doing what nee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done before I am asked to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 vs. Dis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the worth of a person or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iving my undivided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 vs. Dis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the worth of a person or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iving my undivided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 vs. Self-p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good attitude, even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d with unpleasa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 vs. Self-p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good attitude, even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d with unpleasa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 vs. Corru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personal responsibility to up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ure, right, and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 vs. Corru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personal responsibility to up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ure, right, and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vs. Unfai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difficult times to demonstrate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ment to those I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vs. Unfai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difficult times to demonstrate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ment to those I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 vs.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ielding my personal right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ations with a desire to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 vs.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ielding my personal right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ations with a desire to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 vs. Will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and cheerfully carrying o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 of those who are respon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 vs. Will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and cheerfully carrying o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 of those who are respon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 vs. Con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ing myself and my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hieve greater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 vs. Con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ing myself and my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hieve greater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 vs. Restles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a difficult situation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a deadline to remo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 vs. Restles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a difficult situation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a deadline to remo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 vs. Conten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ing vital truths around anoth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roadb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 vs. Conten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ing vital truths around anoth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roadb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 vs. Tard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esteem for others by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hing at the righ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 vs. Tard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esteem for others by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hing at the righ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 vs. Waste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practical uses for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 would overlook or dis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 vs. Waste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practical uses for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 would overlook or dis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 vs. Self-center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my own schedule and pri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to the wishes of thos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 vs. Self-center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my own schedule and pri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to the wishes of thos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vs. Unre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and doing what is expected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vs. Unre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and doing what is expected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 vs. Anxi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ing my life around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destroyed or take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 vs. Anxi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ing my life around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destroyed or take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 vs. Self-indulg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ing wrong desires and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 vs. Self-indulg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ing wrong desires and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vs. Callou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iving the true attitud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vs. Callou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iving the true attitud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 vs. Hypocri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gerness to do what is right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arent mo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 vs. Hypocri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gerness to do what is right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arent mo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 vs. Incomplet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what factors will diminish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ness of my work or words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 vs. Incomplet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what factors will diminish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ness of my work or words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 vs. Extravag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ing myself and others to sp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hat is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 vs. Extravag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ing myself and others to sp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hat is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 vs. Prejud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everyone is at va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s of character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 vs. Prejud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everyone is at va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s of character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 vs. Dece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ning future trust by accu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past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 vs. Dece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ning future trust by accu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past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 vs. Impur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excellence evident in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I consistently do 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 vs. Impur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excellence evident in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I consistently do 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 vs.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to others’ basic needs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s my motive personal re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 vs.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to others’ basic needs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s my motive personal re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 vs. Foolish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ing and responding to life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perspective that transcends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circum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 vs. Foolish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ing and responding to life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perspective that transcends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circum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 vs. Fear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what I have to say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s true, right, and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 vs. Fear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what I have to say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s true, right, and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 vs. Ra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how important right timing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complishing right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 vs. Ra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how important right timing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complishing right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vs. In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whatever is necessary to h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rts of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vs. In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whatever is necessary to h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rts of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 vs. Covet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true happiness doe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 on materi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 vs. Covet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true happiness doe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 on materi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5107-F4C5-4440-933B-7686A288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96FE-2FD2-4FBD-8872-F8C1A309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E90D-E7EE-4749-922D-A7E32316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9B30-B3B3-4EA0-BC69-0C975388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33EE-464F-4003-B6CB-A98F3E12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67A3-C4D5-49AB-A0AF-A5E63734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12A7-DC07-47D1-8CFD-6297DE33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DB3C-4C39-40F6-AF81-02227E08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8710-542B-4794-A932-89D02770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CF71-D6B9-4524-B4D6-9F3DECFF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8879-8459-43F5-800A-9DB38891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75DC-99C0-4F59-8671-8794EF2E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39C9-5412-4874-A409-4637D321C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1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 Determines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vity vs. Underachie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aching a need, a task, or an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m a new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cis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veness vs. Procrast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bility to recognize key factor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lize difficult deci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fer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erence vs. Rude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miting my freedom so I do not off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astes of those aroun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pendability vs. Inconsistenc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lfilling what I consented to do, even 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means unexpected sacri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tion vs. Fainthearted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posing to accomplish right goals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ght time, regardless of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lig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ligence vs. Sloth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ing my time and energy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 each task assigned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scern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ernment vs. Shortsighted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ing the deeper reasons w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ngs hap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scre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retion vs. Simpleminded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gnizing and avoiding word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s, and attitudes that could b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sirable con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urance vs. Discourag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nward strength to withstand st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do my b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husiasm vs. Apath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ressing joy in each task as I give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best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lert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rtness vs. Care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ing Aware of what is taking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ound me so  I can have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ith vs. Presum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dence that actions rooted in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 will yield the best outcom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 when I cannot see 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exibility vs. Res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llingness to change plans or 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ording to the direction of 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giveness vs. Rej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earing the record of those who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onged me and not holding a gru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osity vs. Stingi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efully managing my resources so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freely give to those in 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entl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tleness vs. Harsh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ing consideration and pers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rate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tefulness vs. Unthank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ting others know by my word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s how they have benefited 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nor vs. Disrespec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ecting those in 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ause of the higher authorities 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spita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spitality vs. Lonel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erfully sharing food, shelter,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versation to benefit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m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mility vs. Pr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ing that my achie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from the investment of others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tive vs. Idl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gnizing and doing what need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 done before I am asked to do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ttent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entiveness vs. Di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ing the worth of a person or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y giving my undivided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oy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yfulness vs. Self-p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taining a good attitude, even w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ed with unpleasant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stice vs. Corrup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ing personal responsibility to up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pure, right, and 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yalty vs. Unfaith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difficult times to demonstrate 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itment to those I 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ek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kness vs. Ang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ielding my personal right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ctations with a desire to 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edience vs. Willful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ckly and cheerfully carrying out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rection of those who are respon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derli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derliness vs. Confus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anging myself and my surrou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achieve greater effici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tience vs. Restless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pting a difficult situation with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ing a deadline to remove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rsuas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uasiveness vs. Contentious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iding vital truths around another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ntal roadbl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unctua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nctuality vs. Tardi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ing esteem for others by 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ght thing at the right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ource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urcefulness vs. Waste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ing practical uses for that 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s would overlook or dis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ailability vs. Self-centered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my own schedule and pri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ary to the wishes of thos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ibility vs. Unreliabil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and doing what is expected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rity vs. Anxie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cturing my life around that 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not be destroyed or taken 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f-Control vs. Self-indulge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jecting wrong desires and 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sitivity vs. Callous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ceiving the true attitude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motions of those aroun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ncer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ncerity vs. Hypocris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gerness to do what is right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parent mo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orough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roughness vs. Incomplet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what factors will diminish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ness of my work or words 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rifti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iftiness vs. Extravaga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owing myself and others to sp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y what is neces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lerance vs. Prejudi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lizing that everyone is at var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s of character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uth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thfulness vs. Decep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ning future trust by accurat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orting past f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irt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tue vs. Impur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oral excellence evident in 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I consistently do what is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nevol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evolence vs. Selfish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ing to others’ basic needs with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ing as my motive personal re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sdom vs. Foolish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eing and responding to life sit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m a perspective that transcends 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circum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old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ldness vs. Fearful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dence that what I have to say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is true, right, and j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utious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tiousness vs. Rash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how important right timing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accomplishing right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ssion vs. Indif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ing whatever is necessary to h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urts of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tment vs. Covetous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lizing that true happiness does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end on material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8:24:33Z</dcterms:created>
  <dc:creator>OKCPS</dc:creator>
  <dc:description/>
  <dc:language>en-US</dc:language>
  <cp:lastModifiedBy>LEGION</cp:lastModifiedBy>
  <dcterms:modified xsi:type="dcterms:W3CDTF">2015-09-11T10:48:26Z</dcterms:modified>
  <cp:revision>7</cp:revision>
  <dc:subject/>
  <dc:title>Character Education</dc:title>
</cp:coreProperties>
</file>