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7F33-4A4E-4292-B586-1C59E753D6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Determines Su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Determines Su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vity vs. Underachie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aching a need, a task, or an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new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vity vs. Underachie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aching a need, a task, or an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new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s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siveness vs. Procra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to recognize key factor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ize difficult de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s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siveness vs. Procra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to recognize key factor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ize difficult de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rence vs. Rude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ing my freedom so I do not off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stes of those around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rence vs. Rude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ing my freedom so I do not off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stes of those around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ability vs. Inconsist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filling what I consented to do, even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eans unexpected sacri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ability vs. Inconsist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filling what I consented to do, even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eans unexpected sacri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 vs. Faintheart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ing to accomplish right goals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time, regardless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 vs. Faintheart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ing to accomplish right goals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time, regardless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igence vs. Sloth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ng my time and energ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each task assigned to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igence vs. Sloth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ng my time and energ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each task assigned to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ment vs. Shortsight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the deeper reasons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hap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ment vs. Shortsight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the deeper reasons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hap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ion vs. Simplemind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ing and avoiding word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, and attitudes that could b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sirable con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ion vs. Simplemind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ing and avoiding word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, and attitudes that could b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sirable con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urance vs. Discourag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ward strength to withstand st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my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urance vs. Discourag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ward strength to withstand st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my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husi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husiasm vs. Apath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ng joy in each task as I giv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best 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husi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husiasm vs. Apath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ng joy in each task as I giv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best 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r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rtness vs. Care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Aware of what is taking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me so  I can have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r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rtness vs. Care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Aware of what is taking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me so  I can have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th vs. Presum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ce that actions rooted in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will yield the best outcom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when I cannot see 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th vs. Presum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ce that actions rooted in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will yield the best outcom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when I cannot see 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ility vs.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ngness to change plans or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rding to the direction of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ility vs.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ngness to change plans or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rding to the direction of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g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giveness vs. Re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ing the record of those who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nged me and not holding a gru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g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giveness vs. Re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ing the record of those who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nged me and not holding a gru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o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osity vs. Stingi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ly managing my resources so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freely give to those in n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o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osity vs. Stingi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ly managing my resources so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freely give to those in n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tl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tleness vs. Har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consideration and pers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rn for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tl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tleness vs. Har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consideration and pers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rn for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te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tefulness vs. Unthank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ting others know by my word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how they have benefited 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te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tefulness vs. Unthank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ting others know by my word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how they have benefited 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 vs. Disresp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ing those in 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e higher authorities th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 vs. Disresp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ing those in 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e higher authorities th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ity vs. Lone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erfully sharing food, shelter,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sation to benefit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ity vs. Lone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erfully sharing food, shelter,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sation to benefit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ility vs. P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ing that my achie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from the investment of other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ility vs. P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ing that my achie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from the investment of other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 vs. Idl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ing and doing what nee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done before I am asked to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 vs. Idl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ing and doing what nee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done before I am asked to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t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tiveness vs. Dis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the worth of a person or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iving my undivided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t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tiveness vs. Dis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the worth of a person or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iving my undivided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y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yfulness vs. Self-p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a good attitude, even 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d with unpleasant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y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yfulness vs. Self-p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a good attitude, even 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d with unpleasant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ce vs. Corrup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personal responsibility to up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pure, right, and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ce vs. Corrup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personal responsibility to up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pure, right, and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vs. Unfaith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difficult times to demonstrate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ment to those I 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vs. Unfaith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difficult times to demonstrate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ment to those I 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k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kness vs. A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ielding my personal right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ctations with a desire to 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k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kness vs. A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ielding my personal right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ctations with a desire to 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dience vs. Will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ly and cheerfully carrying ou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 of those who are respon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dience vs. Will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ly and cheerfully carrying ou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 of those who are respon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liness vs. Con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ing myself and my surrou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chieve greater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liness vs. Con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ing myself and my surrou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chieve greater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 vs. Restless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ing a difficult situation with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ing a deadline to remov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 vs. Restless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ing a difficult situation with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ing a deadline to remov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ness vs. Contenti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ing vital truths around another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roadb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ness vs. Contenti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ing vital truths around another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roadb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ct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ctuality vs. Tardi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esteem for others by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thing at the righ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ct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ctuality vs. Tardi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esteem for others by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thing at the righ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fulness vs. Waste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practical uses for that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 would overlook or dis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fulness vs. Waste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practical uses for that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 would overlook or dis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ility vs. Self-centere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my own schedule and prio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ary to the wishes of those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ility vs. Self-centere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my own schedule and prio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ary to the wishes of those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vs. Unreli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and doing what is expected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vs. Unreli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and doing what is expected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 vs. Anxie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ing my life around that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destroyed or taken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 vs. Anxie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ing my life around that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destroyed or taken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 vs. Self-indulg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ing wrong desires and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 vs. Self-indulg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ing wrong desires and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vs. Callous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iving the true attitude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of those around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vs. Callous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iving the true attitude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of those around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rity vs. Hypocris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gerness to do what is right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arent mo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rity vs. Hypocris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gerness to do what is right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arent mo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ness vs. Incomplet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what factors will diminish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iveness of my work or words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ness vs. Incomplet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what factors will diminish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iveness of my work or words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ift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iftiness vs. Extravag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ing myself and others to sp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what is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ift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iftiness vs. Extravag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ing myself and others to sp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what is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nce vs. Prejud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ing that everyone is at var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s of character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nce vs. Prejud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ing that everyone is at var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s of character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th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thfulness vs. Decep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ning future trust by accu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ing past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th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thfulness vs. Decep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ning future trust by accu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ing past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e vs. Impur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al excellence evident in 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I consistently do what is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e vs. Impur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al excellence evident in 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I consistently do what is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vol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volence vs. Selfi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ing to others’ basic needs with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as my motive personal re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vol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volence vs. Selfi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ing to others’ basic needs with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as my motive personal re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dom vs. Foolish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ing and responding to life sit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perspective that transcends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circum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dom vs. Foolish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ing and responding to life sit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perspective that transcends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circum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dness vs. Fear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ce that what I have to say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is true, right, and j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dness vs. Fear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ce that what I have to say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is true, right, and j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i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iousness vs. Ra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how important right timing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ccomplishing right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i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iousness vs. Ra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how important right timing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ccomplishing right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 vs. In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ng whatever is necessary to h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rts of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 vs. In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ng whatever is necessary to h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rts of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ment vs. Covet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ing that true happiness does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 on materi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ment vs. Covet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ing that true happiness does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 on materi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497E-7B00-4416-87A9-F4845E0FA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D52B-FBC7-4FA2-A6C2-43ECA97F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AC7D-7B5A-429A-A79C-0F3852E86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9A5E-648E-4A7E-90CA-2BBE984CD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352F-DB2F-497B-8428-7FF0A59A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8555-D3F6-4221-90A1-4C5F730D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5143-D4E8-42A5-A4A4-82E5EFD4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4624-A04A-4752-9BA7-077CBC7C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9C73-154C-423C-A37B-4DF21779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1526-B3A8-47B7-ADFD-204BCC58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06CC-EFB7-4651-A1B1-C0130716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190B-8F6C-44C7-9003-65A8647B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AADC-8B73-456E-87F9-2A0A84D2A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1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 Determines Suc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r. Ander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ivity vs. Underachie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roaching a need, a task, or an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om a new persp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cisive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isiveness vs. Procrast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bility to recognize key factor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alize difficult deci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fer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erence vs. Rude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miting my freedom so I do not off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astes of those around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pendab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pendability vs. Inconsistenc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lfilling what I consented to do, even i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means unexpected sacri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tion vs. Fainthearted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posing to accomplish right goals 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ight time, regardless of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lig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ligence vs. Slothful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vesting my time and energy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lete each task assigned to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scern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ernment vs. Shortsighted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rstanding the deeper reasons w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ngs happ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scre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retion vs. Simpleminded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ognizing and avoiding word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ons, and attitudes that could b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sirable consequ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ndura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durance vs. Discourage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inward strength to withstand st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do my b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nthusias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thusiasm vs. Apath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ressing joy in each task as I give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y best ef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lert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rtness vs. Careless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ing Aware of what is taking 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ound me so  I can have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ai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ith vs. Presum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idence that actions rooted in g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 will yield the best outcom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n when I cannot see 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exibility vs. Resist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llingness to change plans or id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ording to the direction of 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ho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orgive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giveness vs. Rej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earing the record of those who 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onged me and not holding a gru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eneros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osity vs. Stingi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efully managing my resources so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freely give to those in n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entle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tleness vs. Harsh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wing consideration and pers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ern for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rateful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tefulness vs. Unthankful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ting others know by my word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ons how they have benefited my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n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nor vs. Disrespec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pecting those in 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ause of the higher authorities 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res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spita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spitality vs. Lonel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erfully sharing food, shelter, 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versation to benefit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um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umility vs. Pr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nowledging that my achie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 from the investment of others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y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itiati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itiative vs. Idle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ognizing and doing what needs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 done before I am asked to do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ttentive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entiveness vs. Di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wing the worth of a person or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y giving my undivided concen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Joyful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yfulness vs. Self-p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taining a good attitude, even w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ed with unpleasant cond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stice vs. Corrup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ing personal responsibility to uph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pure, right, and 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oyal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yalty vs. Unfaithful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difficult times to demonstrate 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itment to those I se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ek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ekness vs. Ang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ielding my personal right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ectations with a desire to se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bedi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edience vs. Willful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ickly and cheerfully carrying out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rection of those who are respons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derli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derliness vs. Confus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ranging myself and my surrou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achieve greater effici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tience vs. Restless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epting a difficult situation with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ving a deadline to remove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ersuasive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uasiveness vs. Contentious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uiding vital truths around another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ntal roadblo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unctua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nctuality vs. Tardi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wing esteem for others by do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ight thing at the right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sourceful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ourcefulness vs. Wasteful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ing practical uses for that wh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s would overlook or disc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vailability vs. Self-centered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ing my own schedule and prio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ary to the wishes of those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ponsibility vs. Unreliabil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ing and doing what is expected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urity vs. Anxie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ucturing my life around that wh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not be destroyed or taken a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f-Control vs. Self-indulgen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jecting wrong desires and do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sitivity vs. Callous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ceiving the true attitude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motions of those around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incer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ncerity vs. Hypocris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gerness to do what is right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parent mo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orough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oroughness vs. Incomplete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ing what factors will diminish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ness of my work or words i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glec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rifti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iftiness vs. Extravagan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owing myself and others to sp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ly what is necess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lerance vs. Prejudi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lizing that everyone is at var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vels of character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uthful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thfulness vs. Decep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rning future trust by accurate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orting past f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irt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tue vs. Impur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oral excellence evident in my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 I consistently do what is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enevol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nevolence vs. Selfish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ving to others’ basic needs with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ing as my motive personal re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isd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sdom vs. Foolish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eing and responding to life sit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om a perspective that transcends 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rent circumst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old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ldness vs. Fearful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idence that what I have to say 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is true, right, and j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utious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tiousness vs. Rash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ing how important right timing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accomplishing right 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ssion vs. Indif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vesting whatever is necessary to h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hurts of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ntent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entment vs. Covetous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lizing that true happiness does 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end on material cond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8:24:33Z</dcterms:created>
  <dc:creator>OKCPS</dc:creator>
  <dc:description/>
  <dc:language>en-US</dc:language>
  <cp:lastModifiedBy>LEGION</cp:lastModifiedBy>
  <dcterms:modified xsi:type="dcterms:W3CDTF">2015-09-11T10:48:26Z</dcterms:modified>
  <cp:revision>7</cp:revision>
  <dc:subject/>
  <dc:title>Character Education</dc:title>
</cp:coreProperties>
</file>