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8D9FD-BC66-4A08-BFB1-0CC93E2C45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 Educ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. Anderson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 Trai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eve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 Educ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. Anderson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 Trai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eve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Why is it sometimes difficult to 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i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Why is it sometimes difficult to 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i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What is the most difficult thing f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to wait fo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What is the most difficult thing f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to wait fo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 When you show patience in a situation, does it usually have a good resul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 When you show patience in a situation, does it usually have a good resul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ittle Engine That Cou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ittle Engine That Cou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Why do you think the engine kept trying even though the task was difficul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Why do you think the engine kept trying even though the task was difficul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What does it mean to have an “I Can” attitud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What does it mean to have an “I Can” attitud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What usually happens when you think you can’t do somethin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What usually happens when you think you can’t do somethin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What is something you have accomplished by believing that you could do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What is something you have accomplished by believing that you could do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 How can you encourage yourself when you’re given a tough situation or tas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 How can you encourage yourself when you’re given a tough situation or tas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2 handout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enacious Quot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My personal patience r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plete 2 handouts</a:t>
            </a:r>
            <a:br>
              <a:rPr sz="1200"/>
            </a:b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Tenacious Quotes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My personal patience r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everance Definition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ing hard and not giving u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everance Definition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ing hard and not giving u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ch your thoughts; they become wor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ch your words; they become a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ch your actions; they become habi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ch your habits; they become charac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ch your character; for it becomes your destiny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ch your thoughts; they become wor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ch your words; they become a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ch your actions; they become habi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ch your habits; they become charac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ch your character; for it becomes your destiny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  YOU  CA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verse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en, gather round I found something that you can 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if you listen, well, I’m here to tell you, you cannot l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imple song, simple melody, to remind you that you can 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eatest ever, defeated never, even though sometimes you may l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  YOU  CA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verse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en, gather round I found something that you can 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if you listen, well, I’m here to tell you, you cannot l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imple song, simple melody, to remind you that you can 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eatest ever, defeated never, even though sometimes you may l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 You 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 you can, you can do anything if you try, just 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 you can, but you have to believe and rely on what you have in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make it through your trials, for your trials will just make you str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do anything, yes you can, o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 You 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 you can, you can do anything if you try, just 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 you can, but you have to believe and rely on what you have in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make it through your trials, for your trials will just make you str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do anything, yes you can, o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 You 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ch your children well, it’s time to tell them just who they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in them as they go to let them know that they can go f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h my brother why do you wait, tomorrow night just be too 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God gave the provision, made the decision, you can do all things through your fa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 You 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ch your children well, it’s time to tell them just who they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in them as they go to let them know that they can go f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h my brother why do you wait, tomorrow night just be too 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God gave the provision, made the decision, you can do all things through your fa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 You 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Vam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can, I can, I can, yes I can do any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matter what if you can just conceive it, if you believe it, then you can achieve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 You 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Vam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can, I can, I can, yes I can do any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matter what if you can just conceive it, if you believe it, then you can achieve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everance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show perseve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I stick w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thing until it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everance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show perseve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I stick w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thing until it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everance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sh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eve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I do not g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everance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sh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eve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I do not g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everance W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tina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adfast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lwart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a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entless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gged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stina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na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everance W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tina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adfast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lwart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a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entless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gged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stina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na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nacity Definition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lding together and sticking to someth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nacity Definition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lding together and sticking to someth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row and the Pitc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row and the Pitc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Why did the crow decide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its plan to get the wat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Why did the crow decide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its plan to get the wat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Are you a patient pers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Are you a patient pers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A0A2-27E6-45DA-8488-86D0FA585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DA5A-2944-407E-8DCE-6E842CC36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CBBA-AB55-4BCD-957B-DFF7AF2B1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3C8F-A74E-40D2-B3B7-7E18B9A8C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4A5DB-5A4E-49D0-9A49-BFC44A064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29E0A-5003-4CE2-8E83-BFC33701B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C20E1-C363-466C-BDC5-CA6CEEE7F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8BBDF-8403-4629-9BEF-3F24B1467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CC904-20C9-465C-8E95-E2C5F682A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83B40-2E06-475E-8E5A-A8973D8E5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00CA4-A050-4CF9-AB2B-FF4193927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04D1-D4C8-487C-9980-218D9458B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6CE7D-2DF2-4B98-B1FB-270B18D30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C1F48-57F0-4863-AB8F-76D47AF18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FD9F0-89E7-4712-A873-471FE87A3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D4FE0-D1CF-494F-8084-0695D898A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36037-FAF5-41C4-8776-114C92F7F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F992-6CB6-47F0-B2B0-EB7FF71D9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4B77-FAC7-420E-BDD0-C0D1BE662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8818-C162-42C2-AEBB-D46BB3030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BF3D-5241-4118-94B8-D4A3F4B3A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E063-D915-4402-8C89-8CFBA44A8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372B-870C-481D-ADC0-1DA4233E5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1727-A128-49B7-B268-2334AC0A2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Mr. Anderson's Character Development Cl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DB548-09A8-4FC1-A463-F1D43BA715AD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Mr. Anderson's Character Development Cl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FA923-B0CF-4127-94ED-617DF0CF6272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haracter Education</a:t>
            </a:r>
            <a:br>
              <a:rPr sz="5000"/>
            </a:b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Mr. Anderson</a:t>
            </a:r>
            <a:br>
              <a:rPr sz="5000"/>
            </a:br>
            <a:br>
              <a:rPr sz="5000"/>
            </a:b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haracter Trait</a:t>
            </a:r>
            <a:br>
              <a:rPr sz="5000"/>
            </a:b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Perseverance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33"/>
                </a:solidFill>
                <a:latin typeface="Garamond"/>
              </a:rPr>
              <a:t>Questions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160" y="2514240"/>
            <a:ext cx="830556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3.  Why is it sometimes difficult to be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patient?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33"/>
                </a:solidFill>
                <a:latin typeface="Garamond"/>
              </a:rPr>
              <a:t>Questions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160" y="2514240"/>
            <a:ext cx="830556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4.  What is the most difficult thing for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you to wait for?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33"/>
                </a:solidFill>
                <a:latin typeface="Garamond"/>
              </a:rPr>
              <a:t>Questions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160" y="2514240"/>
            <a:ext cx="830556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6548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5.  When you show patience in a situation, does it usually have a good result?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90476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33"/>
                </a:solidFill>
                <a:latin typeface="Garamond"/>
              </a:rPr>
              <a:t>The Little Engine That Could</a:t>
            </a:r>
            <a:endParaRPr b="0" lang="en-US" sz="54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33"/>
                </a:solidFill>
                <a:latin typeface="Garamond"/>
              </a:rPr>
              <a:t>Questions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160" y="2514240"/>
            <a:ext cx="830556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6548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1.  Why do you think the engine kept trying even though the task was difficult?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33"/>
                </a:solidFill>
                <a:latin typeface="Garamond"/>
              </a:rPr>
              <a:t>Questions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3160" y="2514240"/>
            <a:ext cx="830556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2.  What does it mean to have an “I Can” attitude?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33"/>
                </a:solidFill>
                <a:latin typeface="Garamond"/>
              </a:rPr>
              <a:t>Questions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160" y="2514240"/>
            <a:ext cx="830556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3.  What usually happens when you think you can’t do something?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33"/>
                </a:solidFill>
                <a:latin typeface="Garamond"/>
              </a:rPr>
              <a:t>Questions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3160" y="2514240"/>
            <a:ext cx="830556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6548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4.  What is something you have accomplished by believing that you could do it?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33"/>
                </a:solidFill>
                <a:latin typeface="Garamond"/>
              </a:rPr>
              <a:t>Questions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160" y="2514240"/>
            <a:ext cx="830556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6548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5.  How can you encourage yourself when you’re given a tough situation or task?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33"/>
                </a:solidFill>
                <a:latin typeface="Garamond"/>
              </a:rPr>
              <a:t>Complete 2 handouts</a:t>
            </a:r>
            <a:br>
              <a:rPr sz="5400"/>
            </a:br>
            <a:br>
              <a:rPr sz="5400"/>
            </a:br>
            <a:r>
              <a:rPr b="0" lang="en-US" sz="5400" spc="-1" strike="noStrike">
                <a:solidFill>
                  <a:srgbClr val="006633"/>
                </a:solidFill>
                <a:latin typeface="Garamond"/>
              </a:rPr>
              <a:t>-Tenacious Quotes</a:t>
            </a:r>
            <a:br>
              <a:rPr sz="5400"/>
            </a:br>
            <a:r>
              <a:rPr b="0" lang="en-US" sz="5400" spc="-1" strike="noStrike">
                <a:solidFill>
                  <a:srgbClr val="006633"/>
                </a:solidFill>
                <a:latin typeface="Garamond"/>
              </a:rPr>
              <a:t>-My personal patience rating</a:t>
            </a:r>
            <a:endParaRPr b="0" lang="en-US" sz="54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9180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Perseverance Definition:</a:t>
            </a:r>
            <a:br>
              <a:rPr sz="3800"/>
            </a:br>
            <a:br>
              <a:rPr sz="3800"/>
            </a:b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Working hard and not giving up.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5" name="Picture 11" descr="j0292020"/>
          <p:cNvPicPr/>
          <p:nvPr/>
        </p:nvPicPr>
        <p:blipFill>
          <a:blip r:embed="rId1"/>
          <a:stretch/>
        </p:blipFill>
        <p:spPr>
          <a:xfrm>
            <a:off x="3770280" y="3581280"/>
            <a:ext cx="1868400" cy="177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609480" y="228600"/>
            <a:ext cx="7925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2000"/>
          </a:bodyPr>
          <a:p>
            <a:pPr marL="17820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Watch your thoughts; they become words.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17820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Watch your words; they become actions.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17820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Watch your actions; they become habits.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17820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Watch your habits; they become character.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17820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Watch your character; for it becomes your destiny!!!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YES  YOU  CAN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verse 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en, gather round I found something that you can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if you listen, well, I’m here to tell you, you cannot l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imple song, simple melody, to remind you that you can 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reatest ever, defeated never, even though sometimes you may l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Yes You Ca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oru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Yes you can, you can do anything if you try, just t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Yes you can, but you have to believe and rely on what you have insi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You can make it through your trials, for your trials will just make you stro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You can do anything, yes you can, o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Yes You Ca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each your children well, it’s time to tell them just who they a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ain them as they go to let them know that they can go f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h my brother why do you wait, tomorrow night just be too la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r God gave the provision, made the decision, you can do all things through your fait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Yes You Ca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Vamp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 can, I can, I can, yes I can do anyth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matter what if you can just conceive it, if you believe it, then you can achieve i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erseverance Exampl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8440" y="1143000"/>
            <a:ext cx="55274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I show perseverance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when I stick with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something until it i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finished.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1" descr="j0199036"/>
          <p:cNvPicPr/>
          <p:nvPr/>
        </p:nvPicPr>
        <p:blipFill>
          <a:blip r:embed="rId1"/>
          <a:stretch/>
        </p:blipFill>
        <p:spPr>
          <a:xfrm>
            <a:off x="6248520" y="1905120"/>
            <a:ext cx="1828800" cy="282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erseverance Exampl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93560" y="1910880"/>
            <a:ext cx="4765680" cy="42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I show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Perseverance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when I do not give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up.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12" descr="j0199036"/>
          <p:cNvPicPr/>
          <p:nvPr/>
        </p:nvPicPr>
        <p:blipFill>
          <a:blip r:embed="rId1"/>
          <a:stretch/>
        </p:blipFill>
        <p:spPr>
          <a:xfrm>
            <a:off x="5334120" y="1905120"/>
            <a:ext cx="2895480" cy="282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erseverance Word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Pertinacity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Determination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Steadfastnes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Stalwartnes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onstancy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Relentlessnes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Doggednes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Obstinacy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Tenacity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00620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Tenacity Definition:</a:t>
            </a:r>
            <a:br>
              <a:rPr sz="3800"/>
            </a:br>
            <a:br>
              <a:rPr sz="3800"/>
            </a:b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Holding together and sticking to something.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6" name="Picture 5" descr="j0285410"/>
          <p:cNvPicPr/>
          <p:nvPr/>
        </p:nvPicPr>
        <p:blipFill>
          <a:blip r:embed="rId1"/>
          <a:stretch/>
        </p:blipFill>
        <p:spPr>
          <a:xfrm>
            <a:off x="4343400" y="3276720"/>
            <a:ext cx="2819520" cy="230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90476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33"/>
                </a:solidFill>
                <a:latin typeface="Garamond"/>
              </a:rPr>
              <a:t>The Crow and the Pitcher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33"/>
                </a:solidFill>
                <a:latin typeface="Garamond"/>
              </a:rPr>
              <a:t>Questions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160" y="2514240"/>
            <a:ext cx="830556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1.  Why did the crow decide to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hange its plan to get the water?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33"/>
                </a:solidFill>
                <a:latin typeface="Garamond"/>
              </a:rPr>
              <a:t>Questions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160" y="2514240"/>
            <a:ext cx="830556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2.  Are you a patient person?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4T02:55:25Z</dcterms:created>
  <dc:creator>OKCPS</dc:creator>
  <dc:description/>
  <dc:language>en-US</dc:language>
  <cp:lastModifiedBy>LEGION</cp:lastModifiedBy>
  <dcterms:modified xsi:type="dcterms:W3CDTF">2015-09-11T10:54:09Z</dcterms:modified>
  <cp:revision>13</cp:revision>
  <dc:subject/>
  <dc:title>Character Education Perseverance</dc:title>
</cp:coreProperties>
</file>