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F0AB-373D-4092-B417-1124B40F7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D38-7545-454E-8CDE-8D5E0A8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E8B-335F-480B-9124-81A21FE0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A87-D7AB-4C1D-BB5C-239C13F3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2FA-F0C8-4AB1-830D-659F1389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5F8D-3BD2-4735-9C15-1F3AFAD0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DFFC-750E-4602-BD3C-15E6FED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0D3A-52EE-462E-8F32-65C56190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8180-F606-4EB7-AC27-75B78A63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49BE-8AC0-4E60-B44E-D9A609B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4734-C664-4260-9968-6BBAB08F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1A0F-A67A-4B8C-BC57-CAF9811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863-C1A7-4940-A8AC-BB4084EA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6C7-3DD8-499A-B546-3A842E9F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747B-235D-4F30-8CE8-E1A2186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3B86-309A-4BC8-BA3E-3D61DC58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2B78-2466-4CDE-8CDD-46F75E66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458C-BE90-480E-B5E8-482958A4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7EE-A2B0-4E16-AEFF-26221059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9F3-C820-4C11-B2AF-650170C2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67F-A832-4E6C-ABBA-8D79CDEE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5BA-8539-4656-A9E7-24B76A3A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6D3-1F64-4146-88BC-D253876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393-8F62-44F9-8711-86E0CD6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01D-8B46-43EE-A4CF-3D48117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FDF-7331-4D60-B4F4-AC656819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9AA6-F9F1-419C-9E7F-20B7C8C308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esponsibil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n accountable person thinks before acting, is reliable, and accepts responsibility for the consequences of his/her choic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An accountable person doesn’t make excuses, or blame others for mistakes personally made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385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An accountable person sets a good example for others to look up to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ursue Excellen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hibiting diligence, perseverance, and striving for continuous improvement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ellenc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j0240719"/>
          <p:cNvPicPr/>
          <p:nvPr/>
        </p:nvPicPr>
        <p:blipFill>
          <a:blip r:embed="rId1"/>
          <a:stretch/>
        </p:blipFill>
        <p:spPr>
          <a:xfrm>
            <a:off x="5791320" y="2286000"/>
            <a:ext cx="2535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finishes what he/she starts and doesn’t give up easily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takes the responsibility of looking for ways to improve his/her work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doesn’t surrender to obstacles or excuses, instead overcoming them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Wolf and the Crane.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dependable and making good choice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7" descr="j0233018"/>
          <p:cNvPicPr/>
          <p:nvPr/>
        </p:nvPicPr>
        <p:blipFill>
          <a:blip r:embed="rId1"/>
          <a:stretch/>
        </p:blipFill>
        <p:spPr>
          <a:xfrm>
            <a:off x="3200400" y="325296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men prefer to be accountable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Michael Edwar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can’t escape the responsibility of tomorrow by evading it today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Abraham Lincol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ith Privilege,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Comes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Responsibility.”</a:t>
            </a:r>
            <a:br>
              <a:rPr sz="4000"/>
            </a:br>
            <a:br>
              <a:rPr sz="40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willingness to accept responsibility for one’s own life is the source from which self-respect spring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Joan Did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f you take responsibility for yourself you will develop a hunger to accomplish your dream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Les Brow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rice of greatness is responsibility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Sir Winston Churchill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 are accountable only to ourselves for what happens in our liv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Mildred Newma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090070"/>
          <p:cNvPicPr/>
          <p:nvPr/>
        </p:nvPicPr>
        <p:blipFill>
          <a:blip r:embed="rId1"/>
          <a:stretch/>
        </p:blipFill>
        <p:spPr>
          <a:xfrm>
            <a:off x="5410080" y="205740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countabl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j0195812"/>
          <p:cNvPicPr/>
          <p:nvPr/>
        </p:nvPicPr>
        <p:blipFill>
          <a:blip r:embed="rId1"/>
          <a:stretch/>
        </p:blipFill>
        <p:spPr>
          <a:xfrm>
            <a:off x="5257800" y="2057400"/>
            <a:ext cx="2509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5:23Z</dcterms:modified>
  <cp:revision>8</cp:revision>
  <dc:subject/>
  <dc:title>Character Education Responsibility</dc:title>
</cp:coreProperties>
</file>