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8C2C-CB64-41FF-A3F9-755DE729C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42B-099E-483B-ACC1-8DC9C5C8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175-11F5-420E-8331-38CFA402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9C4-FFBC-4112-A5FF-B51D1586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0BB-F927-4D27-9357-EB7C8F63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EA77-424F-425D-9928-0D1A71F4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E240-C92F-40FF-B218-00A9EB3C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2D2A-07F8-4934-8C8C-142703E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1070-FB7F-4D8C-AE69-7CCCE32E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9A33-835C-44C9-BCC3-CB3C40B6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384A-3F9A-431E-BAE4-993329A7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5E68-6569-4912-AD36-8D58BFAD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1E1-AC2F-4EF1-A50D-4DA2F69B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A5B7-2FC4-4216-AE8A-97FCBA9D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FE48-7692-4E89-8D0D-BA53231D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4824-D4CC-4D4C-9E15-86D4325B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2398-0EF9-45E9-B62A-4D05F295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70DE-2235-4166-B5E5-EDEFDD5E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452-1407-416B-888C-9B938FBE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718-65E1-43B0-9A43-2ED5D14E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70E-2288-4377-B847-F4477EF3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C1F-B6EC-408D-B3EA-6621E136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A1F-83AA-48BF-BC10-E7CE991F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ABB-075C-4123-B31C-9FF3F0B7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4F8-2168-498D-A74F-13673C00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B6F6-F311-415F-8DA2-083343C22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4B72-CDB5-419D-B07F-E85D82055D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esponsibilit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4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n accountable person thinks before acting, is reliable, and accepts responsibility for the consequences of his/her choic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An accountable person doesn’t make excuses, or blame others for mistakes personally made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3851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An accountable person sets a good example for others to look up to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ursue Excellence: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hibiting diligence, perseverance, and striving for continuous improvement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cellenc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j0240719"/>
          <p:cNvPicPr/>
          <p:nvPr/>
        </p:nvPicPr>
        <p:blipFill>
          <a:blip r:embed="rId1"/>
          <a:stretch/>
        </p:blipFill>
        <p:spPr>
          <a:xfrm>
            <a:off x="5791320" y="2286000"/>
            <a:ext cx="2535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finishes what he/she starts and doesn’t give up easily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takes the responsibility of looking for ways to improve his/her work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doesn’t surrender to obstacles or excuses, instead overcoming them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Wolf and the Crane.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dependable and making good choice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7" descr="j0233018"/>
          <p:cNvPicPr/>
          <p:nvPr/>
        </p:nvPicPr>
        <p:blipFill>
          <a:blip r:embed="rId1"/>
          <a:stretch/>
        </p:blipFill>
        <p:spPr>
          <a:xfrm>
            <a:off x="3200400" y="3252960"/>
            <a:ext cx="25750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od men prefer to be accountable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Michael Edwar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can’t escape the responsibility of tomorrow by evading it today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Abraham Lincol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With Privilege,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Comes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Responsibility.”</a:t>
            </a:r>
            <a:br>
              <a:rPr sz="4000"/>
            </a:br>
            <a:br>
              <a:rPr sz="40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willingness to accept responsibility for one’s own life is the source from which self-respect spring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Joan Didio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If you take responsibility for yourself you will develop a hunger to accomplish your dream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Les Brow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price of greatness is responsibility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Sir Winston Churchill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e are accountable only to ourselves for what happens in our live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Mildred Newma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090070"/>
          <p:cNvPicPr/>
          <p:nvPr/>
        </p:nvPicPr>
        <p:blipFill>
          <a:blip r:embed="rId1"/>
          <a:stretch/>
        </p:blipFill>
        <p:spPr>
          <a:xfrm>
            <a:off x="5410080" y="205740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countabl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j0195812"/>
          <p:cNvPicPr/>
          <p:nvPr/>
        </p:nvPicPr>
        <p:blipFill>
          <a:blip r:embed="rId1"/>
          <a:stretch/>
        </p:blipFill>
        <p:spPr>
          <a:xfrm>
            <a:off x="5257800" y="2057400"/>
            <a:ext cx="2509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5:23Z</dcterms:modified>
  <cp:revision>8</cp:revision>
  <dc:subject/>
  <dc:title>Character Education Responsibility</dc:title>
</cp:coreProperties>
</file>