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B941-4F73-459D-903F-91FCDBA95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ise p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s whe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tation i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to resis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s away from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ise p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s whe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tation i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to resis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s away from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Accoun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ability is invok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ngth of teamwork to face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Accoun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ability is invok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ngth of teamwork to face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k philosopher Plato was o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ed, “What man is most fit to gover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wn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o’s reply: “He that can well gov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mself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k philosopher Plato was o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ed, “What man is most fit to gover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wn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o’s reply: “He that can well gov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mself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become just by the practice of j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, self-controlled by exercising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, and courageous by perfo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s of courag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become just by the practice of j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, self-controlled by exercising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, and courageous by perfo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s of courag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not negative restraint but rather posi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management. Self-discipline is ha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cus broader than self-indulgence.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ngs selfish desires under control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to achieve a greater 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not negative restraint but rather posi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management. Self-discipline is ha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cus broader than self-indulgence.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ngs selfish desires under control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to achieve a greater 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a personal budget is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lent example of self-discip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a personal budget is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lent example of self-discip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Chain-of-Com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nvolves self-govern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one’s internal faculties in pro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Chain-of-Com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nvolves self-govern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one’s internal faculties in pro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ation of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undation of self-discipline i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ontrol one’s thoughts, action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itudes, and feel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ation of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undation of self-discipline i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ontrol one’s thoughts, action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itudes, and feel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ed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ro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ed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ro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ing about your words and actions, and then making choices that are right for you and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ing about your words and actions, and then making choices that are right for you and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Black Be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various way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bear demon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Black Be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various way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bear demon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Black Be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learn from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of the 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will translate into hu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Black Be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learn from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of the 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will translate into hu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self-discipline help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ieve your goals as you ref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llow immediate desire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romise long-term goal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choices that will benefit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now and in the fu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self-discipline help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ieve your goals as you ref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llow immediate desire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romise long-term goal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choices that will benefit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now and in the fu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thoughts; they become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words; they become 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actions; they become ha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habits; they become charac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character; for it becomes your destiny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thoughts; they become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words; they become 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actions; they become ha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habits; they become charac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character; for it becomes your destiny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ise old owl sat in an oak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e he saw, the less 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k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ss he spoke, the more 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h I could  be like that old bird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ise old owl sat in an oak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e he saw, the less 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k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ss he spoke, the more 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h I could  be like that old bird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 YOU  CA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erse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, gather round I found something that you can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you listen, well, I’m here to tell you, you cannot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imple song, simple melody, to remind you that you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ever, defeated never, even though sometimes you may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 YOU  CA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erse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, gather round I found something that you can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you listen, well, I’m here to tell you, you cannot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imple song, simple melody, to remind you that you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ever, defeated never, even though sometimes you may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you can do anything if you try, just 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but you have to believe and rely on what you hav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make it through your trials, for your trials will just make you str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do anything, yes you can, 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you can do anything if you try, just 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but you have to believe and rely on what you hav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make it through your trials, for your trials will just make you str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do anything, yes you can, 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your children well, it’s time to tell them just who they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 them as they go to let them know that they can go 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 my brother why do you wait, tomorrow night just be too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od gave the provision, made the decision, you can do all things through your fa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your children well, it’s time to tell them just who they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 them as they go to let them know that they can go 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 my brother why do you wait, tomorrow night just be too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od gave the provision, made the decision, you can do all things through your fa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accept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do not always 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accept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do not always 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am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, I can, I can, yes I can do an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atter what if you can just conceive it, if you believe it, then you can achie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am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, I can, I can, yes I can do an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atter what if you can just conceive it, if you believe it, then you can achie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finish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es b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finish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es b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m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m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ing uncomplaining endurance under dist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tient Definition: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monstrating uncomplaining endurance under dist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Conce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ey Conce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Beyond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of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lg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Beyond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of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lg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ard Your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ater fl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ong a riverbe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give-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betwee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ard Your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ater fl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ong a riverbe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give-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betwee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6178-3BF1-4B55-834B-EB2F01362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776B-D632-45B0-AB10-D99B1135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A8E9-9897-4ADB-A06C-C57BFBB32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E09C-47BE-491C-9DC5-FCCCED624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DF0A-21D1-41D3-AB6E-C96AFBD20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3FE3-7666-481B-B4BE-819A81F0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B617-FA46-4571-823E-A18A7F5B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3D24A-15D8-4710-8609-212E6A4B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6229-A131-4538-B4BC-BE3319DA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0A42-7557-4E0F-96BF-596D1E68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A8EF-2C45-4385-8269-714D9A1F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5513-A3E8-483B-AC6E-A92DB2DA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DAE8-8A11-470A-B7DC-F19F918E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F41E1-277A-4854-97AC-53520B1F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E23F-0ADF-4F64-BAEA-C3AA4A4A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581A-53B1-4AEA-ADA5-54812CD5B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CC01-8EF9-4253-A1CB-E1A44A94F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D294-45F8-4E19-A12F-B3B49092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F5A6-CB38-49A0-9FD0-E6AA5A09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2A22-A8C1-4E48-9624-88C5A0C5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821E-24A8-492D-AF09-01B75180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EE09-F0C3-4B78-BC83-AE0DE1B1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659D-CD9E-4FF7-9802-E6A2F6B1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174B-DD24-418B-BC01-293845CF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r. Anderson's Character Development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FB6D-2B23-4AE4-9318-5FE5915A8FD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r. Anderson's Character Development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EEC7-C514-431C-9FAE-C9CD668CEE9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haracter Education</a:t>
            </a: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Mr. Anderson</a:t>
            </a:r>
            <a:br>
              <a:rPr sz="5000"/>
            </a:b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haracter Trait</a:t>
            </a: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Self-Disciplin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Restrain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476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elf-Discipline i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ccepting th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opportunity t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restrain yourself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j0149481"/>
          <p:cNvPicPr/>
          <p:nvPr/>
        </p:nvPicPr>
        <p:blipFill>
          <a:blip r:embed="rId1"/>
          <a:stretch/>
        </p:blipFill>
        <p:spPr>
          <a:xfrm>
            <a:off x="5181480" y="1986120"/>
            <a:ext cx="2971800" cy="33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Turn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765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urn Awa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 wise pers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recognizes when 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emptation is t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trong to resist and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urns away from it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j0186348"/>
          <p:cNvPicPr/>
          <p:nvPr/>
        </p:nvPicPr>
        <p:blipFill>
          <a:blip r:embed="rId1"/>
          <a:stretch/>
        </p:blipFill>
        <p:spPr>
          <a:xfrm>
            <a:off x="5410080" y="1981080"/>
            <a:ext cx="266724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Support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ek Account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countability is invoking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ength of teamwork to face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lleng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elf-Discipline Quote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Greek philosopher Plato was on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sked, “What man is most fit to govern 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own?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lato’s reply: “He that can well gover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imself.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elf-Discipline Quote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e become just by the practice of jus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ctions, self-controlled by exercising sel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ntrol, and courageous by perform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cts of courage.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-Aristot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Self-Discipline 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s not negative restraint but rather positive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ife management. Self-discipline is hav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 focus broader than self-indulgence. I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rings selfish desires under control i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rder to achieve a greater en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Self-Management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aintaining a personal budget is a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xcellent example of self-disciplin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Internal Chain-of-Command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lf-discipline involves self-government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keeping one’s internal faculties in prop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lationship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Foundation of Self-Discipline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foundation of self-discipline is th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bility to control one’s thoughts, actions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ttitudes, and feeling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Self-Discipline Questions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ow is self-discipli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monstrated in th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assroom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elf-Discipline Definition:</a:t>
            </a: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hinking about your words and actions, and then making choices that are right for you and others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5" name="Picture 9" descr="j0195384"/>
          <p:cNvPicPr/>
          <p:nvPr/>
        </p:nvPicPr>
        <p:blipFill>
          <a:blip r:embed="rId1"/>
          <a:stretch/>
        </p:blipFill>
        <p:spPr>
          <a:xfrm>
            <a:off x="3351240" y="3902040"/>
            <a:ext cx="1798560" cy="184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Black Bear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Discussion Questions for “Black Bear”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3212640"/>
            <a:ext cx="7167600" cy="17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iscuss various ways th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black bear demonstrat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lf-discipline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Discussion Questions for Black Bear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”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2362320"/>
            <a:ext cx="7167600" cy="17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hat can we learn from th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behavior of the black bear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at will translate into human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ctivities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Discussion Questions for Black Bear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167600" cy="17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can self-discipline help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hieve your goals as you ref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allow immediate desires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romise long-term goal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e choices that will benefit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th now and in the futu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thoughts; they become word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words; they become action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actions; they become habit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habits; they become character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character; for it becomes your destiny!!!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09480" y="9144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 wise old owl sat in an oak,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he more he saw, the less h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poke,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he less he spoke, the more h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heard,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ish I could  be like that old bird!!!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YES  YOU  CA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verse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, gather round I found something that you ca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if you listen, well, I’m here to tell you, you cannot 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 song, simple melody, to remind you that you can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eatest ever, defeated never, even though sometimes you may 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es You C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s you can, you can do anything if you try, just t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s you can, but you have to believe and rely on what you have ins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can make it through your trials, for your trials will just make you st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can do anything, yes you can, o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es You C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ach your children well, it’s time to tell them just who they 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in them as they go to let them know that they can go f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h my brother why do you wait, tomorrow night just be too l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God gave the provision, made the decision, you can do all things through your fai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lf-Discipline Examp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8440" y="1143000"/>
            <a:ext cx="5527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hen I accept th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hings do not always g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my way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1" descr="j0199036"/>
          <p:cNvPicPr/>
          <p:nvPr/>
        </p:nvPicPr>
        <p:blipFill>
          <a:blip r:embed="rId1"/>
          <a:stretch/>
        </p:blipFill>
        <p:spPr>
          <a:xfrm>
            <a:off x="6248520" y="1905120"/>
            <a:ext cx="1828800" cy="28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es You C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Vamp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can, I can, I can, yes I can do anyth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matter what if you can just conceive it, if you believe it, then you can achieve 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lf-Discipline Examp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3560" y="1910880"/>
            <a:ext cx="4765680" cy="42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hen I finish m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hores befor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laying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2" descr="j0199036"/>
          <p:cNvPicPr/>
          <p:nvPr/>
        </p:nvPicPr>
        <p:blipFill>
          <a:blip r:embed="rId1"/>
          <a:stretch/>
        </p:blipFill>
        <p:spPr>
          <a:xfrm>
            <a:off x="5334120" y="1905120"/>
            <a:ext cx="2895480" cy="28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lf-Discipline Word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illpower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Restrain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omposur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Firmnes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oundnes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ois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atient Definition:</a:t>
            </a: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Demonstrating uncomplaining endurance under distress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6" name="Picture 3" descr="j0216724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33"/>
                </a:solidFill>
                <a:latin typeface="Garamond"/>
              </a:rPr>
              <a:t>Key Concepts</a:t>
            </a:r>
            <a:endParaRPr b="0" lang="en-US" sz="7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Focu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8440" y="137160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Look Beyond Self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elf-Discipline is th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opposite of self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ndulgence.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j0216724"/>
          <p:cNvPicPr/>
          <p:nvPr/>
        </p:nvPicPr>
        <p:blipFill>
          <a:blip r:embed="rId1"/>
          <a:stretch/>
        </p:blipFill>
        <p:spPr>
          <a:xfrm>
            <a:off x="5791320" y="2077920"/>
            <a:ext cx="2359080" cy="279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Discern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Guard Your Step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hen water flow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long a riverbed,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here is a give-and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ake between water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nd soil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j0292152"/>
          <p:cNvPicPr/>
          <p:nvPr/>
        </p:nvPicPr>
        <p:blipFill>
          <a:blip r:embed="rId1"/>
          <a:stretch/>
        </p:blipFill>
        <p:spPr>
          <a:xfrm>
            <a:off x="5334120" y="1981080"/>
            <a:ext cx="29718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02:55:25Z</dcterms:created>
  <dc:creator>OKCPS</dc:creator>
  <dc:description/>
  <dc:language>en-US</dc:language>
  <cp:lastModifiedBy>RomaK</cp:lastModifiedBy>
  <dcterms:modified xsi:type="dcterms:W3CDTF">2015-09-02T09:36:07Z</dcterms:modified>
  <cp:revision>13</cp:revision>
  <dc:subject/>
  <dc:title>Character Education Self-discipline</dc:title>
</cp:coreProperties>
</file>