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D8EC-56A6-4ED6-A0D5-9F26C2D45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Chain-of-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Chain-of-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of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of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, and then making choices that are right for you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, and then making choices that are right for you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ng uncomplaining endurance under dist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ient Definition: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nstrating uncomplaining endurance under dist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17F-8C08-4AB3-965A-0AEA99D4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CF0F-8285-49CA-BE54-80EBD33B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A3AE-9A0F-435F-B6D1-92D8FFB8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AAA9-72E4-4F5D-BA09-12F6C7DA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53DA-F0C0-448F-8AF6-7435F93B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FE60-482F-467D-AE53-D62C3857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CC62-9527-4FE6-8707-5C675E65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33FC-8018-4354-89EB-C4A1E892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DFFC-F439-40F7-A0AE-DCFC157A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BBBC-30CE-4A6C-B837-69F1A1FB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8055-CB19-495D-983E-999D5B2A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2C87-915E-4D73-8671-08E4B3B3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27C8-CCC5-42FA-B0E9-4AF57830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2B30-91C7-496D-ACDA-D1D926D1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993C-D379-44E1-A414-5D023C47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FE74-6FC7-405D-823E-6409E01E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0FF6-02BF-4B56-B9CE-0040EC40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398-01C7-47CB-B005-F8D34E5E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B5F-2020-40CD-9562-A19271D9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DAE-91D1-48C4-8D39-FBF35B6D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BD6-8A6B-4179-8628-ECE5CFEF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D4A3-39F5-4363-8166-BBCD5272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8B25-06AC-4E1F-85E4-92E7BA25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5FDE-3860-4628-AA81-0D8A5E79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66B1-E902-4FF1-8D27-9090898A60F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1111-E09B-4410-98E2-E986CC0532C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Education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r. Anderson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Trait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elf-Disciplin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Restrai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0149481"/>
          <p:cNvPicPr/>
          <p:nvPr/>
        </p:nvPicPr>
        <p:blipFill>
          <a:blip r:embed="rId1"/>
          <a:stretch/>
        </p:blipFill>
        <p:spPr>
          <a:xfrm>
            <a:off x="5181480" y="1986120"/>
            <a:ext cx="2971800" cy="33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Tur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76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j0186348"/>
          <p:cNvPicPr/>
          <p:nvPr/>
        </p:nvPicPr>
        <p:blipFill>
          <a:blip r:embed="rId1"/>
          <a:stretch/>
        </p:blipFill>
        <p:spPr>
          <a:xfrm>
            <a:off x="5410080" y="1981080"/>
            <a:ext cx="26672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upport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Quot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Quot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elf-Discipline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elf-Management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Internal Chain-of-Command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Foundation of Self-Discipline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Self-Discipline Question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inking about your words and actions, and then making choices that are right for you and others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9" descr="j0195384"/>
          <p:cNvPicPr/>
          <p:nvPr/>
        </p:nvPicPr>
        <p:blipFill>
          <a:blip r:embed="rId1"/>
          <a:stretch/>
        </p:blipFill>
        <p:spPr>
          <a:xfrm>
            <a:off x="3351240" y="3902040"/>
            <a:ext cx="1798560" cy="18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Black Bear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“Black Bear”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3212640"/>
            <a:ext cx="7167600" cy="17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Black Bear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167600" cy="17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Black Bear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167600" cy="17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YES  YOU  CA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8440" y="1143000"/>
            <a:ext cx="5527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j0199036"/>
          <p:cNvPicPr/>
          <p:nvPr/>
        </p:nvPicPr>
        <p:blipFill>
          <a:blip r:embed="rId1"/>
          <a:stretch/>
        </p:blipFill>
        <p:spPr>
          <a:xfrm>
            <a:off x="6248520" y="1905120"/>
            <a:ext cx="18288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3560" y="1910880"/>
            <a:ext cx="47656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j0199036"/>
          <p:cNvPicPr/>
          <p:nvPr/>
        </p:nvPicPr>
        <p:blipFill>
          <a:blip r:embed="rId1"/>
          <a:stretch/>
        </p:blipFill>
        <p:spPr>
          <a:xfrm>
            <a:off x="5334120" y="1905120"/>
            <a:ext cx="289548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Wor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atient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monstrating uncomplaining endurance under distress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33"/>
                </a:solidFill>
                <a:latin typeface="Garamond"/>
              </a:rPr>
              <a:t>Key Concepts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Focu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8440" y="13716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j0216724"/>
          <p:cNvPicPr/>
          <p:nvPr/>
        </p:nvPicPr>
        <p:blipFill>
          <a:blip r:embed="rId1"/>
          <a:stretch/>
        </p:blipFill>
        <p:spPr>
          <a:xfrm>
            <a:off x="5791320" y="2077920"/>
            <a:ext cx="2359080" cy="27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Discer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j0292152"/>
          <p:cNvPicPr/>
          <p:nvPr/>
        </p:nvPicPr>
        <p:blipFill>
          <a:blip r:embed="rId1"/>
          <a:stretch/>
        </p:blipFill>
        <p:spPr>
          <a:xfrm>
            <a:off x="5334120" y="198108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6:07Z</dcterms:modified>
  <cp:revision>13</cp:revision>
  <dc:subject/>
  <dc:title>Character Education Self-discipline</dc:title>
</cp:coreProperties>
</file>