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45AF-F181-43BB-8790-CA59325B4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295-8AE2-438D-846D-3B52C107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008-F095-4477-86AA-4AA418C6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598-E7FB-491F-8B5B-00985D4A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4DB-64F7-47F7-9A4A-98C23992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72C7C-8980-4010-8B99-FC5A4243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6D196-6445-45F8-91DE-4834A5C0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4B0B5-2124-44C9-A4AC-2312F559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EF6F8-9CFF-4A63-A489-2F7BCEE0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848BB-648B-4A1A-8653-F4ED0B77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00441-0BCB-443C-8A12-BE58A8BC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C6760-5E2D-4FAD-BDDC-C2F77270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C78-FD38-46AE-853F-72BC75B3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A7A2-EC78-4171-9A94-FC121369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78E40-9EB6-49B3-A30D-2C9E095F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6CC8B-BECD-475C-852A-790A6953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ABA65-E7FA-4B4F-B3E1-7B7E0E39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C01D4-1357-4B2D-B36F-27528817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E37-1DFA-4EC4-B1A4-F2B1FAED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91E-F3B0-4A02-B60F-53776662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C1E-9EC5-43EA-9C84-B2AC770D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1AE-58CD-4AFD-8411-5FAF68D2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FF2-8B20-456E-BF7C-97959BAC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6DB-CC12-4557-8A29-6420D658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C44-68F5-4648-9961-69C8FC2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0CE7-938D-4E2A-9590-59D208F9A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7F52-F05D-4E26-BB2B-ED9B76E439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Education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Anderson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Trait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rustworthines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gri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having the same ethical way in any situation or place; being your best self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5" descr="j0183168"/>
          <p:cNvPicPr/>
          <p:nvPr/>
        </p:nvPicPr>
        <p:blipFill>
          <a:blip r:embed="rId1"/>
          <a:stretch/>
        </p:blipFill>
        <p:spPr>
          <a:xfrm>
            <a:off x="3733920" y="3962520"/>
            <a:ext cx="19018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j0183168"/>
          <p:cNvPicPr/>
          <p:nvPr/>
        </p:nvPicPr>
        <p:blipFill>
          <a:blip r:embed="rId1"/>
          <a:stretch/>
        </p:blipFill>
        <p:spPr>
          <a:xfrm>
            <a:off x="5716440" y="301464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Blind Woman and the Physician.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Aeso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ing honest and reliable in carrying out commitments, duties, and oblig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7" descr="j0300840"/>
          <p:cNvPicPr/>
          <p:nvPr/>
        </p:nvPicPr>
        <p:blipFill>
          <a:blip r:embed="rId1"/>
          <a:stretch/>
        </p:blipFill>
        <p:spPr>
          <a:xfrm>
            <a:off x="3733920" y="358128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j0300840"/>
          <p:cNvPicPr/>
          <p:nvPr/>
        </p:nvPicPr>
        <p:blipFill>
          <a:blip r:embed="rId1"/>
          <a:stretch/>
        </p:blipFill>
        <p:spPr>
          <a:xfrm>
            <a:off x="5759280" y="3083040"/>
            <a:ext cx="181476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j0300840"/>
          <p:cNvPicPr/>
          <p:nvPr/>
        </p:nvPicPr>
        <p:blipFill>
          <a:blip r:embed="rId1"/>
          <a:stretch/>
        </p:blipFill>
        <p:spPr>
          <a:xfrm>
            <a:off x="5105520" y="3083040"/>
            <a:ext cx="24685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oyal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3637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26Z</dcterms:modified>
  <cp:revision>8</cp:revision>
  <dc:subject/>
  <dc:title>Character Education Trustworthiness</dc:title>
</cp:coreProperties>
</file>