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BE24-E0AD-4F86-A07C-D86558337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ng the same ethical way in any situation or place; being your best 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ng the same ethical way in any situation or place; being your best 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shows commitment, courage, and self-discip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shows commitment, courage, and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honorable yourself if you wish to associate with honorable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elsh Prover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honorable yourself if you wish to associate with honorable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elsh Pro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looks outside, dreams; who looks inside, awak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arl J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ooks outside, dreams; who looks inside, aw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l J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Eleanor Roosevel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leanor Roosev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better to be hated for what you are than to be loved for what you are no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ndre G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to be hated for what you are than to be loved for what you are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dre G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people who are uncomfortable in themselves are disagreeable to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illiam Hazlit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people who are uncomfortable in themselves are disagreeable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lliam Hazli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ind Woman and the Physician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nd Woman and the Physician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honest and reliable in carrying out commitments, duties, and oblig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honest and reliable in carrying out commitments, duties, and oblig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Do you think that the woman owes the physician any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Do you think that the woman owes the physician any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Have you ever felt taken advantage of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ve you ever felt taken advantage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Why is it wrong to take advantage of oth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wrong to take advantage of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Would you consider someone who takes advantage of others trustwort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ould you consider someone who takes advantage of others trustwort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 How can you avoid taking advantage of other peop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avoid taking advantage of other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ways return items I have borrow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return items I have borr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others count on me to do what I say I will d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others count on me to do what I say I will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mi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u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li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d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oyal person supports and protects family, friends, community, and coun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yal person supports and protects family, friends, community, and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m is loyal doesn’t gossip or talk behind the backs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m is loyal doesn’t gossip or talk behind the backs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609-2088-41A1-B08E-6A09403B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5D2-4468-477B-AFD1-579AC75A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970D-B6C2-4139-8D87-3B017BF4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C7C-7212-4CB7-8BB1-01B66CCC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91935-4C53-4AFE-98BF-7EFA6E94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FF351-7C4F-4F66-A8E9-BF711E75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56FA8-4CED-4974-A204-F4DA9B35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33CAE-43A9-4463-B8AF-EDC85A90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AA62D-D2D6-4BFC-8D7D-0B88EBF8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52C01-0418-4521-9D6F-5AA8B6F4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D6259-D071-4FE1-90EF-174D1781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3DD-A19E-44F6-8E13-E572CC0E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5E142-F386-4832-A955-98CD6429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5E76F-47FD-49AE-8009-FB7CAC53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146D7-AE5E-44C0-9C61-574E418A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A3B10-7EA6-4218-9727-36B93F43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69E0C-471E-4354-9E74-8A380781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DF5-68A6-4BDA-9DCA-33178D2C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0330-872E-47A9-A1C6-DC439042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2E46-7DF8-4FA5-975F-ADFDAFA9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1BA-61B0-4D96-AEA2-F97E5F7A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3B9-5AD1-4E0C-89A1-5914D432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68E-6908-4BBC-A61C-2F1EE354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1924-2251-4A43-855B-E1DCC015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51F9-2707-4A7B-8BCD-166275D43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2011-95EA-47B0-9683-9DF7F0F1B2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aracter Education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r. Anderson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aracter Trait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rustworthines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tegrity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ehaving the same ethical way in any situation or place; being your best self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5" descr="j0183168"/>
          <p:cNvPicPr/>
          <p:nvPr/>
        </p:nvPicPr>
        <p:blipFill>
          <a:blip r:embed="rId1"/>
          <a:stretch/>
        </p:blipFill>
        <p:spPr>
          <a:xfrm>
            <a:off x="3733920" y="3962520"/>
            <a:ext cx="190188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j0183168"/>
          <p:cNvPicPr/>
          <p:nvPr/>
        </p:nvPicPr>
        <p:blipFill>
          <a:blip r:embed="rId1"/>
          <a:stretch/>
        </p:blipFill>
        <p:spPr>
          <a:xfrm>
            <a:off x="5716440" y="301464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shows commitment, courage, and self-disciplin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j0183168"/>
          <p:cNvPicPr/>
          <p:nvPr/>
        </p:nvPicPr>
        <p:blipFill>
          <a:blip r:embed="rId1"/>
          <a:stretch/>
        </p:blipFill>
        <p:spPr>
          <a:xfrm>
            <a:off x="5792760" y="286236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j0183168"/>
          <p:cNvPicPr/>
          <p:nvPr/>
        </p:nvPicPr>
        <p:blipFill>
          <a:blip r:embed="rId1"/>
          <a:stretch/>
        </p:blipFill>
        <p:spPr>
          <a:xfrm>
            <a:off x="5792760" y="286236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honorable yourself if you wish to associate with honorable peop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Welsh Prove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looks outside, dreams; who looks inside, awak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Carl J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Eleanor Rooseve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better to be hated for what you are than to be loved for what you are no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Andre G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se people who are uncomfortable in themselves are disagreeable to oth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William Hazlit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Blind Woman and the Physician.”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Aesop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eing honest and reliable in carrying out commitments, duties, and obligation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Picture 7" descr="j0300840"/>
          <p:cNvPicPr/>
          <p:nvPr/>
        </p:nvPicPr>
        <p:blipFill>
          <a:blip r:embed="rId1"/>
          <a:stretch/>
        </p:blipFill>
        <p:spPr>
          <a:xfrm>
            <a:off x="3733920" y="3581280"/>
            <a:ext cx="181440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 Do you think that the woman owes the physician anyth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 Have you ever felt taken advantage of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 Why is it wrong to take advantage of othe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 Would you consider someone who takes advantage of others trustworth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 How can you avoid taking advantage of other peop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ways return items I have borrow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9" descr="j0300840"/>
          <p:cNvPicPr/>
          <p:nvPr/>
        </p:nvPicPr>
        <p:blipFill>
          <a:blip r:embed="rId1"/>
          <a:stretch/>
        </p:blipFill>
        <p:spPr>
          <a:xfrm>
            <a:off x="5759280" y="3083040"/>
            <a:ext cx="181476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others count on me to do what I say I will 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0" descr="j0300840"/>
          <p:cNvPicPr/>
          <p:nvPr/>
        </p:nvPicPr>
        <p:blipFill>
          <a:blip r:embed="rId1"/>
          <a:stretch/>
        </p:blipFill>
        <p:spPr>
          <a:xfrm>
            <a:off x="5105520" y="3083040"/>
            <a:ext cx="24685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yal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mi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u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lig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Loyalty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loyal person supports and protects family, friends, community, and count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0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3637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m is loyal doesn’t gossip or talk behind the backs of othe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6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2111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2111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6:26Z</dcterms:modified>
  <cp:revision>8</cp:revision>
  <dc:subject/>
  <dc:title>Character Education Trustworthiness</dc:title>
</cp:coreProperties>
</file>