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A23A-175D-4BDA-BA41-72788731D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ng the same ethical way in any situation or place; being your best sel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ng the same ethical way in any situation or place; being your best 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of integrity stands up for his/her beliefs about what is right and what is wro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of integrity stands up for his/her beliefs about what is right and what is w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of integrity shows commitment, courage, and self-discip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of integrity shows commitment, courage, and 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of integrity doesn’t get involved in things that he/she thinks are wrong, even under social pres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of integrity doesn’t get involved in things that he/she thinks are wrong, even under social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honorable yourself if you wish to associate with honorable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elsh Prover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honorable yourself if you wish to associate with honorable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elsh Pro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looks outside, dreams; who looks inside, awak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Carl J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ooks outside, dreams; who looks inside, aw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rl J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iendship with oneself is all-important, because without it one cannot be friends with anyone el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Eleanor Roosevel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hip with oneself is all-important, because without it one cannot be friends with anyone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leanor Roosev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better to be hated for what you are than to be loved for what you are no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ndre G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tter to be hated for what you are than to be loved for what you are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ndre G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se people who are uncomfortable in themselves are disagreeable to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illiam Hazlit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people who are uncomfortable in themselves are disagreeable to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lliam Hazli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lind Woman and the Physician.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ind Woman and the Physician.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honest and reliable in carrying out commitments, duties, and oblig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honest and reliable in carrying out commitments, duties, and oblig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 Do you think that the woman owes the physician any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Do you think that the woman owes the physician any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 Have you ever felt taken advantage of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Have you ever felt taken advantage 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Why is it wrong to take advantage of othe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is it wrong to take advantage of oth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 Would you consider someone who takes advantage of others trustwort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ould you consider someone who takes advantage of others trustwort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 How can you avoid taking advantage of other peop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How can you avoid taking advantage of other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ways return items I have borrow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return items I have borr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others count on me to do what I say I will d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others count on me to do what I say I will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Wo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mi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u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li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d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ing it a responsibility to promote and protect the interests of people and associ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it a responsibility to promote and protect the interests of people and associ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oyal person supports and protects family, friends, community, and count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yal person supports and protects family, friends, community, and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m is loyal doesn’t gossip or talk behind the backs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m is loyal doesn’t gossip or talk behind the backs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loyal doesn’t violate ethical principles and doesn’t ask a friend to engage in wrongful activit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loyal doesn’t violate ethical principles and doesn’t ask a friend to engage in wrongful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B4FB-AFD0-4121-9FF3-8DDF9C10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FC6D-3925-4A06-9154-48A5F2B4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BB85-9DF4-4524-A85A-93C69917B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E45E-EC3A-41EE-A9AC-4DDACC31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802CE-BA2E-4F2D-B7FE-82E75EED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6065D-DD95-41B7-AF12-1CC35E21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A70AA-ED7D-4871-93C6-C812B9F9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02608-2EA5-4DCE-8718-439D5142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B6F9A-7155-4E1B-BF4B-6147568A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8F53B-CA3F-4E8E-985B-BDB007BF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A1677-2504-4B5A-A520-1E76D222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8CBF-C304-4E16-9BD1-64BEAFF8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E37CB-1C00-4F62-BBBA-190AA02E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0B89D-FF47-45D1-85B2-489E4E90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B1390-F994-41BC-B21C-0BE5CCB0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AE7FB-9203-4EEC-932F-3CDDFAD6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F3005-34E9-4C91-ACAC-042E22E7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D278-62D1-4F8F-AA90-F6D9DBE7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4ABF-0A27-4B84-85DF-9694F7A7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1CF1-2ADB-48D5-B8FF-CAB5EF45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54F5-3113-4007-BAA1-AE448DBF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4F6D-6D54-4428-A138-1394D527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CAF0-5242-48C9-8EF8-4C580392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8B8D-C621-4CCB-B818-18FE92A0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A29A-0BD9-4ABE-81FA-A6ADEB6FE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9961-2FE7-443A-B267-B9806C351C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haracter Education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Mr. Anderson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haracter Trait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rustworthines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ntegrity Definition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ehaving the same ethical way in any situation or place; being your best self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Picture 5" descr="j0183168"/>
          <p:cNvPicPr/>
          <p:nvPr/>
        </p:nvPicPr>
        <p:blipFill>
          <a:blip r:embed="rId1"/>
          <a:stretch/>
        </p:blipFill>
        <p:spPr>
          <a:xfrm>
            <a:off x="3733920" y="3962520"/>
            <a:ext cx="190188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gri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of integrity stands up for his/her beliefs about what is right and what is wr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6" descr="j0183168"/>
          <p:cNvPicPr/>
          <p:nvPr/>
        </p:nvPicPr>
        <p:blipFill>
          <a:blip r:embed="rId1"/>
          <a:stretch/>
        </p:blipFill>
        <p:spPr>
          <a:xfrm>
            <a:off x="5716440" y="3014640"/>
            <a:ext cx="19018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gri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of integrity shows commitment, courage, and self-disciplin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6" descr="j0183168"/>
          <p:cNvPicPr/>
          <p:nvPr/>
        </p:nvPicPr>
        <p:blipFill>
          <a:blip r:embed="rId1"/>
          <a:stretch/>
        </p:blipFill>
        <p:spPr>
          <a:xfrm>
            <a:off x="5792760" y="2862360"/>
            <a:ext cx="19018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gri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of integrity doesn’t get involved in things that he/she thinks are wrong, even under social press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j0183168"/>
          <p:cNvPicPr/>
          <p:nvPr/>
        </p:nvPicPr>
        <p:blipFill>
          <a:blip r:embed="rId1"/>
          <a:stretch/>
        </p:blipFill>
        <p:spPr>
          <a:xfrm>
            <a:off x="5792760" y="2862360"/>
            <a:ext cx="19018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honorable yourself if you wish to associate with honorable peop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Welsh Prover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looks outside, dreams; who looks inside, awak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Carl J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endship with oneself is all-important, because without it one cannot be friends with anyone el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Eleanor Rooseve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better to be hated for what you are than to be loved for what you are no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Andre G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se people who are uncomfortable in themselves are disagreeable to oth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William Hazlit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Blind Woman and the Physician.”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Aesop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Definition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eing honest and reliable in carrying out commitments, duties, and obligations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1" name="Picture 7" descr="j0300840"/>
          <p:cNvPicPr/>
          <p:nvPr/>
        </p:nvPicPr>
        <p:blipFill>
          <a:blip r:embed="rId1"/>
          <a:stretch/>
        </p:blipFill>
        <p:spPr>
          <a:xfrm>
            <a:off x="3733920" y="3581280"/>
            <a:ext cx="181440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 Do you think that the woman owes the physician anyth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  Have you ever felt taken advantage of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.  Why is it wrong to take advantage of other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 Would you consider someone who takes advantage of others trustworth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  How can you avoid taking advantage of other peop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ustworthiness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ways return items I have borrow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9" descr="j0300840"/>
          <p:cNvPicPr/>
          <p:nvPr/>
        </p:nvPicPr>
        <p:blipFill>
          <a:blip r:embed="rId1"/>
          <a:stretch/>
        </p:blipFill>
        <p:spPr>
          <a:xfrm>
            <a:off x="5759280" y="3083040"/>
            <a:ext cx="181476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ustworthiness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21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others count on me to do what I say I will 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0" descr="j0300840"/>
          <p:cNvPicPr/>
          <p:nvPr/>
        </p:nvPicPr>
        <p:blipFill>
          <a:blip r:embed="rId1"/>
          <a:stretch/>
        </p:blipFill>
        <p:spPr>
          <a:xfrm>
            <a:off x="5105520" y="3083040"/>
            <a:ext cx="24685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ustworthiness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nes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yal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mi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pu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i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lig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d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Loyalty Definition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aking it a responsibility to promote and protect the interests of people and associations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2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yal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loyal person supports and protects family, friends, community, and countr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0" descr="j0216724"/>
          <p:cNvPicPr/>
          <p:nvPr/>
        </p:nvPicPr>
        <p:blipFill>
          <a:blip r:embed="rId1"/>
          <a:stretch/>
        </p:blipFill>
        <p:spPr>
          <a:xfrm>
            <a:off x="5942160" y="2935440"/>
            <a:ext cx="236376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yal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m is loyal doesn’t gossip or talk behind the backs of other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6" descr="j0216724"/>
          <p:cNvPicPr/>
          <p:nvPr/>
        </p:nvPicPr>
        <p:blipFill>
          <a:blip r:embed="rId1"/>
          <a:stretch/>
        </p:blipFill>
        <p:spPr>
          <a:xfrm>
            <a:off x="5942160" y="2935440"/>
            <a:ext cx="221112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yal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loyal doesn’t violate ethical principles and doesn’t ask a friend to engage in wrongful activit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j0216724"/>
          <p:cNvPicPr/>
          <p:nvPr/>
        </p:nvPicPr>
        <p:blipFill>
          <a:blip r:embed="rId1"/>
          <a:stretch/>
        </p:blipFill>
        <p:spPr>
          <a:xfrm>
            <a:off x="5942160" y="2935440"/>
            <a:ext cx="221112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6:26Z</dcterms:modified>
  <cp:revision>8</cp:revision>
  <dc:subject/>
  <dc:title>Character Education Trustworthiness</dc:title>
</cp:coreProperties>
</file>