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872D-7169-4FCD-BF31-6BB83A8AF1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br>
              <a:rPr sz="1200"/>
            </a:b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ds things together in the sentence “I like baseball and soccer.”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lso joins, but makes an option “What do you like best, dogs or cats?”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an also  pose a question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ds things together in the sentence “I like baseball and socc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lso joins, but makes an option “What do you like best, dogs or cats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an also  pose a ques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/Or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 to join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Or to join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/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Or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omma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om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Conjunctions</a:t>
            </a:r>
            <a:br>
              <a:rPr sz="1200"/>
            </a:b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br>
              <a:rPr sz="1200"/>
            </a:b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B397-E749-4408-B701-035DDEC17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59DC-C6DC-42E4-9A26-3F138380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D0B2-EBAD-45E2-8B80-C35ACF76E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19FA-BDEB-4E33-B2BC-D572AC193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B3EDF-F57F-4EF4-9110-513B5C52E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8FFC-0968-45FA-8D03-8DD65309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6F30-03C3-4B6F-9873-220CDDF9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6287-37B2-47D5-932A-830C7D6D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082A-BB43-4481-A1C3-8A4876B2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EF4F-C615-4794-BB0D-63727FA3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0271-A6D1-485C-9CEF-91608CB6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092E-1650-4743-9B05-258ACB22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B79F-DD12-4480-87B2-1740F303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A2A0-448B-4280-87ED-8E33E6F7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ABFA-7504-457A-A31B-69370E75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6E8F-5F4F-4E34-BED0-461C4C275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D1C2-A7D4-4E42-957A-453B17BB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B278-3AA7-4C14-AB97-EBAA6230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B6D7-550E-4A9F-A55D-8052119D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8A5B-B1E6-472B-8819-B7517906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0741-D0D5-441D-8480-A37303DD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F0F5-C553-4003-BE3B-6574B971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60D5-949B-4ACB-A86A-B0C847C9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07EA-C72F-4D23-A047-87DC332F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F32C-3BBD-45F8-BDDB-B64C30461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323A-D3CD-4D95-B245-798CBED1F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junctions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j0074241.mid" descr=""/>
          <p:cNvPicPr/>
          <p:nvPr/>
        </p:nvPicPr>
        <p:blipFill>
          <a:blip r:embed="rId1"/>
          <a:stretch/>
        </p:blipFill>
        <p:spPr>
          <a:xfrm>
            <a:off x="11430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junct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ds things together in the sentence “I like baseb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cer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so joins, but makes an option “What do you like best, dog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s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also  pose a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Using </a:t>
            </a:r>
            <a:r>
              <a:rPr b="1" i="1" lang="en-US" sz="4400" spc="-1" strike="noStrike">
                <a:solidFill>
                  <a:srgbClr val="221304"/>
                </a:solidFill>
                <a:latin typeface="Times New Roman"/>
              </a:rPr>
              <a:t>And/O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Using a Comm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ifferent Conjunctions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ore examples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21:24:04Z</dcterms:created>
  <dc:creator>Ben Swanson</dc:creator>
  <dc:description/>
  <dc:language>en-US</dc:language>
  <cp:lastModifiedBy>RomaK</cp:lastModifiedBy>
  <dcterms:modified xsi:type="dcterms:W3CDTF">2015-09-02T09:37:12Z</dcterms:modified>
  <cp:revision>4</cp:revision>
  <dc:subject/>
  <dc:title>Conjunctions </dc:title>
</cp:coreProperties>
</file>