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25F-A19B-4840-9F38-08E751986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D00-0FB8-4735-BC60-E419763D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6DB-A6E0-4F1C-8D43-CE2352B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022-C6BA-4AF6-8BF9-67342041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609-CF1E-44DD-A39C-8217BA87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08B5-6DE3-4D1C-A49F-465587C7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A1F2-A3BC-4D45-BC42-B27B324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9600-E740-46AA-B503-5F2603D1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F454-A519-44F5-96A1-00256FF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7899-0A64-4C9E-BDF7-75AE9E8B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1E1C-47B7-417F-B5C4-872B63AA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1023-6A4E-44AD-8BF8-F6350E7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1CE-26B3-40D8-9D13-6C28B1B1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1B0D-BEB3-4535-ACD8-223C0DFB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F707-300C-44D4-B844-029C9FC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FE52-8547-483F-BDBF-CF832E32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E74D-70A7-4340-9230-2BAAF3F7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5969-A52D-4CBE-85F4-F8A4A4DB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95F-71E2-47E8-A678-BAFD4B3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1FF-4566-45BD-8B35-40446A5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D65-0257-4ED5-9D2A-2606935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571-045C-4072-9B00-DF301A04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836-8753-42CE-B4CA-2161B99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C0A-A14F-4E86-AE59-ABCFD78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8CB-642D-4610-BEF3-9F1D54B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878-C3C5-441E-918E-E53790472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68D7-29E8-4DB0-B241-A695D50E9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1:24:04Z</dcterms:created>
  <dc:creator>Ben Swanson</dc:creator>
  <dc:description/>
  <dc:language>en-US</dc:language>
  <cp:lastModifiedBy>RomaK</cp:lastModifiedBy>
  <dcterms:modified xsi:type="dcterms:W3CDTF">2015-09-02T09:37:12Z</dcterms:modified>
  <cp:revision>4</cp:revision>
  <dc:subject/>
  <dc:title>Conjunctions </dc:title>
</cp:coreProperties>
</file>