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0C56-CF75-4E52-BF31-67ACBA2DBF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191-9BD8-497B-986A-CCC70EA3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8B4-E25D-4C68-8E58-D4013F97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982-C70F-49CC-B5AD-E05665F6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477-DEEE-4CA2-83FA-94D75106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1B14-89CB-4EDE-BD51-1C019C12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41F8-FE7B-450E-85C0-2368CA61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F641-9443-4D2E-B59D-B84A09EB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7329-4F32-44D0-8F3B-535B2A81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5291-A310-4BF4-A1E4-5515A5AD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B4CE-3F79-491B-BD47-49406E0E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3AE4-A221-40EC-9BEB-4A21D98C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13C-C43F-441F-AB7F-5CB8B84C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EC62-A76E-4C4F-9F6D-FB93137C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409D-323C-4D91-8F6F-6A38EC67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E415-3A9E-4DC8-BD95-9BD80916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BB87-3BC3-4BDD-893B-C273789A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3D17-4320-4C20-8307-D230F34F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84E-33BD-4D87-A6A0-71100D1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FEC-DA56-4F1F-8718-766CF51F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CB7-5835-4B4A-986F-C7029FF1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D3E-5211-4F9E-9334-F6DCBF41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216-F66C-4B0A-8D33-B8982007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C9D-75C8-4374-B990-53D8BEF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CDE-CB55-4A26-A6FC-431A5D71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AAC6-6FEE-400D-BAD5-647A5538E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15F3-8F2B-4187-B55B-5DF107801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1:24:04Z</dcterms:created>
  <dc:creator>Ben Swanson</dc:creator>
  <dc:description/>
  <dc:language>en-US</dc:language>
  <cp:lastModifiedBy>RomaK</cp:lastModifiedBy>
  <dcterms:modified xsi:type="dcterms:W3CDTF">2015-09-02T09:37:12Z</dcterms:modified>
  <cp:revision>4</cp:revision>
  <dc:subject/>
  <dc:title>Conjunctions </dc:title>
</cp:coreProperties>
</file>