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F07D-880A-45D1-A55E-1E3DA846B7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19F-D241-487B-AD4A-A0CC3BB0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E8B-6A82-48E2-8D38-9E602098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ECD-DCFB-4941-B130-45F6BDCB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2E5-A66E-46B5-B03B-C3DED707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C500-C13B-4658-AB69-41506615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43DC-9E6D-4FAC-ADA3-D54A6FB3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F279-F6C0-4588-A426-14EF2ADA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1C40-1F37-4ED3-8A1F-ADB73195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B662-99BA-4C67-83C6-70461F47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74B2-E7A8-4FD3-B42F-7BE45211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FB91-D0D8-4F69-939E-28A1158F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AB5-6B13-4E25-99DC-21E50119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5561-FCC7-403B-B9EB-AEA39F58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2CA7-1F92-4507-9F21-E8C68CE1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70C8-CBB4-4327-996A-0F2DE94F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7474-5B74-469C-A929-EBFC838F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813D-8F70-4875-B8A3-425D1E8B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AD8-2E03-44C0-99E3-448BC37E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45A-10E2-4B1B-BB47-5CE906EE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BA7-25C2-4E88-B7A0-268B7499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76B-DDD5-4197-96F1-B5894F82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79E-175D-4356-B060-C7D0F06C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E3B-B7E7-4F34-991A-E5674455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C37-40E5-4DAA-BE4A-19BC677B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9B70-94B3-44CC-BCF5-78DF380BC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9376-17A1-426A-A9DD-340E9BF6E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1:24:04Z</dcterms:created>
  <dc:creator>Ben Swanson</dc:creator>
  <dc:description/>
  <dc:language>en-US</dc:language>
  <cp:lastModifiedBy>RomaK</cp:lastModifiedBy>
  <dcterms:modified xsi:type="dcterms:W3CDTF">2015-09-02T09:37:12Z</dcterms:modified>
  <cp:revision>4</cp:revision>
  <dc:subject/>
  <dc:title>Conjunctions </dc:title>
</cp:coreProperties>
</file>