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9D7D-8FCF-4918-9A2F-A37E60CC5C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46A-04FA-4EAA-B8E7-6705BC2E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BC5-EDA7-4DC6-A0DE-A83FB599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D76-C582-4C6C-8907-5C0231CD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73B-C2D9-439D-BF32-B51844DF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0B37-49CC-4323-95E2-C10152A9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6C51-11AB-4192-B01D-C4D36461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5834-DDD6-4C48-AD57-AA68226C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90BB-5397-498D-AEFA-51B6C73C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A972-8EDB-48AF-950C-ED456E9E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5108-4D31-4BB8-A05E-CEA8E79D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577E-CE85-4649-B423-9102D98B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470-3CE3-4BA3-9BC8-9AC0B6C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19BD-EBE4-4D8F-9DEE-C3BB5635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97DE-9EAD-44A0-8ED2-83D750A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B63C-7109-475C-BB19-88738158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5C3C-2AEF-45F1-BF04-BC3963F8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6FB0-FAA9-4926-87F1-48C87F05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592-A1D5-4EF8-BAAF-4C97BD3B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662-99FA-43B1-A10D-C0CD284A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6EB-37FB-4B6A-BF11-C385C96D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548-86C5-485F-A57C-0692E558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811-A433-40FD-8A9C-52B61E5A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DDA-6513-4368-93A9-DDB787C5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513-8469-48EE-8A57-373A934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831D-9AF3-49FB-A8F9-4381CDFDE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7794-FFF8-4A2C-B771-934FAEBC6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1:24:04Z</dcterms:created>
  <dc:creator>Ben Swanson</dc:creator>
  <dc:description/>
  <dc:language>en-US</dc:language>
  <cp:lastModifiedBy>RomaK</cp:lastModifiedBy>
  <dcterms:modified xsi:type="dcterms:W3CDTF">2015-09-02T09:37:12Z</dcterms:modified>
  <cp:revision>4</cp:revision>
  <dc:subject/>
  <dc:title>Conjunctions </dc:title>
</cp:coreProperties>
</file>