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1333A-1321-4D1B-9D86-D4724F4205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and 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two metals with a low density which means they are lightweight for their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is used for aircraft, trains, overhead power cables, saucepans and cooking foi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and 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two metals with a low density which means they are lightweight for their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is used for aircraft, trains, overhead power cables, saucepans and cooking foi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anium, when pur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lustrous, white met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tal burns in air and is the only element that burns in nitrogen. It is marvellous in firewor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anium, when pur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lustrous, white met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tal burns in air and is the only element that burns in nitrogen. It is marvellous in firewor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and Titanium resist corrosion as they have a very thin layer of their oxides on the surface, which stops air and water getting to the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and Titanium resist corrosion as they have a very thin layer of their oxides on the surface, which stops air and water getting to the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ike iron, aluminium and 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be extracted from their oxides by reduction with carbon becaus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is more reactive than carbon, so the reaction does not 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anium forms titanium carbide with carbon, which makes the metal britt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ike iron, aluminium and 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be extracted from their oxides by reduction with carbon becaus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is more reactive than carbon, so the reaction does not 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anium forms titanium carbide with carbon, which makes the metal britt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rder to isolate pure aluminium, impurities must be removed from the bauxi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done by the Bayer process, which involves treatment with sodium hydroxide solution, followed by purification using electr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is mined in huge scales as baux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rder to isolate pure aluminium, impurities must be removed from the bauxi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done by the Bayer process, which involves treatment with sodium hydroxide solution, followed by purification using electr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is mined in huge scales as baux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nvolves the action of chlorine and carbon on the titanium ore followed by fractional distillation and then reduction with magnes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anium is isolated using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oll meth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nvolves the action of chlorine and carbon on the titanium ore followed by fractional distillation and then reduction with magnes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anium is isolated using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oll meth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extraction is expensive because the process needs a lot of electrical ener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anium extraction is expensive because the process involves several stages and a lot of energy. This especially limits the uses of titanium.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extraction is expensive because the process needs a lot of electrical ener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anium extraction is expensive because the process involves several stages and a lot of energy. This especially limits the uses of titanium.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and Titanium both have a low density which means they are lightweight for their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resist corro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nnot be extracted by  redu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ion is expensive because there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al stages involved and the processes require a lot of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and Titanium both have a low density which means they are lightweight for their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resist corro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nnot be extracted by  redu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ion is expensive because there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al stages involved and the processes require a lot of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F307-D50F-4B90-AE3E-96383E9BD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90CD-0C77-4207-96A2-1707E7B1C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AF16-EB24-4983-841C-6F24D0668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C932-A7FE-42BB-90EA-9B700A7AF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EAB5-7974-4F78-B790-E0519193D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DD6F-D503-44E8-8261-DA989C047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81BE-BF41-4BF8-A0ED-8FD840B8F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C503-2D21-4C33-8E42-F095B8F3A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65E0-4955-41E8-9173-94C900EBC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8191-E92A-41F5-85CB-DB192069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F227-3220-4277-B515-CE61AE9D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2BDA-4D1B-4A0A-A223-2E83894E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8991D-50B2-4EB8-8E7D-0C29FCA80F7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324000" y="137880"/>
            <a:ext cx="8281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Arial"/>
              </a:rPr>
              <a:t>Aluminium and Titani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0066"/>
                </a:solidFill>
                <a:latin typeface="Arial"/>
              </a:rPr>
              <a:t>These are two metals with a </a:t>
            </a:r>
            <a:r>
              <a:rPr b="1" lang="en-GB" sz="3200" spc="-1" strike="noStrike">
                <a:solidFill>
                  <a:srgbClr val="cc9900"/>
                </a:solidFill>
                <a:latin typeface="Arial"/>
              </a:rPr>
              <a:t>low density</a:t>
            </a:r>
            <a:r>
              <a:rPr b="1" lang="en-GB" sz="3200" spc="-1" strike="noStrike">
                <a:solidFill>
                  <a:srgbClr val="660066"/>
                </a:solidFill>
                <a:latin typeface="Arial"/>
              </a:rPr>
              <a:t> which means they are </a:t>
            </a:r>
            <a:r>
              <a:rPr b="1" lang="en-GB" sz="3200" spc="-1" strike="noStrike">
                <a:solidFill>
                  <a:srgbClr val="cc9900"/>
                </a:solidFill>
                <a:latin typeface="Arial"/>
              </a:rPr>
              <a:t>lightweight </a:t>
            </a:r>
            <a:r>
              <a:rPr b="1" lang="en-GB" sz="3200" spc="-1" strike="noStrike">
                <a:solidFill>
                  <a:srgbClr val="660066"/>
                </a:solidFill>
                <a:latin typeface="Arial"/>
              </a:rPr>
              <a:t>for their si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4" descr="aluminium rods"/>
          <p:cNvPicPr/>
          <p:nvPr/>
        </p:nvPicPr>
        <p:blipFill>
          <a:blip r:embed="rId1"/>
          <a:stretch/>
        </p:blipFill>
        <p:spPr>
          <a:xfrm>
            <a:off x="468360" y="386064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25"/>
          <p:cNvSpPr/>
          <p:nvPr/>
        </p:nvSpPr>
        <p:spPr>
          <a:xfrm>
            <a:off x="3995640" y="3597120"/>
            <a:ext cx="457200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Arial"/>
              </a:rPr>
              <a:t>Aluminium is used for aircraft, trains, overhead power cables, saucepans and cooking foi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the reaction between titanium metal and potassium perchlorate "/>
          <p:cNvPicPr/>
          <p:nvPr/>
        </p:nvPicPr>
        <p:blipFill>
          <a:blip r:embed="rId1"/>
          <a:stretch/>
        </p:blipFill>
        <p:spPr>
          <a:xfrm>
            <a:off x="395280" y="400536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The picture above shows the result from adding titanium powder to a burning mixture of potassium chlorate and sucrose."/>
          <p:cNvPicPr/>
          <p:nvPr/>
        </p:nvPicPr>
        <p:blipFill>
          <a:blip r:embed="rId2"/>
          <a:stretch/>
        </p:blipFill>
        <p:spPr>
          <a:xfrm>
            <a:off x="5148360" y="3860640"/>
            <a:ext cx="2736720" cy="24717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0"/>
          <p:cNvSpPr/>
          <p:nvPr/>
        </p:nvSpPr>
        <p:spPr>
          <a:xfrm>
            <a:off x="0" y="213840"/>
            <a:ext cx="957888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Titanium,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when pur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s a lustrous, white metal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metal burns in air and is the only element that burns in nitrogen. It is marvellous in fire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4" descr="titanium wire"/>
          <p:cNvPicPr/>
          <p:nvPr/>
        </p:nvPicPr>
        <p:blipFill>
          <a:blip r:embed="rId3"/>
          <a:stretch/>
        </p:blipFill>
        <p:spPr>
          <a:xfrm>
            <a:off x="755640" y="260280"/>
            <a:ext cx="273672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image: Cross section of aluminium, showing thin oxide layer."/>
          <p:cNvPicPr/>
          <p:nvPr/>
        </p:nvPicPr>
        <p:blipFill>
          <a:blip r:embed="rId1"/>
          <a:stretch/>
        </p:blipFill>
        <p:spPr>
          <a:xfrm>
            <a:off x="539640" y="3429000"/>
            <a:ext cx="7780320" cy="31561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5"/>
          <p:cNvSpPr/>
          <p:nvPr/>
        </p:nvSpPr>
        <p:spPr>
          <a:xfrm>
            <a:off x="468360" y="549360"/>
            <a:ext cx="799128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9900"/>
                </a:solidFill>
                <a:latin typeface="Arial"/>
              </a:rPr>
              <a:t>Aluminium and Titanium</a:t>
            </a:r>
            <a:r>
              <a:rPr b="0" lang="en-GB" sz="4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9900"/>
                </a:solidFill>
                <a:latin typeface="Arial"/>
              </a:rPr>
              <a:t>resist corros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s they have a very thin layer of their oxides on the surface, which stops air and water getting to the me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287280" y="-122760"/>
            <a:ext cx="8856720" cy="68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3399"/>
                </a:solidFill>
                <a:latin typeface="Arial"/>
              </a:rPr>
              <a:t>Extraction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like iron, aluminium and titan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annot be extracted from their oxides by reduction with carbon becaus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60066"/>
                </a:solidFill>
                <a:latin typeface="Arial"/>
              </a:rPr>
              <a:t>Aluminium is more reactive than carbon, so the reaction does not work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60033"/>
                </a:solidFill>
                <a:latin typeface="Arial"/>
              </a:rPr>
              <a:t>Titanium forms titanium carbide with carbon, which makes the metal brittl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MCj02908860000[1]"/>
          <p:cNvPicPr/>
          <p:nvPr/>
        </p:nvPicPr>
        <p:blipFill>
          <a:blip r:embed="rId1"/>
          <a:stretch/>
        </p:blipFill>
        <p:spPr>
          <a:xfrm>
            <a:off x="6616800" y="0"/>
            <a:ext cx="227952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 order to isolate pure aluminium, impurities must be removed from the bauxi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is is done by the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Bayer process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, which involves treatment with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sodium hydroxide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solution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, followed by purification using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electroly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aluminium rods"/>
          <p:cNvPicPr/>
          <p:nvPr/>
        </p:nvPicPr>
        <p:blipFill>
          <a:blip r:embed="rId1"/>
          <a:stretch/>
        </p:blipFill>
        <p:spPr>
          <a:xfrm>
            <a:off x="611280" y="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3564000" y="404640"/>
            <a:ext cx="55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luminium is mined in huge scales as baux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8360" y="347328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is involves the action of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chlorine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carbon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on the titanium ore followed by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fractional distillation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reduction with magnesium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titanium wire"/>
          <p:cNvPicPr/>
          <p:nvPr/>
        </p:nvPicPr>
        <p:blipFill>
          <a:blip r:embed="rId1"/>
          <a:stretch/>
        </p:blipFill>
        <p:spPr>
          <a:xfrm>
            <a:off x="755640" y="260280"/>
            <a:ext cx="2736720" cy="20541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4643280" y="907920"/>
            <a:ext cx="4249800" cy="23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itanium is isolated using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Kroll method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324000" y="333360"/>
            <a:ext cx="82803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 u="sng">
                <a:solidFill>
                  <a:srgbClr val="009900"/>
                </a:solidFill>
                <a:uFillTx/>
                <a:latin typeface="Arial"/>
              </a:rPr>
              <a:t>CO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0066"/>
                </a:solidFill>
                <a:latin typeface="Arial"/>
              </a:rPr>
              <a:t>Aluminium extraction is </a:t>
            </a:r>
            <a:r>
              <a:rPr b="1" lang="en-GB" sz="3600" spc="-1" strike="noStrike">
                <a:solidFill>
                  <a:srgbClr val="660066"/>
                </a:solidFill>
                <a:latin typeface="Arial"/>
              </a:rPr>
              <a:t>expensive</a:t>
            </a:r>
            <a:r>
              <a:rPr b="0" lang="en-GB" sz="3600" spc="-1" strike="noStrike">
                <a:solidFill>
                  <a:srgbClr val="660066"/>
                </a:solidFill>
                <a:latin typeface="Arial"/>
              </a:rPr>
              <a:t> because </a:t>
            </a:r>
            <a:r>
              <a:rPr b="1" lang="en-GB" sz="3600" spc="-1" strike="noStrike">
                <a:solidFill>
                  <a:srgbClr val="660066"/>
                </a:solidFill>
                <a:latin typeface="Arial"/>
              </a:rPr>
              <a:t>the process needs a lot of electrical energy</a:t>
            </a:r>
            <a:r>
              <a:rPr b="0" lang="en-GB" sz="3600" spc="-1" strike="noStrike">
                <a:solidFill>
                  <a:srgbClr val="660066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0033"/>
                </a:solidFill>
                <a:latin typeface="Arial"/>
              </a:rPr>
              <a:t>Titanium extraction is </a:t>
            </a:r>
            <a:r>
              <a:rPr b="1" lang="en-GB" sz="3600" spc="-1" strike="noStrike">
                <a:solidFill>
                  <a:srgbClr val="660033"/>
                </a:solidFill>
                <a:latin typeface="Arial"/>
              </a:rPr>
              <a:t>expensive </a:t>
            </a:r>
            <a:r>
              <a:rPr b="0" lang="en-GB" sz="3600" spc="-1" strike="noStrike">
                <a:solidFill>
                  <a:srgbClr val="660033"/>
                </a:solidFill>
                <a:latin typeface="Arial"/>
              </a:rPr>
              <a:t>because </a:t>
            </a:r>
            <a:r>
              <a:rPr b="1" lang="en-GB" sz="3600" spc="-1" strike="noStrike">
                <a:solidFill>
                  <a:srgbClr val="660033"/>
                </a:solidFill>
                <a:latin typeface="Arial"/>
              </a:rPr>
              <a:t>the process involves several stages</a:t>
            </a:r>
            <a:r>
              <a:rPr b="0" lang="en-GB" sz="3600" spc="-1" strike="noStrike">
                <a:solidFill>
                  <a:srgbClr val="660033"/>
                </a:solidFill>
                <a:latin typeface="Arial"/>
              </a:rPr>
              <a:t> and a lot of energy. This especially </a:t>
            </a:r>
            <a:r>
              <a:rPr b="1" lang="en-GB" sz="3600" spc="-1" strike="noStrike">
                <a:solidFill>
                  <a:srgbClr val="660033"/>
                </a:solidFill>
                <a:latin typeface="Arial"/>
              </a:rPr>
              <a:t>limits the uses</a:t>
            </a:r>
            <a:r>
              <a:rPr b="0" lang="en-GB" sz="3600" spc="-1" strike="noStrike">
                <a:solidFill>
                  <a:srgbClr val="660033"/>
                </a:solidFill>
                <a:latin typeface="Arial"/>
              </a:rPr>
              <a:t> of titanium. 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MCj04244640000[1]"/>
          <p:cNvPicPr/>
          <p:nvPr/>
        </p:nvPicPr>
        <p:blipFill>
          <a:blip r:embed="rId1"/>
          <a:stretch/>
        </p:blipFill>
        <p:spPr>
          <a:xfrm>
            <a:off x="755640" y="0"/>
            <a:ext cx="184464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9999"/>
                </a:solidFill>
                <a:uFillTx/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820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luminium and Titanium both have a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low density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which means they ar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lightweight for their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resist corro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2125440" y="54450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324000" y="3429000"/>
            <a:ext cx="784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lang="en-GB" sz="2800" spc="-1" strike="noStrike">
                <a:solidFill>
                  <a:srgbClr val="660033"/>
                </a:solidFill>
                <a:latin typeface="Arial"/>
              </a:rPr>
              <a:t>cannot be extracted by  reduction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324000" y="4508640"/>
            <a:ext cx="82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Extraction is expensiv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because there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755640" y="5013360"/>
            <a:ext cx="7993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several stage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involved and the processes require </a:t>
            </a: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a lot of ener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20:32:51Z</dcterms:created>
  <dc:creator>HP Authorized Customer</dc:creator>
  <dc:description/>
  <dc:language>en-US</dc:language>
  <cp:lastModifiedBy>RomaK</cp:lastModifiedBy>
  <dcterms:modified xsi:type="dcterms:W3CDTF">2015-09-01T16:14:45Z</dcterms:modified>
  <cp:revision>13</cp:revision>
  <dc:subject/>
  <dc:title>Slide 1</dc:title>
</cp:coreProperties>
</file>