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3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5400" y="729720"/>
            <a:ext cx="4867200" cy="365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556E-983E-4B28-9CC4-25A25D816B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ptive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oun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A type of Indian b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rb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An action or doing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omething that makes           your pizza taste b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A person, place or 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word ch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sentence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) The way you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Explore ways to make writing descrip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nouns are PRE-MODIFIED – they have extra information in front of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un phr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noun phrases and underline the nou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we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, bad wo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e long es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little pi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se sentences and underline the 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was covered in mu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alked alone through the 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ie looked at her m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: Why do you think nouns are pre-modified? What is the effe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ink of a more interesting synonym for each verb. Use a thesaurus if you wis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are going to receive your own chocolate. Eat the chocolate, and then write your own description of it. Be as expressive as possible, and try to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itable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 bank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at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se words to help you, or even better, find your own – use a thesauru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e able to write descrip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they look l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the characters in ‘Of Mice and Men’ are lonely and depressed. Write one paragraph about a lonely and depressed character in today’s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 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they l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y are lonely and de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be as descriptive as possible, using the skills from today’s les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ould use figurative language: similes, metaphors, personificatio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loneliness / depress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ism – homelessness – bullying – poverty – or your own ide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your descriptive para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92487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5400" y="730080"/>
            <a:ext cx="4867200" cy="36514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625640"/>
            <a:ext cx="5486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: Draw a line from each box pointing to an example of the language featu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39C-20DC-42F9-8AE3-D6357317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A3C1-2624-41A8-9D62-7FFB9FD6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28DA-1A77-45AF-8C3D-33459671E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C9F5-7342-4655-AF1C-3A4D78B1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0F10-EF71-47F6-A0CA-19B088216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EC9-8529-4F21-842F-26077D8D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0BDD-269F-4C05-8033-79CC923B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B82-AD96-461C-A100-FBE0252DE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CB2C-CA21-48DE-BC42-35BBAE58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48EB-65C7-43A8-80C6-E9F56C50A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0F7-DE63-4B01-B0DE-5FB7E6F1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C3D-1E03-4FB5-BBF3-813FEE087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294D-0974-4ED0-BEA6-5C6E9C632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-36360" y="37944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scriptive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0" y="9079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 Objectives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 Explore ways to make writing descrip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Be able to write descriptiv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5580000" y="2060640"/>
            <a:ext cx="2016360" cy="178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un phr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ocabu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682560" y="1916280"/>
            <a:ext cx="396072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 noun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A type of Indian b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24000" y="4221000"/>
            <a:ext cx="3960720" cy="249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 verb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An action or doing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omething that makes           your pizza taste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A person, place or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4643280" y="4497480"/>
            <a:ext cx="3961080" cy="21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cc33"/>
                </a:solidFill>
                <a:latin typeface="Arial"/>
              </a:rPr>
              <a:t>Vocabulary 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) wor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) sentenc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) The way you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 Explore ways to make writing descrip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250920" y="4437000"/>
            <a:ext cx="3889440" cy="10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se nouns are PRE-MODIFIED – they have extra informati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n front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765000"/>
            <a:ext cx="396072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Noun phr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Copy these noun phrases and underline the nou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we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, bad wo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re long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little pi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4572000" y="765000"/>
            <a:ext cx="3960720" cy="378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cc"/>
                </a:solidFill>
                <a:uFillTx/>
                <a:latin typeface="Arial"/>
              </a:rPr>
              <a:t>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Copy these sentences and underline the verb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t was covered in m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 walked alone through the 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atie looked at her m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558972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: Why do you think nouns are pre-modified? What is the eff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643280" y="486900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w think of a more interesting synonym for each verb. Use a thesaurus if you w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9056520" cy="7299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324000" y="1628640"/>
            <a:ext cx="1008000" cy="1447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6"/>
          <p:cNvSpPr/>
          <p:nvPr/>
        </p:nvSpPr>
        <p:spPr>
          <a:xfrm flipH="1">
            <a:off x="1331640" y="620640"/>
            <a:ext cx="1439640" cy="72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3995640" y="76500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2771640" y="189000"/>
            <a:ext cx="180036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3635280" y="1268280"/>
            <a:ext cx="793800" cy="2160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55640" y="2276640"/>
            <a:ext cx="18003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cc"/>
                </a:solidFill>
                <a:latin typeface="Arial"/>
              </a:rPr>
              <a:t>Exciting verb choices; some person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80000" y="1484280"/>
            <a:ext cx="433080" cy="14292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1"/>
          <p:cNvSpPr/>
          <p:nvPr/>
        </p:nvSpPr>
        <p:spPr>
          <a:xfrm flipV="1">
            <a:off x="2050920" y="1628640"/>
            <a:ext cx="1729080" cy="648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2411280" y="4113360"/>
            <a:ext cx="360360" cy="179280"/>
          </a:xfrm>
          <a:prstGeom prst="rect">
            <a:avLst/>
          </a:prstGeom>
          <a:noFill/>
          <a:ln w="22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1619280" y="3141720"/>
            <a:ext cx="720720" cy="93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4861080" y="1557360"/>
            <a:ext cx="1871640" cy="1159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8"/>
          <p:cNvSpPr/>
          <p:nvPr/>
        </p:nvSpPr>
        <p:spPr>
          <a:xfrm>
            <a:off x="6299280" y="260280"/>
            <a:ext cx="50472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9"/>
          <p:cNvSpPr/>
          <p:nvPr/>
        </p:nvSpPr>
        <p:spPr>
          <a:xfrm flipV="1">
            <a:off x="6588000" y="549360"/>
            <a:ext cx="71640" cy="100800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5796000" y="620640"/>
            <a:ext cx="431640" cy="216000"/>
          </a:xfrm>
          <a:prstGeom prst="rect">
            <a:avLst/>
          </a:prstGeom>
          <a:noFill/>
          <a:ln w="22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1"/>
          <p:cNvSpPr/>
          <p:nvPr/>
        </p:nvSpPr>
        <p:spPr>
          <a:xfrm flipV="1">
            <a:off x="5940360" y="980640"/>
            <a:ext cx="0" cy="576360"/>
          </a:xfrm>
          <a:prstGeom prst="line">
            <a:avLst/>
          </a:prstGeom>
          <a:ln w="2844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468360" y="3994200"/>
            <a:ext cx="1368360" cy="255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djective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mo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i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v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50920" y="765000"/>
            <a:ext cx="8497800" cy="285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are going to receive your own chocolate. Eat the chocolate, and then write your own description of it. Be as expressive as possible, and try to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re-modified no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Exciting ver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cc33"/>
                </a:solidFill>
                <a:latin typeface="Arial"/>
              </a:rPr>
              <a:t>Suitable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050920" y="4164120"/>
            <a:ext cx="1368720" cy="209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Verb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ra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wath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r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4645080" y="4221000"/>
            <a:ext cx="44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these words to help you, or even better, find your own – use a thesaur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1"/>
          <p:cNvSpPr/>
          <p:nvPr/>
        </p:nvSpPr>
        <p:spPr>
          <a:xfrm flipH="1">
            <a:off x="3708000" y="5084640"/>
            <a:ext cx="792360" cy="0"/>
          </a:xfrm>
          <a:prstGeom prst="line">
            <a:avLst/>
          </a:prstGeom>
          <a:ln w="60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-36360" y="115920"/>
            <a:ext cx="91803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 Be able to write descrip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755640" y="2960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at they look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50920" y="765000"/>
            <a:ext cx="84978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of the characters in ‘Of Mice and Men’ are lonely and depressed. Write one paragraph about a lonely and depressed character in today’s socie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9640" y="213372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ll 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755640" y="346392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ere they l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755640" y="3968640"/>
            <a:ext cx="4249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hy they are lonely and depre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395280" y="4797360"/>
            <a:ext cx="81374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e as descriptive as possible, using the skills from today’s les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coul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se figurative language: similes, metaphors, personific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 rot="452400">
            <a:off x="5291640" y="2408400"/>
            <a:ext cx="3635280" cy="21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Possible reasons for loneliness / depre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Racism – homelessness – bullying – poverty – or your own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Finish your descriptive paragrap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Due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2" descr=""/>
          <p:cNvPicPr/>
          <p:nvPr/>
        </p:nvPicPr>
        <p:blipFill>
          <a:blip r:embed="rId1"/>
          <a:stretch/>
        </p:blipFill>
        <p:spPr>
          <a:xfrm>
            <a:off x="971640" y="798480"/>
            <a:ext cx="7642080" cy="6159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"/>
          <p:cNvSpPr/>
          <p:nvPr/>
        </p:nvSpPr>
        <p:spPr>
          <a:xfrm>
            <a:off x="539640" y="115920"/>
            <a:ext cx="18003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-modified nou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2627280" y="101520"/>
            <a:ext cx="244800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xciting verb choices; some 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5292720" y="115920"/>
            <a:ext cx="331164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lly exciting vocabulary, mostly relating to riches, elegance and sophist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8"/>
          <p:cNvSpPr/>
          <p:nvPr/>
        </p:nvSpPr>
        <p:spPr>
          <a:xfrm rot="16200000">
            <a:off x="-2078640" y="3348720"/>
            <a:ext cx="48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SK: Draw a line from each box pointing to an example of the language feature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03280" y="404640"/>
            <a:ext cx="0" cy="15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1258920" y="2133720"/>
            <a:ext cx="865080" cy="14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3T15:38:49Z</dcterms:created>
  <dc:creator>HWS</dc:creator>
  <dc:description/>
  <cp:keywords>Descriptive writing</cp:keywords>
  <dc:language>en-US</dc:language>
  <cp:lastModifiedBy>RomaK</cp:lastModifiedBy>
  <dcterms:modified xsi:type="dcterms:W3CDTF">2015-09-02T09:37:40Z</dcterms:modified>
  <cp:revision>13</cp:revision>
  <dc:subject/>
  <dc:title>Descriptive writing</dc:title>
</cp:coreProperties>
</file>