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F769-01C9-4D8E-9489-C305168F6E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48A-EEA9-4168-B1AE-A9D5A3FE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C3E-D93F-4DEB-ABFE-075CCDD6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6EF-DDA7-4A98-AF19-D297A6A8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F76-E2A8-44D8-8FB4-5478AC32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79C-8407-44D8-A313-FC1C665C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661-2318-4677-8148-2AF7D4BF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0B8-8169-4380-8A2D-13BD2238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F3C-F013-4B90-858A-033FFD03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CA2-BE5D-492D-97AE-C8F75E9F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85E-71D5-4314-9F06-133B425D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4C6-360E-4FB6-954A-0FB187E6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7E8-66EA-4D9D-A9F2-652B1D02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4EC6-B126-46F6-8664-B964897FF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36360" y="37944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p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907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Explore ways to make writing descrip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Be able to write descrip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580000" y="2060640"/>
            <a:ext cx="2016360" cy="178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82560" y="1916280"/>
            <a:ext cx="39607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noun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A type of Indian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4000" y="4221000"/>
            <a:ext cx="3960720" cy="24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 verb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omething that makes           your pizza tast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3280" y="4497480"/>
            <a:ext cx="396108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Vocabulary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wor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entenc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The way you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Explore ways to make writing 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437000"/>
            <a:ext cx="388944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nouns are PRE-MODIFIED – they have extra inform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 fro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50920" y="765000"/>
            <a:ext cx="396072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oun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py these noun phrases and underline the no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we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, bad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e long e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little p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572000" y="765000"/>
            <a:ext cx="39607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py these sentences and underline th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covered in m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lked alone through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ie looked at 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5589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Why do you think nouns are pre-modified? What is th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643280" y="486900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ink of a more interesting synonym for each verb. Use a thesaurus if you 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7299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24000" y="1628640"/>
            <a:ext cx="1008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H="1">
            <a:off x="1331640" y="620640"/>
            <a:ext cx="143964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995640" y="76500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771640" y="189000"/>
            <a:ext cx="1800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635280" y="1268280"/>
            <a:ext cx="7938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55640" y="2276640"/>
            <a:ext cx="1800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Exciting verb choices; some person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80000" y="1484280"/>
            <a:ext cx="433080" cy="1429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2050920" y="1628640"/>
            <a:ext cx="1729080" cy="64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411280" y="4113360"/>
            <a:ext cx="360360" cy="1792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619280" y="3141720"/>
            <a:ext cx="720720" cy="93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861080" y="1557360"/>
            <a:ext cx="187164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299280" y="260280"/>
            <a:ext cx="50472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V="1">
            <a:off x="6588000" y="549360"/>
            <a:ext cx="71640" cy="1008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5796000" y="620640"/>
            <a:ext cx="43164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 flipV="1">
            <a:off x="5940360" y="980640"/>
            <a:ext cx="0" cy="576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3994200"/>
            <a:ext cx="1368360" cy="255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0920" y="765000"/>
            <a:ext cx="8497800" cy="28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receive your own chocolate. Eat the chocolate, and then write your own description of it. Be as expressive as possible, and try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xcit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Suitabl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050920" y="4164120"/>
            <a:ext cx="1368720" cy="209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at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45080" y="422100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se words to help you, or even better, find your own – use a thesaur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3708000" y="5084640"/>
            <a:ext cx="792360" cy="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960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they look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765000"/>
            <a:ext cx="849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f the characters in ‘Of Mice and Men’ are lonely and depressed. Write one paragraph about a lonely and depressed character in today’s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9640" y="213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55640" y="346392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55640" y="3968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they are lonely and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95280" y="4797360"/>
            <a:ext cx="813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as descriptive as possible, using the skills from today’s les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figurative language: similes, metaphors, personif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 rot="452400">
            <a:off x="5291640" y="2408400"/>
            <a:ext cx="3635280" cy="21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ossible reasons for loneliness / de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Racism – homelessness – bullying – poverty – or your own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inish your descriptive paragrap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Due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2" descr=""/>
          <p:cNvPicPr/>
          <p:nvPr/>
        </p:nvPicPr>
        <p:blipFill>
          <a:blip r:embed="rId1"/>
          <a:stretch/>
        </p:blipFill>
        <p:spPr>
          <a:xfrm>
            <a:off x="971640" y="798480"/>
            <a:ext cx="7642080" cy="6159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39640" y="115920"/>
            <a:ext cx="180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27280" y="101520"/>
            <a:ext cx="2448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92720" y="115920"/>
            <a:ext cx="3311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 rot="16200000">
            <a:off x="-2078640" y="334872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SK: Draw a line from each box pointing to an example of the language featur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03280" y="40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58920" y="2133720"/>
            <a:ext cx="86508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8:49Z</dcterms:created>
  <dc:creator>HWS</dc:creator>
  <dc:description/>
  <cp:keywords>Descriptive writing</cp:keywords>
  <dc:language>en-US</dc:language>
  <cp:lastModifiedBy>RomaK</cp:lastModifiedBy>
  <dcterms:modified xsi:type="dcterms:W3CDTF">2015-09-02T09:37:40Z</dcterms:modified>
  <cp:revision>13</cp:revision>
  <dc:subject/>
  <dc:title>Descriptive writing</dc:title>
</cp:coreProperties>
</file>