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663F-F5E9-4A9A-AF2C-F737660ADA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Red Fern Grows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1 - Understanding Sentenc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s may come in different fo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noun as the subject – Billy wants hound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nouns as a subject – Little Ann and Old Dan are two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pronoun as the subject – He prays each night for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pronouns as the subject – He and she are both still awake because of the coon hou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hrase – Staying awake all night is no f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lause – What makes me mad is all the nois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he gets the mon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his has a subject [he] and a verb [gets], but you’re left dangling, aren’t you? It’s not a complete sentence. This is called a dependent clause. It depends on something else to make a complete sent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will buy coon hounds when he gets the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w we know what’s going on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if the following are complete sentences or dependent cla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 left my office that beautiful spring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as walking along whistling when I heard the dogf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twenty-five feet from me they caught him and down he w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wn on my kne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one final whim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alley emptied into the street, he stopped and looked ba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watch him disappear in the twilight shado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ever it was that had interrupted his life, he was trying to straighten it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turned to enter my y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caressed the smooth surfaces, my mind drifted back through the years, back to my boyhood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nd of the h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e just saw that a clause has a subject and a verb. There’s no verb here; this is called a phrase. It could be the start of a great sentence, but it needs some help. It needs some action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nd of the hounds echoed in Billy’s mind even after the night quie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w there’s some action! It makes a very clear, complete sentence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l which part of the sentence (subject or predicate) is missing in the sentence fragments belo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hole bucketful of te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dog-want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wling and yelling for Ma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a talk with hi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build a few sente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Bi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 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time hunting season was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time hunting season was over, young Billy was a nervous wre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cat Sam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 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one loud squ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one loud squall, our cat Samie scooted under the ba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you tell a complete sentence from an incomplete sentence? Usually you tell just by liste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omplete Sentence (Fragment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hat? Who does what everyday? I don’t get it. This is not complete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low of the f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 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sat there in sil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sat there in silence, the glow of the fire grew lar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r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kled like a white star in the heav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ent Cl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struck a ma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 struck a match, the smaller cup sparkled like a white star in the heav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Video on Sentence Frag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ain P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ttp://www.brainpop.com/english/grammar/sentencefragments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– Complete Sentence or Sentence Fragm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found some slick little trails out in the garden down under some tall hollyhock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I decided to make friends with hi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ing they were game trai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ma had another talk with Pap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to your Student Packet and complete Lesson 1 Practice for Englis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omplete Sentence (Fragment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day, rain or sh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 don’t care about the weather! Tell me who is doing wha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hu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his is a very simple sentence, but it has a subject [Billy] and a verb [hunts]. We know what happened and who did i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hunts every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Here is the same sentence with a little more information. There’s no confusion here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Sen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hunts everyday, rain or sh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Here is the same sentence with even more information, and it’s still very clear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plete sentence must have a subject and a predicate. The subject tells who or what does the action, and the predicate contains the verb and tells what the action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erb is a word that expresses one of two thing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on:  jump, scream, fly, r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of being:  appear, seem, fe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ubject can be any of the following thing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son who does the action in the sentence. Grandpa sells goods in his general st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that does the action in the sentence. The general store swarms with people before the Fourth of July celebr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ing that does the action in the sentence. Flour and sugar are mixed together to make cook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son described in the sentence. Grandpa is happy when he makes a good s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being described in the sentence. The general store is crowded on Satu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ing being described in the sentence. Cookies are best when the flour and sugar are fres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50F88-661B-45C6-A43F-A6A76FDF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C8E31-C085-4CCD-A34F-FDD3BAE6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F63E9-B56E-4675-8B09-C34959C60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94B3D-B578-4456-BF4D-309BBC602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1808-DA28-4BA7-B343-EBD16684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B7C5-71CD-4C16-A7BD-382D1B48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F07B-B881-40A7-AC00-491939C5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A124-A16F-40A7-B5EA-6895C706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610C-75F9-4C59-9748-8651DF5B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17BD-38D0-4925-8FAD-B027168F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9EA3-E8C6-4EEC-B5D3-86811359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55285-7C5F-477B-BBFE-7CDD5E03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FE38-DDE5-402D-8704-1B1AF662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5F9E-9ECD-405C-82AD-2B6B27D9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ED75-7575-4D6D-B3F7-2B138E1E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34E2-FDB6-4262-8F98-64B343535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1C86-6B0E-4F90-AF89-B98820AEE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54CC5-99D8-4440-A191-86E95E90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E5F7C-6031-44F6-B938-A75313BB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83728-64B3-4B5A-878A-96598192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023ED-4749-4FC3-89E1-3A6597E2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EC8D5-BAE6-4199-A3D9-01BCDC45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56E65-AC5B-4127-993D-47AD86D2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F5E39-9472-451C-BF58-AD9C4F83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CFD2-835C-43D0-AC82-54CC8FCB2B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EBF1-B967-461C-BD30-EB30FA511A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brainpop.com/english/grammar/sentencefragment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Where the Red Fern Grows </a:t>
            </a: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Lesson 1 - Understanding Sentences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bjects may come in different form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noun as the subject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Bill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wants hound do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wo nouns as a subject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ittle Ann and Old Da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re two do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pronoun as the subject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rays each night for do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wo pronouns as the subject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e and sh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re both still awake because of the coon houn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phrase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taying awake all nigh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no fu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lause –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hat makes me ma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ll the noise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us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he gets the mone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This has a subject [he] and a verb [gets], but you’re left dangling, aren’t you? It’s not a complete sentence. This is called a dependent clause. It depends on something else to make a complete sente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lly will buy coon hounds when he gets the mone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Now we know what’s going on!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etermine if the following are complete sentences or dependent clauses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I left my office that beautiful spring da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was walking along whistling when I heard the dogfigh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bout twenty-five feet from me they caught him and down he w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wn on my kne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one final whimp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re the alley emptied into the street, he stopped and looked bac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watch him disappear in the twilight shadow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ever it was that had interrupted his life, he was trying to straighten it ou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turned to enter my yar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caressed the smooth surfaces, my mind drifted back through the years, back to my boyhood day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ound of the hou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We just saw that a clause has a subject and a verb. There’s no verb here; this is called a phrase. It could be the start of a great sentence, but it needs some help. It needs some action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sound of the hounds echoed in Billy’s mind even after the night quiet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Now there’s some action! It makes a very clear, complete sentence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ell which part of the sentence (subject or predicate) is missing in the sentence fragments below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whole bucketful of tear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y dog-wanting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wling and yelling for Mam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d a talk with him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Let’s build a few sentenc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ng Bil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pendent Cla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 the time hunting season was ov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 the time hunting season was over, young Billy was a nervous wrec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ur cat Sam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pendent Cla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one loud squa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one loud squall, our cat Samie scooted under the bar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can you tell a complete sentence from an incomplete sentence? Usually you tell just by listen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complete Sentence (Fragment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ryday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What? Who does what everyday? I don’t get it. This is not complete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glow of the fi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pendent Cla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sat there in sil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sat there in silence, the glow of the fire grew larg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r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arkled like a white star in the heave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pendent Cla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struck a mat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I struck a match, the smaller cup sparkled like a white star in the heave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ideo on Sentence Frag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sentence_fragments.asf" descr=""/>
          <p:cNvPicPr/>
          <p:nvPr/>
        </p:nvPicPr>
        <p:blipFill>
          <a:blip r:embed="rId1"/>
          <a:stretch/>
        </p:blipFill>
        <p:spPr>
          <a:xfrm>
            <a:off x="2971800" y="2666880"/>
            <a:ext cx="3352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rain Po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brainpop.com/english/grammar/sentencefragments/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actice – Complete Sentence or Sentence Fragment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found some slick little trails out in the garden down under some tall hollyhock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ce I decided to make friends with him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nking they were game trail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ma had another talk with Papa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Go to your Student Packet</a:t>
            </a:r>
            <a:r>
              <a:rPr b="0" i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and complete</a:t>
            </a:r>
            <a:r>
              <a:rPr b="0" i="1" lang="en-US" sz="4000" spc="-1" strike="noStrike">
                <a:solidFill>
                  <a:srgbClr val="ffffff"/>
                </a:solidFill>
                <a:latin typeface="Garamond"/>
              </a:rPr>
              <a:t> Lesson 1 Practice for English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complete Sentence (Fragment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ry day, rain or sh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I don’t care about the weather! Tell me who is doing what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lly hun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This is a very simple sentence, but it has a subject [Billy] and a verb [hunts]. We know what happened and who did it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lly hunts everyda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Here is the same sentence with a little more information. There’s no confusion here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plete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lly hunts everyday, rain or sh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Here is the same sentence with even more information, and it’s still very clear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omplete sentence must have a subject and a predicate. The subject tell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oes the action, and the predicate contains the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verb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tell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he action i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verb is a word that expresses one of two thing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tion:  jump, scream, fly, ru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te of being:  appear, seem, fe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subject can be any of the following thing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erson who does the action in the sentence. Grandpa sells goods in his general sto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lace that does the action in the sentence. The general store swarms with people before the Fourth of July celebra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thing that does the action in the sentence. Flour and sugar are mixed together to make cook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erson described in the sentence. Grandpa is happy when he makes a good sel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lace being described in the sentence. The general store is crowded on Saturda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thing being described in the sentence. Cookies are best when the flour and sugar are fres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6T21:36:30Z</dcterms:created>
  <dc:creator>Gay  Miller</dc:creator>
  <dc:description/>
  <dc:language>en-US</dc:language>
  <cp:lastModifiedBy>RomaK</cp:lastModifiedBy>
  <dcterms:modified xsi:type="dcterms:W3CDTF">2015-09-02T09:38:10Z</dcterms:modified>
  <cp:revision>29</cp:revision>
  <dc:subject/>
  <dc:title>Where the Red Fern Grows</dc:title>
</cp:coreProperties>
</file>