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7F03-D8A5-4898-9D9C-CA2BA5F3ED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D64-8912-41B5-B52C-EBF9D183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0A6-7178-4D2F-A80F-904B0392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D29-1756-4560-BF5F-61E91559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419-FEB9-4779-996C-13671D4B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9871-3A0E-4612-B78A-BCE8BD84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9226-4B3F-4AB9-938E-A3EDE910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F970-F1A4-4CF6-98A9-C13BF110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7762-F6EB-4444-BA51-8E03FC7F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D31A-B747-4BB5-BDC1-DBB49BB1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7F29-2FFF-4870-B007-CCB9A425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9696-46AE-46F9-AE37-A0AB915F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E16-4585-4F7F-9B39-3E2BB012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7F69-0E73-485E-8B51-18D84704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7544-DA42-4320-B9EC-C766CE73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2943-D0B1-4FF2-80F6-1C8359CE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7BF6-87CE-4FCA-8D15-D82243F4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C142-31A5-47E6-B9BB-CC0B3E2D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AF0-A6D8-4A99-97DF-20A927BD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83F-F074-4E3A-921F-B52EF441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4CC-186B-4E54-9CF4-F261B29A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F74-4247-4764-ABDA-EFB628D1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E97-62FA-42BF-8010-A12C3DB6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80E-E878-4773-8F7B-F1E7F563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5E4-71DB-4172-80F9-943EF448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BA16-80A2-4C47-A4E3-8288C0179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F2A2-E900-44D4-B56E-06404D27D29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verbs –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DO and HAVE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ave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ve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77920"/>
          <a:ext cx="8229600" cy="581796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hasn't been here all night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has to carry a lantern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has a bright flame that helps Billy see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28600" y="380880"/>
          <a:ext cx="8610480" cy="5578560"/>
        </p:xfrm>
        <a:graphic>
          <a:graphicData uri="http://schemas.openxmlformats.org/drawingml/2006/table">
            <a:tbl>
              <a:tblPr/>
              <a:tblGrid>
                <a:gridCol w="2286000"/>
                <a:gridCol w="1523880"/>
                <a:gridCol w="48006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Nouns or </a:t>
                      </a: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have a good sense of smell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haven't seen this many coon pelts since we were littl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 have to skin the coon, and dry the pelt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have to sell the pelts at Grandpa's stor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_______ 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o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e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________ 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______ 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. Hounds (do, does) hunt best during cool fall night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2. (Do, Does) you know that Billy is a brave young man?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3. The barking (do, does) sound far aw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4. You (doesn’t, don’t) have to stay out here all day chopp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5. I (doesn’t, don’t)  want to give up, Grandpa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6. "No, he (doesn’t, don’t) ," Grandpa said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920" y="838080"/>
          <a:ext cx="8229600" cy="534852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8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does his chores before going hunting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doesn't like to stop hunting long enough to eat dinner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doesn't take long to catch three coons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7. There (has, have) never been a more beautiful night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8. You (has, have)  to leave the tree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9. Raccoons (has, have) many tricks to escape from their captor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0. You (hasn’t, haven’t) seen Little Ann or Old Da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1. The ax (hasn’t, haven’t)  left Billy's hands all d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2. The trouble (hasn’t, haven’t) stopped Billy from try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3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4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s have a deep broad chest and a strong slightly arched back. (2)Their feet has cat-like paws. (3)The medium length tail is slightly bushy.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Redbones are agile which help them when hunting in steep, rocky areas. (2) Redbones enjoy swimming. (3) They has a natural instinct for hunt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838080"/>
          <a:ext cx="8229600" cy="458640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don't bellow unless they have treed a coon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do our hunting at night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do the cooking over a hot fire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_________ know that hounds have a good sense of smell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know that hounds have a good sense of smel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_____ 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_______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1:42:55Z</dcterms:created>
  <dc:creator>Gay  Miller</dc:creator>
  <dc:description/>
  <dc:language>en-US</dc:language>
  <cp:lastModifiedBy>RomaK</cp:lastModifiedBy>
  <dcterms:modified xsi:type="dcterms:W3CDTF">2015-09-02T09:41:51Z</dcterms:modified>
  <cp:revision>31</cp:revision>
  <dc:subject/>
  <dc:title>Slide 1</dc:title>
</cp:coreProperties>
</file>