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59396754"/>
        <c:axId val="59645510"/>
      </c:scatterChart>
      <c:valAx>
        <c:axId val="59396754"/>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59645510"/>
        <c:crossesAt val="0"/>
        <c:crossBetween val="midCat"/>
      </c:valAx>
      <c:valAx>
        <c:axId val="59645510"/>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59396754"/>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91869159"/>
        <c:axId val="79371680"/>
      </c:scatterChart>
      <c:valAx>
        <c:axId val="91869159"/>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79371680"/>
        <c:crossesAt val="0"/>
        <c:crossBetween val="midCat"/>
      </c:valAx>
      <c:valAx>
        <c:axId val="79371680"/>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91869159"/>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