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12700915"/>
        <c:axId val="84862650"/>
      </c:scatterChart>
      <c:valAx>
        <c:axId val="12700915"/>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84862650"/>
        <c:crossesAt val="0"/>
        <c:crossBetween val="midCat"/>
      </c:valAx>
      <c:valAx>
        <c:axId val="84862650"/>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12700915"/>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54535386"/>
        <c:axId val="95142417"/>
      </c:scatterChart>
      <c:valAx>
        <c:axId val="54535386"/>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95142417"/>
        <c:crossesAt val="0"/>
        <c:crossBetween val="midCat"/>
      </c:valAx>
      <c:valAx>
        <c:axId val="95142417"/>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54535386"/>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