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8B5C-497C-44E9-80E3-80A76C3054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18E-0F8C-4837-88DF-AD7CDE37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958-66E9-42F6-8567-C54F0680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32D-6FAB-4168-9A89-48C3B8D2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DE5-679E-48BF-BA5A-B76F5364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987C-8A7F-4CE2-A036-7284E51A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9720-423C-4209-9781-2E3EDE4F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C181-9E50-4CF1-8624-49A53D87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574F-A2E7-4910-AFB5-8374300A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EFD0-C85B-46C1-914B-2F0BAA49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2B94-5BEF-48E0-B054-6FA55BD6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3C41-B9D0-44D7-A173-FFE8B659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20D-B2D5-49B9-8E50-BBD72A92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FECD-D131-4317-B250-034E06ED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2BE8-EC2B-43F4-985A-E1C0F176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E0A6-59A5-47BE-9BF3-064BB075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FF29-5C83-4232-8566-801A19CF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CD80-CDB3-4811-9C03-F67D9E68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FED-7CBF-41A9-9A47-5FBF3AE6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99F-5105-4A8E-AB28-82DCC9A4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DFB-EF0A-43CA-B7AC-10F2CC93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3B0-2C3F-42FA-9231-7EBEBE6D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A3B-B198-49E9-8128-8DDA6395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CFB-CFC8-4AD0-B079-DFBC0433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FAC-00EA-4F30-A838-A4C1D1C7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45A7-7FA2-48CA-A68F-2499DA4ED1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3F29-F11B-43DC-A39A-4ED0B97590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The gold was shrouded in mystery’ –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his word suggests that the treasure has been covered up, hidden or has links with the semantic field of death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Questions: Thoughts and Feeling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oughts and feelings about the ex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th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whol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of the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Charac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s she is emotional, yet reserved, through the choice of the conditional verb ‘if’ and the repetition of the word’ cr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Mea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‘Frank found himself advancing alone through a wall of fog’ –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writer shows horror by highlighting isolation and using a metaphor for the weather which affects Frank’s vi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15Z</dcterms:modified>
  <cp:revision>17</cp:revision>
  <dc:subject/>
  <dc:title>SATs</dc:title>
</cp:coreProperties>
</file>