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0A25-1BEA-4E1F-B43D-F1C66CC859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The gold was shrouded in mystery’ – T his word suggests that the treasure has been covered up, hidden or has links with the semantic field of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The gold was shrouded in mystery’ – T his word suggests that the treasure has been covered up, hidden or has links with the semantic field of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Thoughts and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your thoughts and feelings about the ex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the whol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part of th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Thoughts and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your thoughts and feelings about the ex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the whol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part of th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Shows she is emotional, yet reserved, through the choice of the conditional verb ‘if’ and the repetition of the word’ cr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Shows she is emotional, yet reserved, through the choice of the conditional verb ‘if’ and the repetition of the word’ cr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Frank found himself advancing alone through a wall of fog’ – The writer shows horror by highlighting isolation and using a metaphor for the weather which affects Frank’s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Frank found himself advancing alone through a wall of fog’ – The writer shows horror by highlighting isolation and using a metaphor for the weather which affects Frank’s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3F1-073B-43C5-AAAC-24F8B95C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584-2CD3-47C3-B943-FD612FDF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EBCC-E010-421D-B57C-EB8CB5E8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37B-9226-46A6-ACC4-F10535BD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851A-E6C7-4EA1-B9B7-ACE86E08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715B-2871-4A89-8150-36D257E0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509D-B5B1-4D97-AD8A-7306C130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3D29-FBE2-43C2-BA22-09F6A9D7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8E02-DE8F-4D4B-873B-A8BC60DC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E649-3F8F-4D3C-82C0-37B1D480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02C2-0A4F-4577-938F-C3769F88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CA17-84CD-4ED1-873A-DC18E040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4FC7-3508-49BD-B61C-5B097563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6AC3-03CE-401B-87E7-12EE9EA6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7A90-FF5C-46CC-B82F-EC9597FB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D83E-18A4-40EF-B7B7-04843BDC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BEB1-981C-4401-8675-BF7CC9FD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C6E-8373-4DD8-AFA4-5E77BB00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DAD-5A9B-459C-A1C6-3076AA2C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3B3-B4DE-497B-AD92-2F4D65EA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C3C-988B-4E1C-BFDE-61066AB7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8180-5BFA-4035-88BC-535C2225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F772-F4D8-4F74-94B5-C064C8F0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C4E8-5232-4C9A-A1B7-CE5C2692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B209-AD38-4366-8E5F-629434D086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061E-62B2-4764-A7DF-6797F1E17D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‘The gold was shrouded in mystery’ –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his word suggests that the treasure has been covered up, hidden or has links with the semantic field of death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Questions: Thoughts and Feeling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houghts and feelings about the ex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rite about the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whole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pa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rite about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part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of the pa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Wri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1: Planning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lan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Proof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extracts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and annotate the text by underlining or highligh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Charac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s she is emotional, yet reserved, through the choice of the conditional verb ‘if’ and the repetition of the word’ cr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Mea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‘Frank found himself advancing alone through a wall of fog’ –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writer shows horror by highlighting isolation and using a metaphor for the weather which affects Frank’s vi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15Z</dcterms:modified>
  <cp:revision>17</cp:revision>
  <dc:subject/>
  <dc:title>SATs</dc:title>
</cp:coreProperties>
</file>