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E2F5-3CA1-46ED-B422-4648117EA0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BB9-CBC2-46CA-A242-3A00C8A2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04A-B78E-4DC8-A6C8-283CD3B1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A81-069C-4230-9304-053637D5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B6D-00EC-4882-9B5D-D5AEBA3A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B8E8-C88C-4182-BCCE-0856CCD4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22E4-371A-4A32-B607-A1EA3F78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3458-91AE-42A2-96C1-BBEB7E04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2AAC-D786-457C-8D60-1EF96051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F106-BE2D-4CEB-AC78-AEC3A41C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12E2-0504-4681-AD16-57461374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B56B-23A9-4B41-95E9-F46E9E12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D7F-6958-453F-9E22-AF9E9157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5B57-B516-4033-93FE-AAF8A5F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D2C2-4B9B-459C-A0CD-8E844766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C9A0-A0AE-4FB6-8CB1-E78B6481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2DA6-12AB-4A20-B364-E8F36F1C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22FA-301F-4274-822B-EB87603F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E78-C68A-45EF-B014-EADE4BD1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A63-A98C-4B5E-BFA7-0281103E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9B3-C853-485C-9BC6-1D90D795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922-28AD-42AB-9AE2-5D4028A9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06A-CD1D-491D-9F40-44DC27C5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74D-8D26-4F46-A4F2-F3659DB9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6A8-4A69-4561-9E53-69CB7C48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E78E-4C9A-4378-9D2C-BE69CDD257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688A-7C89-4449-A623-22DE6F698A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The gold was shrouded in mystery’ 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his word suggests that the treasure has been covered up, hidden or has links with the semantic field of dea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Questions: Thoughts and Feeling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oughts and feelings about the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Charac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s she is emotional, yet reserved, through the choice of the conditional verb ‘if’ and the repetition of the word’ cr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Mea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‘Frank found himself advancing alone through a wall of fog’ –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writer shows horror by highlighting isolation and using a metaphor for the weather which affects Frank’s 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15Z</dcterms:modified>
  <cp:revision>17</cp:revision>
  <dc:subject/>
  <dc:title>SATs</dc:title>
</cp:coreProperties>
</file>