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81BF-B2E5-41B2-99B8-A0CBE8EE64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687-E293-4B9C-B9DC-DFAC7F4F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573-94F1-4D00-BDFA-6B621FE4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BD2-C362-47BF-9B1C-A30940BE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0BB-8DDD-4BC6-8B18-A1E41F75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D31A-6A1D-4DD3-892C-D3AD6862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726B-66DE-4173-9286-9FBDB9B0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4932-2F2E-4B1E-8897-D140C916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3093-CB9E-4A38-A7B9-A00AF7E2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83C7-4E11-4818-851D-04E5ABF6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ABDA-56C4-401E-AD90-017602B5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B590-A2D4-4FFE-A460-6A204F3B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C0D-C5E3-46D9-9087-11E62EBE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0185-AD7C-4468-848D-B823D5CD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684C-0F2C-4EBD-A2AA-E77C92B0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399C-8FCF-49F7-B5C2-67CFD7AA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5F31-A727-486D-B80B-2BF1907B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E819-DD29-418E-90ED-3BDEB650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559-3A47-45C9-87D9-C998113E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3C1-173B-48C8-96CA-1AB4DE5B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CB4-956A-4C15-ADD2-0627B879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2AB-3517-450C-B95B-7298CF6A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4AF-0497-4CBC-8651-C3104F9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B25-9528-4EDF-8E3F-60A0228D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519-BD32-4322-A2BB-1FE9D49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BBA5-112D-49A3-A386-E5B903F4F0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BC31-1B33-4084-A39D-BBAA76721A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dangerous predators’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olar bears are described in this way offering negative connotations  in order to make tourists wary of their surround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1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ntence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one main clause (subject object verb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ound sentenc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imple sentences connect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, but, so, beca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wasn’t 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in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simple sentence) and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doesn’t make sense on its own) e.g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Although it was l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 wasn’t tir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dia &amp; Non-Fi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 PF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yo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26Z</dcterms:modified>
  <cp:revision>6</cp:revision>
  <dc:subject/>
  <dc:title>GCSE English paper2</dc:title>
</cp:coreProperties>
</file>