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78D5-3230-46D7-91B0-6A8B0559D9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dangerous predators’ the polar bears are described in this way offering negative connotations  in order to make tourists wary of their surroun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dangerous predators’ the polar bears are described in this way offering negative connotations  in order to make tourists wary of their surroun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1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1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2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2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one main clause (subject object verb) e.g. It wa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 e.g. It was late but I wasn’t t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 e.g. Although it was late, I wasn’t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one main clause (subject object verb) e.g. It wa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 e.g. It was late but I wasn’t t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 e.g. Although it was late, I wasn’t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Media &amp; Non-F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Media &amp; Non-F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 P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 P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965-DE9C-4B07-824D-0FE4EA51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3CA-C1F5-4F26-B155-9AE1A6F8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5CC-4D94-47E0-BBDD-D337F046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8170-A738-4B6E-9D21-BA91845F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FE46-650E-4FCE-9929-3EE1BB5D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E907-55AA-4998-883D-7C20B9C1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C2B8-A8B9-41AC-9BE6-217C4FEE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FD8C-C3FD-4778-AD73-F35FDF21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9F85-A91A-463A-A315-3DDE453E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710F-0143-480E-95D0-899DA80A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E534-249C-421F-92B8-9750B80A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46C-A61B-4A41-962A-8AD2F5A6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D5C0-62AA-438B-92A8-5ECDABFD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EBC0-A4A3-4D57-9197-37319AE7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BE31-B9AE-441E-BE64-2AF0874A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9274-787B-4E48-9900-7CC5161C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83EA-F96C-4775-94F0-8D08ED0E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A246-E873-44E0-895C-0FD6DBA0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28E-9832-42E0-A7EE-A28F36B2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46C-7964-48E0-BD02-0A34EF0A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D63-62E0-4815-89C6-55FD1A96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830C-18CD-45B6-8138-4F068BE6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2D9E-DDD3-4932-BE89-2E4D0CDC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7934-D5BF-45A9-A919-0607B9D2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564F-C8AA-42E2-A170-C2048DFF08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6A1C-733D-4696-BAE7-10D2B54801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‘dangerous predators’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polar bears are described in this way offering negative connotations  in order to make tourists wary of their surround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Wri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 B1: Possible Task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ossible Task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1: Planning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lan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ntence Typ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one main clause (subject object verb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t wa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ound sentences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simple sentences connected 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, but, so, beca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t was la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wasn’t t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in claus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simple sentence) and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ubordinate claus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doesn’t make sense on its own) e.g.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Although it was lat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I wasn’t tire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Proof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extracts –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dia &amp; Non-Fi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and annotate the text by underlining or highligh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 PF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you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4:01:47Z</dcterms:created>
  <dc:creator>al</dc:creator>
  <dc:description/>
  <dc:language>en-US</dc:language>
  <cp:lastModifiedBy>RomaK</cp:lastModifiedBy>
  <dcterms:modified xsi:type="dcterms:W3CDTF">2015-09-02T09:42:26Z</dcterms:modified>
  <cp:revision>6</cp:revision>
  <dc:subject/>
  <dc:title>GCSE English paper2</dc:title>
</cp:coreProperties>
</file>