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8BDE-8B33-437E-9F16-5DB7872E93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rouded – covered up, hidden, a link with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rouded – covered up, hidden, a link with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supporting an answ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questions need an explanation or a comment which MUST be supported by a qu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explain two different ways a negative impression is given and support each answer with a qu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eds: 2 i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supporting an answ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questions need an explanation or a comment which MUST be supported by a qu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explain two different ways a negative impression is given and support each answer with a qu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eds: 2 i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’ll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’ll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hour and 15 minutes (15 mins reading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about 20 minutes answering the questions on each tex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hour and 15 minutes (15 mins reading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about 20 minutes answering the questions on each tex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extracts will come from different GENRES or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ing – fiction, non-fiction, pre-Twentie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include - leaflet, story, historical writing, article, informative or persuasive writing, letter or part of an autobi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extracts will come from different GENRES or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ing – fiction, non-fiction, pre-Twentie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include - leaflet, story, historical writing, article, informative or persuasive writing, letter or part of an autobi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to home in on the information, and write it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to home in on the information, and write it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3758-5B7A-43D0-887B-7C19C1809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D94E-65A6-46DC-93F2-F6AC0B95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4A53-EE92-4B94-9E42-CA592DEE8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77F7-2CB9-4A7A-B7E3-9D76E51B9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16CE-C189-46DA-A193-02ACB2C16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44A8-35DF-4CFF-A219-18B6C537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35F7-95CF-41F9-9E6E-BD3412A1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3C16-245E-422D-B526-DE4B00EE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A9D9-C952-4A09-A35D-3EC71926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A325-FC67-4235-B5A7-AAF7EFA2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9620-31DF-40AF-BA5C-69F77145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4E8B-1352-427E-98E4-2F2D1FA8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427F-8B1F-4F1D-AF69-69F126A1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2980-49AF-4AFA-8712-7C16BB7D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357A-C648-41D4-91FC-4D1EC98B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A8E0-FDF7-40C2-BCBE-3A57E85BB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EC52-6C16-4893-A6EF-692A318B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BE15-176B-4AE2-8ADB-B3D31F23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DAE4-75C1-44DE-A9EA-C7A8EA94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81CD-D372-4EAF-ABA8-F51B6A59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6954-7BBA-4BB5-A8B4-16227825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7DDE-14D3-433B-8F84-D38B6D87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450D-003D-478E-B22C-D77E7984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A85C-E451-4118-BD06-E2983A30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C9FC-3D9E-4E35-9947-FF5E17AFD6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522B-A16A-460C-8107-EC35B88659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0033"/>
                </a:solidFill>
                <a:latin typeface="Times New Roman"/>
              </a:rPr>
              <a:t>SATs</a:t>
            </a:r>
            <a:endParaRPr b="0" lang="en-US" sz="10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8360" y="1484280"/>
          <a:ext cx="8229600" cy="431964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the end of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pause in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longer pa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before a list or when giving evid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 ”  ‘ 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direct speech, a quotation or to show sarcas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1484280"/>
          <a:ext cx="8229600" cy="475452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ques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surprise, shock, humour or exciteme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words are missing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an aside, or less important poi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 used informally to show a pause, or to link two words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possession or a missing letter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Langu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shrouded – covered up, hidden, a link with de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supporting an answer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questions need an explanation or a comment which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MUS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supported by a qu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.g. explain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wo differen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ways a negative impression is given and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uppor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each answer with a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quotation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his need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2 im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Big questions</a:t>
            </a: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Big ques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What We’ll Look At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Question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iming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1 hour and 15 minute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(15 mins reading time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end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bout 20 minutes answering the questions on each text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ext Typ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e extrac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ill come from different GENRES or FORM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fiction, non-fiction, pre-Twentieth Centur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y includ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leaflet, story, historical writing, article, informative or persuasive writing, letter or part of an autobiograph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ext Typ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need to decide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ype of text is it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ext typ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was it written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purpos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was it written for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arget audien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se affect th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e tex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Finding Inform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rst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read the text really carefu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ead question to make sure you understand exactly what it's asking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use skimming and scanning skills to home in on the information, and write it dow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: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int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vidence (a quotation) and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guing an ide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0:17:29Z</dcterms:created>
  <dc:creator>Andrea Lownes</dc:creator>
  <dc:description/>
  <dc:language>en-US</dc:language>
  <cp:lastModifiedBy>RomaK</cp:lastModifiedBy>
  <dcterms:modified xsi:type="dcterms:W3CDTF">2015-09-02T09:42:32Z</dcterms:modified>
  <cp:revision>11</cp:revision>
  <dc:subject/>
  <dc:title>SATs</dc:title>
</cp:coreProperties>
</file>