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25E7-3B8E-414E-9392-27CB8F7F52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100-11E3-45CC-8F76-57908D27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D6F-C274-4974-8494-9D52359F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2D1-1DC9-4D09-8B52-F975816F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DFE-AC52-4CA7-9D1E-6D093294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142F-4090-4F12-A0AD-ABF63383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144B-A273-42DB-B6DE-E6B5B19C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3967-FAE5-40D4-BBB7-17DEED16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C686-67F2-4780-A5C5-7D9EF029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CD2A-B2FF-44ED-95B7-3345E9F4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4FB8-2E62-4658-9897-B8001CA0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339F-7C34-44F9-B96B-04DC6348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378-159E-43DB-BAEE-70CD2BFA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DBF0-1994-4CB6-872D-70780350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9835-CA6A-4F0F-A8F6-866E60D3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E454-1067-497D-AE3D-32395BAA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EE8C-0F34-4D47-B64E-E6099A37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5861-8D77-420F-89D7-181E2789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7A96-609F-4C7F-8320-456007AF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C44-7B54-4365-8FE5-F067DA87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41D-5ED5-42B4-BDF8-6B24F06E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AD9-D470-419D-A49C-22C83BFA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6FA-F9DF-4C05-A53F-82B2422D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5FC-BF3E-4CD1-A24F-F0E54E93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22A-B178-42BC-8424-9DB8C974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C894-701F-4ACD-8B70-715563753B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D063-7ACB-4AC2-927D-E7FDD5D354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verpool late 2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6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be giv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seen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your response –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do not say that it’s boring or cra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 (FITCLAS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Of Mice and M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Blood Broth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answer Question 1a, it is based on an extract includ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can answer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Question 1b or Question 1c these relate to the novel as a wh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neliness –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lonely in som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44Z</dcterms:modified>
  <cp:revision>7</cp:revision>
  <dc:subject/>
  <dc:title>GCSE English literature</dc:title>
</cp:coreProperties>
</file>