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5F01-EE63-42DA-9920-E96490441F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akespear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akespear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idence (quo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idence (quo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es for exa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and mo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formance of the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guage of th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, themes and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es for exa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and mo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formance of the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guage of th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, themes and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and motiv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estion could ask what we learn about the characters, the reasons for their behaviour and their relationships with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How important is (?) role in these two extra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Show how and why (?) behaviour changes in these two ex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and motiv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estion could ask what we learn about the characters, the reasons for their behaviour and their relationships with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How important is (?) role in these two extra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Show how and why (?) behaviour changes in these two ex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formance of the pl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estion may be about how an audience reacts to the play, or how you would direct a particular character in the two extr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want them to act and react and wh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hem to scowl as they say something you need to explain what this will show e.g. his disgust, his f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formance of the pl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estion may be about how an audience reacts to the play, or how you would direct a particular character in the two extr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want them to act and react and wh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hem to scowl as they say something you need to explain what this will show e.g. his disgust, his f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guage of the tex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the language is important and you could have a question about what a character says and what you think they really m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(quote given) explore the significance of this statement in relation to these two extr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guage of the tex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the language is important and you could have a question about what a character says and what you think they really m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(quote given) explore the significance of this statement in relation to these two extr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, themes and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ys deal with a number of issues, so the question might ask you about how the characters are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Comparing your two extracts explain how the issue of (?) is expl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, themes and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ys deal with a number of issues, so the question might ask you about how the characters are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Comparing your two extracts explain how the issue of (?) is expl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kle that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 again and pick out the key words (think about the focuses I have just talked ab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rough your ex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t down/plan what things you want to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(make sure you compare and write in essay sty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kle that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 again and pick out the key words (think about the focuses I have just talked ab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rough your ex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t down/plan what things you want to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(make sure you compare and write in essay sty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idence (quo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idence (quo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BFA7-2A08-46E2-A53E-B1B553913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17EA-CE42-4954-8690-D1A24B48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E4CD-64B1-46C5-96FF-58C9C489D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E41B-62AA-4F3A-AAD4-E047B1F08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702F-DDAE-4B8F-8678-7223160B7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D44A-827A-474B-B4B1-831EDC90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BF5E-B2EE-421B-A7DD-6231E4A6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A265-255D-479E-8059-7A636AE8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CC99-E071-414C-B133-F86DBD1F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58CD-7982-4381-97F4-5A4FF41A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0187-771F-448E-AA59-C4423A2E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A345-D574-41B8-8FC5-6937FBDC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EABB-60FB-479B-BE5D-F3D71BD6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0E1C-B51D-4257-AEC3-80D74249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44B7-C3CD-4057-BC65-A75F3BB3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3F66-B0CC-4F14-93EA-6F68854B9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AA1B-EB3D-40C9-8D3C-0C6BD35B8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071C-B5C6-4B92-92BA-6F4A6BD1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783B-E84C-451E-BCB3-EB5D7504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281C-CE10-4CC6-8741-789F0BCD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8495-90E9-45FB-8518-62EBB7DA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977F-AE45-4565-A7D7-9EDA782C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C5E8-DC1C-4B38-B538-9D355F76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D216-0ED3-42C8-AA4D-C5ACF262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0C00-109B-4819-8DCE-34F7660FAAD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4B32-A20E-4604-9D51-2CB67B2196A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0033"/>
                </a:solidFill>
                <a:latin typeface="Times New Roman"/>
              </a:rPr>
              <a:t>SATs</a:t>
            </a:r>
            <a:endParaRPr b="0" lang="en-US" sz="10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000000"/>
                </a:solidFill>
                <a:latin typeface="Arial"/>
              </a:rPr>
              <a:t>Shakespeare Paper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oin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vidence (quote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33"/>
                </a:solidFill>
                <a:latin typeface="Times New Roman"/>
              </a:rPr>
              <a:t>Focuses for exam: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haracter and motiv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e performance of the pl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e language of the tex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deas, themes and issu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33"/>
                </a:solidFill>
                <a:latin typeface="Times New Roman"/>
              </a:rPr>
              <a:t>Character and motivation: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question could ask what we learn about the characters, the reasons for their behaviour and their relationships with each oth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E.g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MS Mincho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 important is (?) role in the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MS Mincho"/>
              </a:rPr>
              <a:t>two</a:t>
            </a: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 extra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E.g. Sh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MS Mincho"/>
              </a:rPr>
              <a:t>how and why</a:t>
            </a: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 (?) behaviou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MS Mincho"/>
              </a:rPr>
              <a:t>changes</a:t>
            </a: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 in these two extr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The performance of the play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question may be about how an audience reacts to the play, or how you would direct a particular character in the two extra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want them to act and react and w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ant them to scowl as they say something you need to explain what this will show e.g. his disgust, his f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33"/>
                </a:solidFill>
                <a:latin typeface="Times New Roman"/>
              </a:rPr>
              <a:t>The language of the text: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Understanding the language is important and you could have a question about what a character says and what you think they really mea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 Mincho"/>
              </a:rPr>
              <a:t>E.g. (quote given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MS Mincho"/>
              </a:rPr>
              <a:t>explore</a:t>
            </a:r>
            <a:r>
              <a:rPr b="0" lang="en-US" sz="2800" spc="-1" strike="noStrike">
                <a:solidFill>
                  <a:srgbClr val="000000"/>
                </a:solidFill>
                <a:latin typeface="MS Mincho"/>
              </a:rPr>
              <a:t>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MS Mincho"/>
              </a:rPr>
              <a:t>significance</a:t>
            </a:r>
            <a:r>
              <a:rPr b="0" lang="en-US" sz="2800" spc="-1" strike="noStrike">
                <a:solidFill>
                  <a:srgbClr val="000000"/>
                </a:solidFill>
                <a:latin typeface="MS Mincho"/>
              </a:rPr>
              <a:t> of this statement in relation to thes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MS Mincho"/>
              </a:rPr>
              <a:t>two extracts</a:t>
            </a:r>
            <a:r>
              <a:rPr b="0" lang="en-US" sz="2800" spc="-1" strike="noStrike">
                <a:solidFill>
                  <a:srgbClr val="000000"/>
                </a:solidFill>
                <a:latin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deas, themes and issue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plays deal with a number of issues, so the question might ask you about how the characters are involv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MS Mincho"/>
              </a:rPr>
              <a:t>E.g.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MS Mincho"/>
              </a:rPr>
              <a:t>Comparing</a:t>
            </a:r>
            <a:r>
              <a:rPr b="0" lang="en-US" sz="3400" spc="-1" strike="noStrike">
                <a:solidFill>
                  <a:srgbClr val="000000"/>
                </a:solidFill>
                <a:latin typeface="MS Mincho"/>
              </a:rPr>
              <a:t> your two extracts explain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MS Mincho"/>
              </a:rPr>
              <a:t>how</a:t>
            </a:r>
            <a:r>
              <a:rPr b="0" lang="en-US" sz="3400" spc="-1" strike="noStrike">
                <a:solidFill>
                  <a:srgbClr val="000000"/>
                </a:solidFill>
                <a:latin typeface="MS Mincho"/>
              </a:rPr>
              <a:t> the issue of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MS Mincho"/>
              </a:rPr>
              <a:t>(?)</a:t>
            </a:r>
            <a:r>
              <a:rPr b="0" lang="en-US" sz="3400" spc="-1" strike="noStrike">
                <a:solidFill>
                  <a:srgbClr val="000000"/>
                </a:solidFill>
                <a:latin typeface="MS Mincho"/>
              </a:rPr>
              <a:t> is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MS Mincho"/>
              </a:rPr>
              <a:t>explor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330033"/>
                </a:solidFill>
                <a:latin typeface="Times New Roman"/>
              </a:rPr>
              <a:t>Tackle that question: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the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the question again and pick out the key words (think about the focuses I have just talked ab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through your extr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ot down/plan what things you want to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the question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gin (make sure you compare and write in essay sty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oin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vidence (quote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10:17:29Z</dcterms:created>
  <dc:creator>Andrea Lownes</dc:creator>
  <dc:description/>
  <dc:language>en-US</dc:language>
  <cp:lastModifiedBy>RomaK</cp:lastModifiedBy>
  <dcterms:modified xsi:type="dcterms:W3CDTF">2015-09-02T09:42:50Z</dcterms:modified>
  <cp:revision>10</cp:revision>
  <dc:subject/>
  <dc:title>SATs</dc:title>
</cp:coreProperties>
</file>