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1F84-318C-4022-BF98-08C89C638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5C3-D8D7-4F67-8335-BD84BA34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0E8-DA47-4177-AAA0-4081D601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42A-0A80-40FA-B9EF-564EC134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5F3-C787-4EF3-8959-9B557279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0D0-1234-4748-977C-917B934E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3B25-30E2-4B01-B492-9AB22358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4ACC-763F-44C5-B611-DEDA28BE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8E97-E421-437C-BFC0-2CE21693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98D4-3DAA-49C5-B987-B738909C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1F9D-5702-4D08-92F3-F6383BA1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C306-01CD-42D0-8494-FC5888E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048-8000-4530-8C2F-C95899F2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F7A5-CC0E-408C-B26E-F1976116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87D0-6AA0-420B-B9CF-F5A902A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A1C2-EE6E-4BCF-BFFA-B33ED76E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21E2-CB70-4CF5-BD85-02EF2CCA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8B34-DFA1-44A1-8EF8-2C9A5DD1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678-77BB-424E-9453-9DFAEE0D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774-6438-4068-A620-D38AD4AB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FB4-B72C-4093-B130-E5EC322A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52B-C7EF-407D-A180-30421CBF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485-B261-46C0-ACED-FF801B41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74A-2E90-4458-BCBE-2FF11C2B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2EA-2C95-421C-984E-C6CDB6C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1CD6-F314-48EB-8CCC-09FED6FDE6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B511-D05E-42EA-929B-4406A365EF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Focuses for exam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Character and motiva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mportant is (?) role in the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extr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 and why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(?) behavi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n these two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he performance of the pla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The language of the text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E.g. (quote give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f this statement in relation to the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two extracts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deas, themes and issu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Comparing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your two extracts explai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the issue of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(?)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i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explo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330033"/>
                </a:solidFill>
                <a:latin typeface="Times New Roman"/>
              </a:rPr>
              <a:t>Tackle that ques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50Z</dcterms:modified>
  <cp:revision>10</cp:revision>
  <dc:subject/>
  <dc:title>SATs</dc:title>
</cp:coreProperties>
</file>