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EF56-FAF9-4CE9-8776-83C0386BD9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51B-DFFE-4322-98E8-C4F617AE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D78-1C8A-4657-A67B-FEE2BE5A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739B-63C9-4D85-A0BF-4AFCED33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479-18CD-464B-937F-47FA15F0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ACFA-A2A5-4775-86AA-3BD42CCA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7793-6104-4120-A0A0-BDF66A30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0861-E397-455B-BAAC-E95603D9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E71E-899C-4820-80CC-2605909B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30A6-B808-4275-8A1F-56E39BDE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90FE-1F57-4C0A-BDC8-98673149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626E-1E17-4CB5-8443-B7268DE4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D31-C215-4971-A4BA-371BB678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9733-377B-4D5F-86FC-91A429F9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6752-28C3-4D61-882C-3ED2C0D1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DEBD-89EA-402C-88F2-6D7E1223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018B-4BF7-4846-A5CF-5BD763AF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F256-71C1-4120-867E-15821A66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BBE-830D-4F89-9F1F-3ABC8DA3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433-0956-4E18-8B39-2FF0BCD9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877-BCA2-427B-809A-183D0234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CCD-7729-4438-81B7-D0E4638D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A70-FFC2-40F2-88B5-30ED2086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700-7B08-48EC-B91F-58AC2DD3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531-3953-46B9-B9BC-87C29462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B330-CBDA-4177-AF9F-CF3B1A404A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B0DC-3954-4DF0-8DAD-BF0D7E6167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En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Paragraph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paragra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each time you start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top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r when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speak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ays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 object 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s walked down the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ing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specially for a young audien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oin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instructions, information or explan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st 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descriptive or persuasive wri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sentenc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mple sentences conn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, but, so,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 walked down the roa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parents waved from the ho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in clause (simple sentence) and subordinate clause (doesn’t make sense on its own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Connective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, also, as well a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quenc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xt, then, first second third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use and effect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, so, 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fy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owever, although, unles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lustra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, such as,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s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as, instead of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Tone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know your reader and/or they’re older tha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school govern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ter to a shop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know your reader well and/or you’re the same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your year group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y and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ice for a frie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Let’s Look At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lanning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ext Types – A Reminde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 F A (FAP)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y was it wr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at type of tex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o was it written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Planning Technique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question.  Make sur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/underline/highlight key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down what you think the PFA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, you are focused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tructure and Paragraph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Beginn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Have you ever wondered how man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The subject I am going to wri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Midd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16:58Z</dcterms:created>
  <dc:creator>al</dc:creator>
  <dc:description/>
  <dc:language>en-US</dc:language>
  <cp:lastModifiedBy>RomaK</cp:lastModifiedBy>
  <dcterms:modified xsi:type="dcterms:W3CDTF">2015-09-02T09:42:57Z</dcterms:modified>
  <cp:revision>15</cp:revision>
  <dc:subject/>
  <dc:title>SATs Revision</dc:title>
</cp:coreProperties>
</file>