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whoosh.wav" ContentType="audio/x-wav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type.wav" ContentType="audio/x-wav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A53E-11B3-4A61-AB08-4AD06E4DD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0EF-B7FF-4D24-AA5A-CEEA7945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225-AA0F-4A31-8D6D-34E3FB18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801-D633-4518-BA48-248D151B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3C3-AE19-422F-A8ED-D100712F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84C6-B44C-4309-A154-512C1673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4EE4-C726-49D4-84C2-ED64AFAC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F4AC-E2A5-43C3-98F0-872C5A00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50AE-B04A-4A8D-B16B-7AF5DC38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6822-95D7-46B1-8447-FDAE18B1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48CD-55EA-4BC7-9F8A-1F9DDED1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8F68-A204-4E04-9978-B1A58543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853-0FF1-4982-AD83-832CC058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00A9-F141-4828-AC92-6F31D6A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42D5-875D-4C52-899B-D8D3981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C19E-109B-47DC-BA35-CCAE37BF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3D94-7357-4682-A36A-D0798E22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82EA-25D9-4A09-9363-F816199D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4D5-7A12-40F0-954F-CEE0C3A6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165-290D-4083-BBFB-B4E89D06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B6D-5126-401B-BB8C-BF76BD3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C66-7979-4DC1-A7E2-2BF9E89F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3DE-E4BF-422B-81CD-43BAAF6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800-95F3-4D5E-A6F7-1D31C44D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138-4627-4C14-9253-BD05FDC7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FBD2-4D08-446B-8AA5-F52A59ED4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3FC6-CB70-4F70-9EC5-1DF6E19F0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main ideas.  The “message” the writer intends to communicate by telling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j0158031"/>
          <p:cNvPicPr/>
          <p:nvPr/>
        </p:nvPicPr>
        <p:blipFill>
          <a:blip r:embed="rId2"/>
          <a:stretch/>
        </p:blipFill>
        <p:spPr>
          <a:xfrm>
            <a:off x="4952880" y="2203560"/>
            <a:ext cx="373392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int of view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sition of the narrator of the story and what the writer sees from that vantag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j0158055"/>
          <p:cNvPicPr/>
          <p:nvPr/>
        </p:nvPicPr>
        <p:blipFill>
          <a:blip r:embed="rId2"/>
          <a:stretch/>
        </p:blipFill>
        <p:spPr>
          <a:xfrm>
            <a:off x="4952880" y="208116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75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666880" y="91440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Short 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Definition of a Short Sto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about a single event or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al (not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0 to 15,000 word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 beginning, middle,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impression on the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1828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g00428_"/>
          <p:cNvPicPr/>
          <p:nvPr/>
        </p:nvPicPr>
        <p:blipFill>
          <a:blip r:embed="rId6"/>
          <a:stretch/>
        </p:blipFill>
        <p:spPr>
          <a:xfrm>
            <a:off x="4952880" y="2327400"/>
            <a:ext cx="3733920" cy="296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Tells the reader where and when the story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na01062_"/>
          <p:cNvPicPr/>
          <p:nvPr/>
        </p:nvPicPr>
        <p:blipFill>
          <a:blip r:embed="rId2"/>
          <a:stretch/>
        </p:blipFill>
        <p:spPr>
          <a:xfrm>
            <a:off x="4952880" y="2144880"/>
            <a:ext cx="3733920" cy="33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iz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imaginary people who appear to be real to the reader.  The writer gives information about the characters in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9" descr="pe01832_"/>
          <p:cNvPicPr/>
          <p:nvPr/>
        </p:nvPicPr>
        <p:blipFill>
          <a:blip r:embed="rId2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events through which the writer reveals what is happening, to whom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pe02097_"/>
          <p:cNvPicPr/>
          <p:nvPr/>
        </p:nvPicPr>
        <p:blipFill>
          <a:blip r:embed="rId2"/>
          <a:stretch/>
        </p:blipFill>
        <p:spPr>
          <a:xfrm>
            <a:off x="4952880" y="2314440"/>
            <a:ext cx="3733920" cy="29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lic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roblem in the story that needs to be re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6990_"/>
          <p:cNvPicPr/>
          <p:nvPr/>
        </p:nvPicPr>
        <p:blipFill>
          <a:blip r:embed="rId2"/>
          <a:stretch/>
        </p:blipFill>
        <p:spPr>
          <a:xfrm>
            <a:off x="4952880" y="2224080"/>
            <a:ext cx="373392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max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action comes to its highest point of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pe01496_"/>
          <p:cNvPicPr/>
          <p:nvPr/>
        </p:nvPicPr>
        <p:blipFill>
          <a:blip r:embed="rId2"/>
          <a:stretch/>
        </p:blipFill>
        <p:spPr>
          <a:xfrm>
            <a:off x="5086440" y="17524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olution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action after the climax until the end of the story. The “conclusion” of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pe01476_"/>
          <p:cNvPicPr/>
          <p:nvPr/>
        </p:nvPicPr>
        <p:blipFill>
          <a:blip r:embed="rId2"/>
          <a:stretch/>
        </p:blipFill>
        <p:spPr>
          <a:xfrm>
            <a:off x="4984920" y="1752480"/>
            <a:ext cx="3668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17:08Z</dcterms:created>
  <dc:creator>Jerald and Mary Ellington</dc:creator>
  <dc:description/>
  <dc:language>en-US</dc:language>
  <cp:lastModifiedBy>RomaK</cp:lastModifiedBy>
  <dcterms:modified xsi:type="dcterms:W3CDTF">2015-09-02T09:43:49Z</dcterms:modified>
  <cp:revision>10</cp:revision>
  <dc:subject/>
  <dc:title>how to write a short story</dc:title>
</cp:coreProperties>
</file>