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whoosh.wav" ContentType="audio/x-wav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type.wav" ContentType="audio/x-wav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0C17-AF68-4809-B392-0FD0FA85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E86-52FC-4CB3-90A0-5CAA188F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47E-FE0A-4798-9479-C86F9F28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61C-1940-415A-B8E4-8C4E50E2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FFF-7A1A-48B9-AC7E-40D79F25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B1F3-4462-4CB8-A2E5-056673C4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FC93-CE65-4739-A897-68AC4F6D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7E8B-BF57-4F8D-A06A-9CE523C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D21D-3AA4-470C-A564-995B06B4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3B4C-91CA-42CB-81A0-ECA2F293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47AC-D74A-4AA3-9B55-31AA5352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94B1-1465-4436-A333-95AACA57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F6C-D4A2-4707-817D-FC3EB95A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631C-19EE-469C-824C-F3EB9A7A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1EC4-26FA-4959-9A5A-D419E729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5042-3CEE-4D6F-B478-32E08DB9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6424-4DF1-4E5D-B470-EB73648B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101B-62E0-4B6D-B363-25BFE0F4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5CB-569D-4CB9-A133-5B275FA7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921-F689-4F85-B7A2-96A6F76D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375-073B-4377-BCED-5A7011BA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D6F-008B-43BE-979F-0D40A30B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7BE-3860-4B54-A02F-883DC923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127-CD7C-4ED7-80C0-541F30E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415-BC74-4781-8C3C-174A48B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FBE5-A4A5-47A3-97A2-57597B62E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1B2D-0D74-4AFC-AEEF-CCEE1073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main ideas.  The “message” the writer intends to communicate by telling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j0158031"/>
          <p:cNvPicPr/>
          <p:nvPr/>
        </p:nvPicPr>
        <p:blipFill>
          <a:blip r:embed="rId2"/>
          <a:stretch/>
        </p:blipFill>
        <p:spPr>
          <a:xfrm>
            <a:off x="4952880" y="2203560"/>
            <a:ext cx="373392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int of view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sition of the narrator of the story and what the writer sees from that vantag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j0158055"/>
          <p:cNvPicPr/>
          <p:nvPr/>
        </p:nvPicPr>
        <p:blipFill>
          <a:blip r:embed="rId2"/>
          <a:stretch/>
        </p:blipFill>
        <p:spPr>
          <a:xfrm>
            <a:off x="4952880" y="208116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75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666880" y="91440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Short 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Definition of a Short Sto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about a single event or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al (not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0 to 15,000 word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 beginning, middle,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impression on the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1828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g00428_"/>
          <p:cNvPicPr/>
          <p:nvPr/>
        </p:nvPicPr>
        <p:blipFill>
          <a:blip r:embed="rId6"/>
          <a:stretch/>
        </p:blipFill>
        <p:spPr>
          <a:xfrm>
            <a:off x="4952880" y="2327400"/>
            <a:ext cx="3733920" cy="296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Tells the reader where and when the story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na01062_"/>
          <p:cNvPicPr/>
          <p:nvPr/>
        </p:nvPicPr>
        <p:blipFill>
          <a:blip r:embed="rId2"/>
          <a:stretch/>
        </p:blipFill>
        <p:spPr>
          <a:xfrm>
            <a:off x="4952880" y="2144880"/>
            <a:ext cx="3733920" cy="33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iz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imaginary people who appear to be real to the reader.  The writer gives information about the characters in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9" descr="pe01832_"/>
          <p:cNvPicPr/>
          <p:nvPr/>
        </p:nvPicPr>
        <p:blipFill>
          <a:blip r:embed="rId2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events through which the writer reveals what is happening, to whom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pe02097_"/>
          <p:cNvPicPr/>
          <p:nvPr/>
        </p:nvPicPr>
        <p:blipFill>
          <a:blip r:embed="rId2"/>
          <a:stretch/>
        </p:blipFill>
        <p:spPr>
          <a:xfrm>
            <a:off x="4952880" y="2314440"/>
            <a:ext cx="3733920" cy="29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lic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roblem in the story that needs to be re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6990_"/>
          <p:cNvPicPr/>
          <p:nvPr/>
        </p:nvPicPr>
        <p:blipFill>
          <a:blip r:embed="rId2"/>
          <a:stretch/>
        </p:blipFill>
        <p:spPr>
          <a:xfrm>
            <a:off x="4952880" y="2224080"/>
            <a:ext cx="373392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max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action comes to its highest point of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pe01496_"/>
          <p:cNvPicPr/>
          <p:nvPr/>
        </p:nvPicPr>
        <p:blipFill>
          <a:blip r:embed="rId2"/>
          <a:stretch/>
        </p:blipFill>
        <p:spPr>
          <a:xfrm>
            <a:off x="5086440" y="17524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olution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action after the climax until the end of the story. The “conclusion” of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pe01476_"/>
          <p:cNvPicPr/>
          <p:nvPr/>
        </p:nvPicPr>
        <p:blipFill>
          <a:blip r:embed="rId2"/>
          <a:stretch/>
        </p:blipFill>
        <p:spPr>
          <a:xfrm>
            <a:off x="4984920" y="1752480"/>
            <a:ext cx="3668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17:08Z</dcterms:created>
  <dc:creator>Jerald and Mary Ellington</dc:creator>
  <dc:description/>
  <dc:language>en-US</dc:language>
  <cp:lastModifiedBy>RomaK</cp:lastModifiedBy>
  <dcterms:modified xsi:type="dcterms:W3CDTF">2015-09-02T09:43:49Z</dcterms:modified>
  <cp:revision>10</cp:revision>
  <dc:subject/>
  <dc:title>how to write a short story</dc:title>
</cp:coreProperties>
</file>