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whoosh.wav" ContentType="audio/x-wav"/>
  <Override PartName="/ppt/media/image5.png" ContentType="image/png"/>
  <Override PartName="/ppt/media/image13.wmf" ContentType="image/x-wmf"/>
  <Override PartName="/ppt/media/image8.wmf" ContentType="image/x-wmf"/>
  <Override PartName="/ppt/media/image10.wmf" ContentType="image/x-wmf"/>
  <Override PartName="/ppt/media/type.wav" ContentType="audio/x-wav"/>
  <Override PartName="/ppt/media/image14.wmf" ContentType="image/x-wmf"/>
  <Override PartName="/ppt/media/image12.wmf" ContentType="image/x-wmf"/>
  <Override PartName="/ppt/media/carbrake.wav" ContentType="audio/x-wav"/>
  <Override PartName="/ppt/media/image1.png" ContentType="image/png"/>
  <Override PartName="/ppt/media/image2.jpeg" ContentType="image/jpeg"/>
  <Override PartName="/ppt/media/image6.wmf" ContentType="image/x-wmf"/>
  <Override PartName="/ppt/media/image3.png" ContentType="image/png"/>
  <Override PartName="/ppt/media/image11.wmf" ContentType="image/x-wmf"/>
  <Override PartName="/ppt/media/image4.gif" ContentType="image/gif"/>
  <Override PartName="/ppt/media/image7.png" ContentType="image/png"/>
  <Override PartName="/ppt/media/image15.wmf" ContentType="image/x-wmf"/>
  <Override PartName="/ppt/media/camera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68591-6012-4F2E-9548-4FFF55E00D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of a Short 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of a Short 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me: The story’s main ideas.  The “message” the writer intends to communicate by telling the s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me: The story’s main ideas.  The “message” the writer intends to communicate by telling the s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 of view: The position of the narrator of the story and what the writer sees from that vantage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 of view: The position of the narrator of the story and what the writer sees from that vantage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of a Short 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li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 of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of a Short 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li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 of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 writers are able to use the elements of the short story with such precision that the reader is caught up in the action of the story.  This is a mark of a good story and our goal as a wri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 writers are able to use the elements of the short story with such precision that the reader is caught up in the action of the story.  This is a mark of a good story and our goal as a wri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 of a Short 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ls about a single event or experie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ctional (not tr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0 to 15,000 words in 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has a beginning, middle, and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 an impression on the r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 of a Short 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ls about a single event or experie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ctional (not tr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0 to 15,000 words in 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has a beginning, middle, and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 an impression on the r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of a Short 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li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 of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of a Short 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li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 of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ting:Tells the reader where and when the story takes pl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ting:Tells the reader where and when the story takes pl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zation: Creation of imaginary people who appear to be real to the reader.  The writer gives information about the characters in the s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zation: Creation of imaginary people who appear to be real to the reader.  The writer gives information about the characters in the s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ot: A series of events through which the writer reveals what is happening, to whom, and wh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ot: A series of events through which the writer reveals what is happening, to whom, and wh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lict: Is a problem in the story that needs to be resol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lict: Is a problem in the story that needs to be resol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max: When the action comes to its highest point of confli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max: When the action comes to its highest point of confli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ution: The story’s action after the climax until the end of the story. The “conclusion” of the s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ution: The story’s action after the climax until the end of the story. The “conclusion” of the s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6244-F56C-4C54-9B30-6663937E9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8D80-69DA-497B-BA52-66930291F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B8DE-421C-4232-B44B-F16520AB5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0832-26C7-4B55-BD6A-E54B45186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BC5EF-2F48-45A3-ABC7-00951F2B9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D791A-0CCC-454E-AC75-E128A6C91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69B45-D591-4791-BE2B-7031B722B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3FBAD-2386-45FA-96DC-5ABE60FEB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9CD2F-C0E3-4CEF-87E9-0308CE1FE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679E7-BA43-42FB-91AB-E44FDE4EC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3ECF4-03A6-436C-8DBE-223E3479F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34A9-4FE6-4D33-8609-C4CED8D12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8671E-C0A9-4F73-A3EB-E0DADEFC2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796B8-6438-4691-AACA-1267C81D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C1C1B-6070-471B-BBCE-C6CB140D5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42F3D-D5EF-47A5-B64E-27533FFB6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91D7D-D186-40BA-8655-5C5350D01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CFC5-AC4C-468C-B34F-101C9A9CB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CFC6-8C9B-4CA0-A5EC-8280223ED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B064-1731-49D8-889C-3A532C5A0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F98F-E32E-4170-9DE9-9F6EBB80B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B278-17C4-417F-83E2-7F73A97F5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9990-3D03-4A20-BEEC-7B2517277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8050-FBE8-4BB8-A9F4-767DE79F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2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3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68D74-0AF8-426D-9B5D-7DA644EF58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BFE82-CB5A-4017-ABB9-43F97E2BFC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wmf"/><Relationship Id="rId3" Type="http://schemas.openxmlformats.org/officeDocument/2006/relationships/audio" Target="../media/camera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wmf"/><Relationship Id="rId3" Type="http://schemas.openxmlformats.org/officeDocument/2006/relationships/audio" Target="../media/camera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audio" Target="../media/type.wav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audio" Target="../media/camera.wav"/><Relationship Id="rId17" Type="http://schemas.openxmlformats.org/officeDocument/2006/relationships/audio" Target="../media/camera.wav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audio" Target="../media/camera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wmf"/><Relationship Id="rId3" Type="http://schemas.openxmlformats.org/officeDocument/2006/relationships/audio" Target="../media/camera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wmf"/><Relationship Id="rId3" Type="http://schemas.openxmlformats.org/officeDocument/2006/relationships/audio" Target="../media/camera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wmf"/><Relationship Id="rId3" Type="http://schemas.openxmlformats.org/officeDocument/2006/relationships/audio" Target="../media/camera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wmf"/><Relationship Id="rId3" Type="http://schemas.openxmlformats.org/officeDocument/2006/relationships/audio" Target="../media/camera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Comic Sans MS"/>
              </a:rPr>
              <a:t>Elements of a Short Stor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Comic Sans MS"/>
              </a:rPr>
              <a:t>Short Story Vocabulary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me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story’s main ideas.  The “message” the writer intends to communicate by telling the s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7" descr="j0158031"/>
          <p:cNvPicPr/>
          <p:nvPr/>
        </p:nvPicPr>
        <p:blipFill>
          <a:blip r:embed="rId2"/>
          <a:stretch/>
        </p:blipFill>
        <p:spPr>
          <a:xfrm>
            <a:off x="4952880" y="2203560"/>
            <a:ext cx="3733920" cy="3213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7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Comic Sans MS"/>
              </a:rPr>
              <a:t>Short Story Vocabulary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oint of view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osition of the narrator of the story and what the writer sees from that vantage poi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9" descr="j0158055"/>
          <p:cNvPicPr/>
          <p:nvPr/>
        </p:nvPicPr>
        <p:blipFill>
          <a:blip r:embed="rId2"/>
          <a:stretch/>
        </p:blipFill>
        <p:spPr>
          <a:xfrm>
            <a:off x="4952880" y="2081160"/>
            <a:ext cx="3733920" cy="3456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6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Comic Sans MS"/>
              </a:rPr>
              <a:t>Elements of a Short Stor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t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racter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fli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m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int of 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4" descr="pe01460_"/>
          <p:cNvPicPr/>
          <p:nvPr/>
        </p:nvPicPr>
        <p:blipFill>
          <a:blip r:embed="rId9"/>
          <a:stretch/>
        </p:blipFill>
        <p:spPr>
          <a:xfrm>
            <a:off x="5164200" y="1752480"/>
            <a:ext cx="3309840" cy="41148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75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75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75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75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75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75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75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75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625760" y="274320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eat writers are able to use the elements of the short story with such precision that the reader is caught up in the action of the story.  This is a mark of a good story and our goal as a wri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WordArt 4"/>
          <p:cNvSpPr txBox="1"/>
          <p:nvPr/>
        </p:nvSpPr>
        <p:spPr>
          <a:xfrm>
            <a:off x="2666880" y="914400"/>
            <a:ext cx="44197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Comic Sans MS"/>
              </a:rPr>
              <a:t>Short Stor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</p:spTree>
  </p:cSld>
  <p:transition>
    <p:dissolve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1304"/>
                </a:solidFill>
                <a:latin typeface="Comic Sans MS"/>
              </a:rPr>
              <a:t>Definition of a Short Story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ells about a single event or experie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ctional (not tru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0 to 15,000 words in 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t has a beginning, middle, and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reates an impression on the r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1143000" y="1828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11" descr="ag00428_"/>
          <p:cNvPicPr/>
          <p:nvPr/>
        </p:nvPicPr>
        <p:blipFill>
          <a:blip r:embed="rId6"/>
          <a:stretch/>
        </p:blipFill>
        <p:spPr>
          <a:xfrm>
            <a:off x="4952880" y="2327400"/>
            <a:ext cx="3733920" cy="29638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Comic Sans MS"/>
              </a:rPr>
              <a:t>Elements of a Short Stor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t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racter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fli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m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int of 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5" descr="pe01460_"/>
          <p:cNvPicPr/>
          <p:nvPr/>
        </p:nvPicPr>
        <p:blipFill>
          <a:blip r:embed="rId9"/>
          <a:stretch/>
        </p:blipFill>
        <p:spPr>
          <a:xfrm>
            <a:off x="5164200" y="1752480"/>
            <a:ext cx="3309840" cy="41148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1304"/>
                </a:solidFill>
                <a:latin typeface="Comic Sans MS"/>
              </a:rPr>
              <a:t>Short Story Vocabulary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ttin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Tells the reader where and when the story takes pl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5" descr="na01062_"/>
          <p:cNvPicPr/>
          <p:nvPr/>
        </p:nvPicPr>
        <p:blipFill>
          <a:blip r:embed="rId2"/>
          <a:stretch/>
        </p:blipFill>
        <p:spPr>
          <a:xfrm>
            <a:off x="4952880" y="2144880"/>
            <a:ext cx="3733920" cy="33289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1304"/>
                </a:solidFill>
                <a:latin typeface="Comic Sans MS"/>
              </a:rPr>
              <a:t>Short Story Vocabulary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haracterization: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reation of imaginary people who appear to be real to the reader.  The writer gives information about the characters in the sto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1029" descr="pe01832_"/>
          <p:cNvPicPr/>
          <p:nvPr/>
        </p:nvPicPr>
        <p:blipFill>
          <a:blip r:embed="rId2"/>
          <a:stretch/>
        </p:blipFill>
        <p:spPr>
          <a:xfrm>
            <a:off x="4952880" y="2103480"/>
            <a:ext cx="3733920" cy="3411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2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Comic Sans MS"/>
              </a:rPr>
              <a:t>Short Story Vocabulary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lot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series of events through which the writer reveals what is happening, to whom, and wh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5" descr="pe02097_"/>
          <p:cNvPicPr/>
          <p:nvPr/>
        </p:nvPicPr>
        <p:blipFill>
          <a:blip r:embed="rId2"/>
          <a:stretch/>
        </p:blipFill>
        <p:spPr>
          <a:xfrm>
            <a:off x="4952880" y="2314440"/>
            <a:ext cx="3733920" cy="2989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4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Comic Sans MS"/>
              </a:rPr>
              <a:t>Short Story Vocabulary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flict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a problem in the story that needs to be resolv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5" descr="bd06990_"/>
          <p:cNvPicPr/>
          <p:nvPr/>
        </p:nvPicPr>
        <p:blipFill>
          <a:blip r:embed="rId2"/>
          <a:stretch/>
        </p:blipFill>
        <p:spPr>
          <a:xfrm>
            <a:off x="4952880" y="2224080"/>
            <a:ext cx="3733920" cy="31701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Comic Sans MS"/>
              </a:rPr>
              <a:t>Short Story Vocabulary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max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the action comes to its highest point of confli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5" descr="pe01496_"/>
          <p:cNvPicPr/>
          <p:nvPr/>
        </p:nvPicPr>
        <p:blipFill>
          <a:blip r:embed="rId2"/>
          <a:stretch/>
        </p:blipFill>
        <p:spPr>
          <a:xfrm>
            <a:off x="5086440" y="1752480"/>
            <a:ext cx="3467160" cy="4114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Comic Sans MS"/>
              </a:rPr>
              <a:t>Short Story Vocabulary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solution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story’s action after the climax until the end of the story. The “conclusion” of the s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5" descr="pe01476_"/>
          <p:cNvPicPr/>
          <p:nvPr/>
        </p:nvPicPr>
        <p:blipFill>
          <a:blip r:embed="rId2"/>
          <a:stretch/>
        </p:blipFill>
        <p:spPr>
          <a:xfrm>
            <a:off x="4984920" y="1752480"/>
            <a:ext cx="3668400" cy="41148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9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1T07:17:08Z</dcterms:created>
  <dc:creator>Jerald and Mary Ellington</dc:creator>
  <dc:description/>
  <dc:language>en-US</dc:language>
  <cp:lastModifiedBy>RomaK</cp:lastModifiedBy>
  <dcterms:modified xsi:type="dcterms:W3CDTF">2015-09-02T09:43:49Z</dcterms:modified>
  <cp:revision>10</cp:revision>
  <dc:subject/>
  <dc:title>how to write a short story</dc:title>
</cp:coreProperties>
</file>