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5.wmf" ContentType="image/x-wmf"/>
  <Override PartName="/ppt/media/image22.jpeg" ContentType="image/jpeg"/>
  <Override PartName="/ppt/media/image24.jpeg" ContentType="image/jpeg"/>
  <Override PartName="/ppt/media/image19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0.wmf" ContentType="image/x-wmf"/>
  <Override PartName="/ppt/media/image5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674B-6CBF-4DE9-80BB-37488CE7AB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iom Diction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abelle Ev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win Oaks 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dia Festi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to bite the bul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need to put up with this difficult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always stick to their g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s never change their opin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tal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ney influences a lot of peo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 hope you enjoyed my idiom presentation because I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nt over backwards to do it for you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n idi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pilled the be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told the secr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off my bac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 me alo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in stitch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ere laughing very har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kicked the bucke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fly a ki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w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to ki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was dressed in her finest cl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at the end of my rop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am so-o-o frustrat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F852-71F6-494B-8442-48FEE1102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76CF-0176-4959-B2E7-985A3C28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A405-BBF9-43F7-A9A1-A08899245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DAC0-A1C0-49E8-87EE-C29702DA8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D97F-8A8E-4489-BDDD-EE5C77A4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9F6A-374F-4D85-81B3-3CE01DAF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F6E67-CB16-4749-BA6E-22D2F758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9A4-ED70-4F56-ACB5-E231EB405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91B1-02D7-4D8D-B713-7478DEC79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2C2C8-8AE0-4261-A49F-5841BEEDD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3734-EAC3-4070-8734-528BD8D7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0B16-951A-4608-9D5C-7F932718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56D8-6251-4D91-AF64-23F0E15F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44BC-06BD-4D7D-B910-F4ACD870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2C3AE-4F67-4C9A-B6D2-0D7332AB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3B6C-0B7C-405C-9334-CC5E9B578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9686-4E93-48CE-8884-31D03026B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0D3C-7B81-4787-A246-31FA3B3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EB19-F5F6-468D-B5FF-81F04776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C1DE-4840-42BE-BA81-C1D7D186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B32E-E797-4AD7-B21B-48C29DAEB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1322-081E-4FA2-BEEA-5DECE66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D4B8-27F3-41E3-8E09-2B73E9E1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76F-4750-4B8C-BF78-921619CA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3.xml"/><Relationship Id="rId14" Type="http://schemas.openxmlformats.org/officeDocument/2006/relationships/slideLayout" Target="../slideLayouts/slideLayout14.xml"/><Relationship Id="rId15" Type="http://schemas.openxmlformats.org/officeDocument/2006/relationships/slideLayout" Target="../slideLayouts/slideLayout15.xml"/><Relationship Id="rId16" Type="http://schemas.openxmlformats.org/officeDocument/2006/relationships/slideLayout" Target="../slideLayouts/slideLayout16.xml"/><Relationship Id="rId17" Type="http://schemas.openxmlformats.org/officeDocument/2006/relationships/slideLayout" Target="../slideLayouts/slideLayout17.xml"/><Relationship Id="rId18" Type="http://schemas.openxmlformats.org/officeDocument/2006/relationships/slideLayout" Target="../slideLayouts/slideLayout18.xml"/><Relationship Id="rId19" Type="http://schemas.openxmlformats.org/officeDocument/2006/relationships/slideLayout" Target="../slideLayouts/slideLayout19.xml"/><Relationship Id="rId20" Type="http://schemas.openxmlformats.org/officeDocument/2006/relationships/slideLayout" Target="../slideLayouts/slideLayout20.xml"/><Relationship Id="rId21" Type="http://schemas.openxmlformats.org/officeDocument/2006/relationships/slideLayout" Target="../slideLayouts/slideLayout21.xml"/><Relationship Id="rId22" Type="http://schemas.openxmlformats.org/officeDocument/2006/relationships/slideLayout" Target="../slideLayouts/slideLayout22.xml"/><Relationship Id="rId23" Type="http://schemas.openxmlformats.org/officeDocument/2006/relationships/slideLayout" Target="../slideLayouts/slideLayout23.xml"/><Relationship Id="rId2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0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Group 57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Rectangle 8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Rectangle 9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Rectangle 10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Rectangle 11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Rectangle 12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Rectangle 13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4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5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Rectangle 16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Rectangle 17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Rectangle 18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Rectangle 19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Rectangle 20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Rectangle 21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Rectangle 22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Rectangle 23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Rectangle 24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Rectangle 25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" name="Line 27"/>
            <p:cNvSpPr/>
            <p:nvPr/>
          </p:nvSpPr>
          <p:spPr>
            <a:xfrm>
              <a:off x="228600" y="380880"/>
              <a:ext cx="8458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" name="Group 28"/>
            <p:cNvGrpSpPr/>
            <p:nvPr/>
          </p:nvGrpSpPr>
          <p:grpSpPr>
            <a:xfrm>
              <a:off x="228600" y="990720"/>
              <a:ext cx="304560" cy="304560"/>
              <a:chOff x="228600" y="990720"/>
              <a:chExt cx="304560" cy="304560"/>
            </a:xfrm>
          </p:grpSpPr>
          <p:sp>
            <p:nvSpPr>
              <p:cNvPr id="22" name="Rectangle 29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Rectangle 30"/>
              <p:cNvSpPr/>
              <p:nvPr/>
            </p:nvSpPr>
            <p:spPr>
              <a:xfrm>
                <a:off x="380880" y="114300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Rectangle 31"/>
              <p:cNvSpPr/>
              <p:nvPr/>
            </p:nvSpPr>
            <p:spPr>
              <a:xfrm>
                <a:off x="380880" y="99072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Rectangle 32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" name="Group 33"/>
            <p:cNvGrpSpPr/>
            <p:nvPr/>
          </p:nvGrpSpPr>
          <p:grpSpPr>
            <a:xfrm>
              <a:off x="228600" y="1905120"/>
              <a:ext cx="8381880" cy="0"/>
              <a:chOff x="228600" y="1905120"/>
              <a:chExt cx="8381880" cy="0"/>
            </a:xfrm>
          </p:grpSpPr>
          <p:sp>
            <p:nvSpPr>
              <p:cNvPr id="27" name="Line 34"/>
              <p:cNvSpPr/>
              <p:nvPr/>
            </p:nvSpPr>
            <p:spPr>
              <a:xfrm>
                <a:off x="228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5"/>
              <p:cNvSpPr/>
              <p:nvPr/>
            </p:nvSpPr>
            <p:spPr>
              <a:xfrm>
                <a:off x="990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Line 36"/>
              <p:cNvSpPr/>
              <p:nvPr/>
            </p:nvSpPr>
            <p:spPr>
              <a:xfrm>
                <a:off x="609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Line 37"/>
              <p:cNvSpPr/>
              <p:nvPr/>
            </p:nvSpPr>
            <p:spPr>
              <a:xfrm>
                <a:off x="1752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Line 38"/>
              <p:cNvSpPr/>
              <p:nvPr/>
            </p:nvSpPr>
            <p:spPr>
              <a:xfrm>
                <a:off x="1371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Line 39"/>
              <p:cNvSpPr/>
              <p:nvPr/>
            </p:nvSpPr>
            <p:spPr>
              <a:xfrm>
                <a:off x="2514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Line 40"/>
              <p:cNvSpPr/>
              <p:nvPr/>
            </p:nvSpPr>
            <p:spPr>
              <a:xfrm>
                <a:off x="2133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Line 41"/>
              <p:cNvSpPr/>
              <p:nvPr/>
            </p:nvSpPr>
            <p:spPr>
              <a:xfrm>
                <a:off x="3276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Line 42"/>
              <p:cNvSpPr/>
              <p:nvPr/>
            </p:nvSpPr>
            <p:spPr>
              <a:xfrm>
                <a:off x="2895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Line 43"/>
              <p:cNvSpPr/>
              <p:nvPr/>
            </p:nvSpPr>
            <p:spPr>
              <a:xfrm>
                <a:off x="4038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Line 44"/>
              <p:cNvSpPr/>
              <p:nvPr/>
            </p:nvSpPr>
            <p:spPr>
              <a:xfrm>
                <a:off x="3657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Line 45"/>
              <p:cNvSpPr/>
              <p:nvPr/>
            </p:nvSpPr>
            <p:spPr>
              <a:xfrm>
                <a:off x="4800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Line 46"/>
              <p:cNvSpPr/>
              <p:nvPr/>
            </p:nvSpPr>
            <p:spPr>
              <a:xfrm>
                <a:off x="4419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Line 47"/>
              <p:cNvSpPr/>
              <p:nvPr/>
            </p:nvSpPr>
            <p:spPr>
              <a:xfrm>
                <a:off x="5562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Line 48"/>
              <p:cNvSpPr/>
              <p:nvPr/>
            </p:nvSpPr>
            <p:spPr>
              <a:xfrm>
                <a:off x="5181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Line 49"/>
              <p:cNvSpPr/>
              <p:nvPr/>
            </p:nvSpPr>
            <p:spPr>
              <a:xfrm>
                <a:off x="632448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Line 50"/>
              <p:cNvSpPr/>
              <p:nvPr/>
            </p:nvSpPr>
            <p:spPr>
              <a:xfrm>
                <a:off x="5943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Line 51"/>
              <p:cNvSpPr/>
              <p:nvPr/>
            </p:nvSpPr>
            <p:spPr>
              <a:xfrm>
                <a:off x="708660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Line 52"/>
              <p:cNvSpPr/>
              <p:nvPr/>
            </p:nvSpPr>
            <p:spPr>
              <a:xfrm>
                <a:off x="67057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Line 53"/>
              <p:cNvSpPr/>
              <p:nvPr/>
            </p:nvSpPr>
            <p:spPr>
              <a:xfrm>
                <a:off x="78487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Line 54"/>
              <p:cNvSpPr/>
              <p:nvPr/>
            </p:nvSpPr>
            <p:spPr>
              <a:xfrm>
                <a:off x="746748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Line 55"/>
              <p:cNvSpPr/>
              <p:nvPr/>
            </p:nvSpPr>
            <p:spPr>
              <a:xfrm>
                <a:off x="822960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2BB6-4FA3-4201-A022-1221210B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85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91" name="Group 3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92" name="Rectangle 4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Rectangle 5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Rectangle 8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Rectangle 9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10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Rectangle 11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Rectangle 12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13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Rectangle 14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Rectangle 15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16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Rectangle 17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Rectangle 18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19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Rectangle 20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Rectangle 21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" name="Rectangle 57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29"/>
            <p:cNvGrpSpPr/>
            <p:nvPr/>
          </p:nvGrpSpPr>
          <p:grpSpPr>
            <a:xfrm>
              <a:off x="533520" y="1905120"/>
              <a:ext cx="8381880" cy="0"/>
              <a:chOff x="533520" y="1905120"/>
              <a:chExt cx="8381880" cy="0"/>
            </a:xfrm>
          </p:grpSpPr>
          <p:sp>
            <p:nvSpPr>
              <p:cNvPr id="112" name="Line 30"/>
              <p:cNvSpPr/>
              <p:nvPr/>
            </p:nvSpPr>
            <p:spPr>
              <a:xfrm>
                <a:off x="533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31"/>
              <p:cNvSpPr/>
              <p:nvPr/>
            </p:nvSpPr>
            <p:spPr>
              <a:xfrm>
                <a:off x="1295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32"/>
              <p:cNvSpPr/>
              <p:nvPr/>
            </p:nvSpPr>
            <p:spPr>
              <a:xfrm>
                <a:off x="914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2057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676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2819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2438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Line 37"/>
              <p:cNvSpPr/>
              <p:nvPr/>
            </p:nvSpPr>
            <p:spPr>
              <a:xfrm>
                <a:off x="3581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Line 38"/>
              <p:cNvSpPr/>
              <p:nvPr/>
            </p:nvSpPr>
            <p:spPr>
              <a:xfrm>
                <a:off x="3200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9"/>
              <p:cNvSpPr/>
              <p:nvPr/>
            </p:nvSpPr>
            <p:spPr>
              <a:xfrm>
                <a:off x="4343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40"/>
              <p:cNvSpPr/>
              <p:nvPr/>
            </p:nvSpPr>
            <p:spPr>
              <a:xfrm>
                <a:off x="3962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Line 41"/>
              <p:cNvSpPr/>
              <p:nvPr/>
            </p:nvSpPr>
            <p:spPr>
              <a:xfrm>
                <a:off x="5105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2"/>
              <p:cNvSpPr/>
              <p:nvPr/>
            </p:nvSpPr>
            <p:spPr>
              <a:xfrm>
                <a:off x="4724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3"/>
              <p:cNvSpPr/>
              <p:nvPr/>
            </p:nvSpPr>
            <p:spPr>
              <a:xfrm>
                <a:off x="5867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44"/>
              <p:cNvSpPr/>
              <p:nvPr/>
            </p:nvSpPr>
            <p:spPr>
              <a:xfrm>
                <a:off x="5486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45"/>
              <p:cNvSpPr/>
              <p:nvPr/>
            </p:nvSpPr>
            <p:spPr>
              <a:xfrm>
                <a:off x="6629400" y="190512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46"/>
              <p:cNvSpPr/>
              <p:nvPr/>
            </p:nvSpPr>
            <p:spPr>
              <a:xfrm>
                <a:off x="6248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47"/>
              <p:cNvSpPr/>
              <p:nvPr/>
            </p:nvSpPr>
            <p:spPr>
              <a:xfrm>
                <a:off x="739152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48"/>
              <p:cNvSpPr/>
              <p:nvPr/>
            </p:nvSpPr>
            <p:spPr>
              <a:xfrm>
                <a:off x="701064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49"/>
              <p:cNvSpPr/>
              <p:nvPr/>
            </p:nvSpPr>
            <p:spPr>
              <a:xfrm>
                <a:off x="8153640" y="190512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50"/>
              <p:cNvSpPr/>
              <p:nvPr/>
            </p:nvSpPr>
            <p:spPr>
              <a:xfrm>
                <a:off x="7772400" y="190512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Line 51"/>
              <p:cNvSpPr/>
              <p:nvPr/>
            </p:nvSpPr>
            <p:spPr>
              <a:xfrm>
                <a:off x="8534520" y="190512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84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135" name="Rectangle 25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6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27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Rectangle 28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58"/>
            <p:cNvGrpSpPr/>
            <p:nvPr/>
          </p:nvGrpSpPr>
          <p:grpSpPr>
            <a:xfrm>
              <a:off x="533520" y="3809880"/>
              <a:ext cx="8381880" cy="0"/>
              <a:chOff x="533520" y="3809880"/>
              <a:chExt cx="8381880" cy="0"/>
            </a:xfrm>
          </p:grpSpPr>
          <p:sp>
            <p:nvSpPr>
              <p:cNvPr id="140" name="Line 59"/>
              <p:cNvSpPr/>
              <p:nvPr/>
            </p:nvSpPr>
            <p:spPr>
              <a:xfrm>
                <a:off x="533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Line 60"/>
              <p:cNvSpPr/>
              <p:nvPr/>
            </p:nvSpPr>
            <p:spPr>
              <a:xfrm>
                <a:off x="1295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Line 61"/>
              <p:cNvSpPr/>
              <p:nvPr/>
            </p:nvSpPr>
            <p:spPr>
              <a:xfrm>
                <a:off x="914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Line 62"/>
              <p:cNvSpPr/>
              <p:nvPr/>
            </p:nvSpPr>
            <p:spPr>
              <a:xfrm>
                <a:off x="2057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Line 63"/>
              <p:cNvSpPr/>
              <p:nvPr/>
            </p:nvSpPr>
            <p:spPr>
              <a:xfrm>
                <a:off x="1676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Line 64"/>
              <p:cNvSpPr/>
              <p:nvPr/>
            </p:nvSpPr>
            <p:spPr>
              <a:xfrm>
                <a:off x="2819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65"/>
              <p:cNvSpPr/>
              <p:nvPr/>
            </p:nvSpPr>
            <p:spPr>
              <a:xfrm>
                <a:off x="2438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66"/>
              <p:cNvSpPr/>
              <p:nvPr/>
            </p:nvSpPr>
            <p:spPr>
              <a:xfrm>
                <a:off x="3581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67"/>
              <p:cNvSpPr/>
              <p:nvPr/>
            </p:nvSpPr>
            <p:spPr>
              <a:xfrm>
                <a:off x="3200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68"/>
              <p:cNvSpPr/>
              <p:nvPr/>
            </p:nvSpPr>
            <p:spPr>
              <a:xfrm>
                <a:off x="4343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69"/>
              <p:cNvSpPr/>
              <p:nvPr/>
            </p:nvSpPr>
            <p:spPr>
              <a:xfrm>
                <a:off x="3962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70"/>
              <p:cNvSpPr/>
              <p:nvPr/>
            </p:nvSpPr>
            <p:spPr>
              <a:xfrm>
                <a:off x="5105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71"/>
              <p:cNvSpPr/>
              <p:nvPr/>
            </p:nvSpPr>
            <p:spPr>
              <a:xfrm>
                <a:off x="4724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72"/>
              <p:cNvSpPr/>
              <p:nvPr/>
            </p:nvSpPr>
            <p:spPr>
              <a:xfrm>
                <a:off x="5867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Line 73"/>
              <p:cNvSpPr/>
              <p:nvPr/>
            </p:nvSpPr>
            <p:spPr>
              <a:xfrm>
                <a:off x="5486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Line 74"/>
              <p:cNvSpPr/>
              <p:nvPr/>
            </p:nvSpPr>
            <p:spPr>
              <a:xfrm>
                <a:off x="6629400" y="3809880"/>
                <a:ext cx="3812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Line 75"/>
              <p:cNvSpPr/>
              <p:nvPr/>
            </p:nvSpPr>
            <p:spPr>
              <a:xfrm>
                <a:off x="6248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Line 76"/>
              <p:cNvSpPr/>
              <p:nvPr/>
            </p:nvSpPr>
            <p:spPr>
              <a:xfrm>
                <a:off x="739152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Line 77"/>
              <p:cNvSpPr/>
              <p:nvPr/>
            </p:nvSpPr>
            <p:spPr>
              <a:xfrm>
                <a:off x="701064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Line 78"/>
              <p:cNvSpPr/>
              <p:nvPr/>
            </p:nvSpPr>
            <p:spPr>
              <a:xfrm>
                <a:off x="8153640" y="3809880"/>
                <a:ext cx="3808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Line 79"/>
              <p:cNvSpPr/>
              <p:nvPr/>
            </p:nvSpPr>
            <p:spPr>
              <a:xfrm>
                <a:off x="7772400" y="3809880"/>
                <a:ext cx="38124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Line 80"/>
              <p:cNvSpPr/>
              <p:nvPr/>
            </p:nvSpPr>
            <p:spPr>
              <a:xfrm>
                <a:off x="8534520" y="3809880"/>
                <a:ext cx="380880" cy="0"/>
              </a:xfrm>
              <a:prstGeom prst="line">
                <a:avLst/>
              </a:prstGeom>
              <a:ln w="5724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Rectangle 8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00A56-4896-4E99-9124-40825E148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3"/>
    <p:sldLayoutId id="2147483663" r:id="rId14"/>
    <p:sldLayoutId id="2147483664" r:id="rId15"/>
    <p:sldLayoutId id="2147483665" r:id="rId16"/>
    <p:sldLayoutId id="2147483666" r:id="rId17"/>
    <p:sldLayoutId id="2147483667" r:id="rId18"/>
    <p:sldLayoutId id="2147483668" r:id="rId19"/>
    <p:sldLayoutId id="2147483669" r:id="rId20"/>
    <p:sldLayoutId id="2147483670" r:id="rId21"/>
    <p:sldLayoutId id="2147483671" r:id="rId22"/>
    <p:sldLayoutId id="2147483672" r:id="rId23"/>
    <p:sldLayoutId id="2147483673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ugato.net/wp-content/bullet.gif&amp;imgrefurl=http://fugato.net/category/tech/&amp;h=248&amp;w=295&amp;sz=9&amp;hl=en&amp;start=3&amp;tbnid=3d73-eiow5wCEM:&amp;tbnh=97&amp;tbnw=115&amp;prev=/images%3Fq%3Dbullet%26svnum%3D10%26hl%3Den%26lr%3D%26sa%3DG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http://www.straight.com/images/FEA_Alt_Therapy_2_1915.jpg&amp;imgrefurl=http://www.straight.com/content.cfm%3Fid%3D4672&amp;h=215&amp;w=200&amp;sz=7&amp;hl=en&amp;start=39&amp;tbnid=k6XO9SqM2XqtpM:&amp;tbnh=106&amp;tbnw=99&amp;prev=/images%3Fq%3Dendure%2Bpain%26start%3D20%26ndsp%3D20%26svnum%3D10%26hl%3Den%26lr%3D%26sa%3DN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allrecipes.com/site/allrecipes/area/advice/gloss/150/PDC023HL.gif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rubinville.com/dailydave/uploaded_images/calves-whispering-796650.jpg&amp;imgrefurl=http://www.rubinville.com/dailydave/archives/2006_06_01_blogarchive.asp&amp;h=883&amp;w=744&amp;sz=57&amp;hl=en&amp;start=4&amp;tbnid=3EJjZZoYo_iFxM:&amp;tbnh=146&amp;tbnw=123&amp;prev=/images%3Fq%3Dwhispering%26svnum%3D10%26hl%3Den%26lr%3D%26sa%3DX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41.pbase.com/u16/henry/small/5152143.Getoffmyback.jpg&amp;imgrefurl=http://www.pbase.com/henry/first_gallery&amp;h=160&amp;w=141&amp;sz=6&amp;hl=en&amp;start=42&amp;tbnid=Lr5LiuCEl4MRMM:&amp;tbnh=98&amp;tbnw=86&amp;prev=/images%3Fq%3Dget%2Boff%2Bmy%2Bback%26start%3D40%26ndsp%3D20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/imgres?imgurl=http://www.happynews.com/living/sleep/getting-toddlers-sleep.jpg&amp;imgrefurl=http://www.happynews.com/living/sleep/getting-toddlers-sleep.htm&amp;h=240&amp;w=164&amp;sz=14&amp;hl=en&amp;start=59&amp;tbnid=QQp2DCeKRINXDM:&amp;tbnh=110&amp;tbnw=75&amp;prev=/images%3Fq%3Dsleep%26start%3D40%26ndsp%3D20%26svnum%3D10%26hl%3Den%26lr%3D%26sa%3DN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hs.lexingtonma.org/Teachers/Cordero/images/KITE6~1.GIF&amp;imgrefurl=http://lhs.lexingtonma.org/Teachers/Cordero/kiteproject/flying.html&amp;h=651&amp;w=565&amp;sz=5&amp;hl=en&amp;start=4&amp;tbnid=WbRvaR0xfmdWiM:&amp;tbnh=138&amp;tbnw=120&amp;prev=/images%3Fq%3Dflying%2Ba%2Bkite%26svnum%3D10%26hl%3Den%26lr%3D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g.slate.com/media/1/123125/122981/2111757/2123290/050725_Sh_BugSpray_tn.jpg" TargetMode="External"/><Relationship Id="rId4" Type="http://schemas.openxmlformats.org/officeDocument/2006/relationships/image" Target="../media/image1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nline.wsj.com/public/resources/images/OB-AB293_MEK_PH_20060521194750.jpg&amp;imgrefurl=http://online.wsj.com/article/SB114825659377759113.html&amp;h=241&amp;w=250&amp;sz=29&amp;hl=en&amp;start=18&amp;tbnid=0eONIHhhxJvjOM:&amp;tbnh=107&amp;tbnw=111&amp;prev=/images%3Fq%3Dfemale%2Bfighter%26svnum%3D10%26hl%3Den%26lr%3D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com/imgres?imgurl=http://www.peekundcloppenburg.de/puc_neu/media/web_saison_1_2006/ex_dob/1elegant/ex_dob_elegant1_gr.jpg&amp;imgrefurl=http://www.peekundcloppenburg.de/puc_neu/en/exquisit/ex-dob-sub1/ex-dob-sub1.html&amp;h=420&amp;w=300&amp;sz=30&amp;hl=en&amp;start=10&amp;tbnid=T9icCJ_nb1ogbM:&amp;tbnh=125&amp;tbnw=89&amp;prev=/images%3Fq%3Delegant%2Bwoman%26svnum%3D10%26hl%3Den%26lr%3D%26sa%3DG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wholeperson-counseling.org/gif/rope.gif&amp;imgrefurl=http://www.wholeperson-counseling.org/ndoc2/endofrope.html&amp;h=267&amp;w=200&amp;sz=11&amp;hl=en&amp;start=3&amp;tbnid=AmSQ4qjL69fSmM:&amp;tbnh=113&amp;tbnw=85&amp;prev=/images%3Fq%3Dend%2Bof%2Brope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uhca.com/frustrated.jpg&amp;imgrefurl=http://www.futureofmusicbook.com/&amp;h=352&amp;w=389&amp;sz=64&amp;hl=en&amp;start=2&amp;tbnid=TKQjheXPIkCrrM:&amp;tbnh=111&amp;tbnw=123&amp;prev=/images%3Fq%3Dfrustrated%26svnum%3D10%26hl%3Den%26lr%3D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diom Dictionar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29528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Isabelle Ev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Gwin Oaks Element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Media Festi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radley Hand ITC"/>
              </a:rPr>
              <a:t>200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j0213354.wav" descr=""/>
          <p:cNvPicPr/>
          <p:nvPr/>
        </p:nvPicPr>
        <p:blipFill>
          <a:blip r:embed="rId1"/>
          <a:stretch/>
        </p:blipFill>
        <p:spPr>
          <a:xfrm>
            <a:off x="7162920" y="54864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You have to bite the bulle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1" name="Picture 5" descr="bulle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362320"/>
            <a:ext cx="3595680" cy="30319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7" descr="FEA_Alt_Therapy_2_191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066680" y="2286000"/>
            <a:ext cx="2962440" cy="31719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8"/>
          <p:cNvSpPr/>
          <p:nvPr/>
        </p:nvSpPr>
        <p:spPr>
          <a:xfrm>
            <a:off x="5334120" y="1981080"/>
            <a:ext cx="33526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You need to put up with this difficult sit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MSj04310730000[1].wav" descr=""/>
          <p:cNvPicPr/>
          <p:nvPr/>
        </p:nvPicPr>
        <p:blipFill>
          <a:blip r:embed="rId5"/>
          <a:stretch/>
        </p:blipFill>
        <p:spPr>
          <a:xfrm>
            <a:off x="83059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9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10183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eachers always stick to their gu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6" descr="MCj03981370000[1]"/>
          <p:cNvPicPr/>
          <p:nvPr/>
        </p:nvPicPr>
        <p:blipFill>
          <a:blip r:embed="rId1"/>
          <a:stretch/>
        </p:blipFill>
        <p:spPr>
          <a:xfrm>
            <a:off x="1752480" y="2438280"/>
            <a:ext cx="3810240" cy="34862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MCj01991380000[1]"/>
          <p:cNvPicPr/>
          <p:nvPr/>
        </p:nvPicPr>
        <p:blipFill>
          <a:blip r:embed="rId2"/>
          <a:stretch/>
        </p:blipFill>
        <p:spPr>
          <a:xfrm>
            <a:off x="9372600" y="2895480"/>
            <a:ext cx="3038400" cy="954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1" descr="Protest-Father%2520and%2520Daughter"/>
          <p:cNvPicPr/>
          <p:nvPr/>
        </p:nvPicPr>
        <p:blipFill>
          <a:blip r:embed="rId3"/>
          <a:stretch/>
        </p:blipFill>
        <p:spPr>
          <a:xfrm>
            <a:off x="2133720" y="2209680"/>
            <a:ext cx="3120840" cy="414360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2"/>
          <p:cNvSpPr/>
          <p:nvPr/>
        </p:nvSpPr>
        <p:spPr>
          <a:xfrm>
            <a:off x="5486400" y="2514600"/>
            <a:ext cx="3429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Teachers never change their opin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MSj04310740000[1].wav" descr=""/>
          <p:cNvPicPr/>
          <p:nvPr/>
        </p:nvPicPr>
        <p:blipFill>
          <a:blip r:embed="rId4"/>
          <a:stretch/>
        </p:blipFill>
        <p:spPr>
          <a:xfrm>
            <a:off x="82296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96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718 -0.00278 L -0.61615 -0.01387 E">
                                      <p:cBhvr>
                                        <p:cTn id="400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2" dur="9614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Money tal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2" name="Picture 4" descr="MCj04109470000[1]"/>
          <p:cNvPicPr/>
          <p:nvPr/>
        </p:nvPicPr>
        <p:blipFill>
          <a:blip r:embed="rId1"/>
          <a:stretch/>
        </p:blipFill>
        <p:spPr>
          <a:xfrm>
            <a:off x="2743200" y="2590920"/>
            <a:ext cx="3903840" cy="340992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5"/>
          <p:cNvSpPr/>
          <p:nvPr/>
        </p:nvSpPr>
        <p:spPr>
          <a:xfrm>
            <a:off x="685800" y="3200400"/>
            <a:ext cx="1447920" cy="1295280"/>
          </a:xfrm>
          <a:prstGeom prst="wedgeRoundRectCallout">
            <a:avLst>
              <a:gd name="adj1" fmla="val 118750"/>
              <a:gd name="adj2" fmla="val 35050"/>
              <a:gd name="adj3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Have you heard about that new TV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7" descr="trump"/>
          <p:cNvPicPr/>
          <p:nvPr/>
        </p:nvPicPr>
        <p:blipFill>
          <a:blip r:embed="rId2"/>
          <a:stretch/>
        </p:blipFill>
        <p:spPr>
          <a:xfrm>
            <a:off x="3581280" y="2209680"/>
            <a:ext cx="2949840" cy="377676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8"/>
          <p:cNvSpPr/>
          <p:nvPr/>
        </p:nvSpPr>
        <p:spPr>
          <a:xfrm>
            <a:off x="380880" y="2514600"/>
            <a:ext cx="28958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Money influences a lot of peo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MSj04310720000[1].wav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9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1" dur="10193" fill="hold"/>
                                        <p:tgtEl>
                                          <p:spTgt spid="2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o I hope you enjoyed my idiom presentation because I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31240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bent over backwards to do it for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7" descr="MCj02858500000[1]"/>
          <p:cNvPicPr/>
          <p:nvPr/>
        </p:nvPicPr>
        <p:blipFill>
          <a:blip r:embed="rId1"/>
          <a:stretch/>
        </p:blipFill>
        <p:spPr>
          <a:xfrm>
            <a:off x="4572000" y="2286000"/>
            <a:ext cx="32400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n idio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eee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diom is an expression whose meaning cannot be understood based on the definition of its constitutional el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2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98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e spilled the bea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5" descr="PDC023H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2438280"/>
            <a:ext cx="3051000" cy="3200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calves-whispering-79665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2438280"/>
            <a:ext cx="3079800" cy="365760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6172200" y="2895480"/>
            <a:ext cx="2743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Bradley Hand ITC"/>
              </a:rPr>
              <a:t>He told the secr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MSj03369.wav" descr=""/>
          <p:cNvPicPr/>
          <p:nvPr/>
        </p:nvPicPr>
        <p:blipFill>
          <a:blip r:embed="rId5"/>
          <a:stretch/>
        </p:blipFill>
        <p:spPr>
          <a:xfrm>
            <a:off x="7086600" y="5257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440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et off my back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7" descr="51521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4600" y="1981080"/>
            <a:ext cx="3878280" cy="4419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getting-toddlers-slee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1981080"/>
            <a:ext cx="3012840" cy="44197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2362320" y="5029200"/>
            <a:ext cx="3902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Leave me alon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Sj03885280000[1].wav" descr=""/>
          <p:cNvPicPr/>
          <p:nvPr/>
        </p:nvPicPr>
        <p:blipFill>
          <a:blip r:embed="rId5"/>
          <a:stretch/>
        </p:blipFill>
        <p:spPr>
          <a:xfrm>
            <a:off x="80773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3041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We were in stitch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" name="Picture 7" descr="laughing%20chimps"/>
          <p:cNvPicPr/>
          <p:nvPr/>
        </p:nvPicPr>
        <p:blipFill>
          <a:blip r:embed="rId1"/>
          <a:stretch/>
        </p:blipFill>
        <p:spPr>
          <a:xfrm>
            <a:off x="3367080" y="2057400"/>
            <a:ext cx="3548160" cy="403848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685800" y="2666880"/>
            <a:ext cx="25909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We were laughing very har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9" descr="MCHH00757_0000[1]"/>
          <p:cNvPicPr/>
          <p:nvPr/>
        </p:nvPicPr>
        <p:blipFill>
          <a:blip r:embed="rId2"/>
          <a:stretch/>
        </p:blipFill>
        <p:spPr>
          <a:xfrm>
            <a:off x="3124080" y="2514600"/>
            <a:ext cx="2981520" cy="3962520"/>
          </a:xfrm>
          <a:prstGeom prst="rect">
            <a:avLst/>
          </a:prstGeom>
          <a:ln w="0">
            <a:noFill/>
          </a:ln>
        </p:spPr>
      </p:pic>
      <p:pic>
        <p:nvPicPr>
          <p:cNvPr id="230" name="MSj03369.wav" descr=""/>
          <p:cNvPicPr/>
          <p:nvPr/>
        </p:nvPicPr>
        <p:blipFill>
          <a:blip r:embed="rId3"/>
          <a:stretch/>
        </p:blipFill>
        <p:spPr>
          <a:xfrm>
            <a:off x="8534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9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7048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He kicked the bucket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Text Box 14"/>
          <p:cNvSpPr/>
          <p:nvPr/>
        </p:nvSpPr>
        <p:spPr>
          <a:xfrm>
            <a:off x="3352680" y="5425920"/>
            <a:ext cx="205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He di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15" descr="MCj02961050000[1]"/>
          <p:cNvPicPr/>
          <p:nvPr/>
        </p:nvPicPr>
        <p:blipFill>
          <a:blip r:embed="rId1"/>
          <a:stretch/>
        </p:blipFill>
        <p:spPr>
          <a:xfrm>
            <a:off x="2438280" y="1905120"/>
            <a:ext cx="428004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8" descr="MCSO01845_0000[1]"/>
          <p:cNvPicPr/>
          <p:nvPr/>
        </p:nvPicPr>
        <p:blipFill>
          <a:blip r:embed="rId2"/>
          <a:stretch/>
        </p:blipFill>
        <p:spPr>
          <a:xfrm>
            <a:off x="2590920" y="2133720"/>
            <a:ext cx="3794040" cy="3468600"/>
          </a:xfrm>
          <a:prstGeom prst="rect">
            <a:avLst/>
          </a:prstGeom>
          <a:ln w="0">
            <a:noFill/>
          </a:ln>
        </p:spPr>
      </p:pic>
      <p:pic>
        <p:nvPicPr>
          <p:cNvPr id="235" name="MSj03369.wav" descr=""/>
          <p:cNvPicPr/>
          <p:nvPr/>
        </p:nvPicPr>
        <p:blipFill>
          <a:blip r:embed="rId3"/>
          <a:stretch/>
        </p:blipFill>
        <p:spPr>
          <a:xfrm>
            <a:off x="82296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1" dur="1996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Go fly a kit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7" name="Picture 5" descr="KITE6~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2209680"/>
            <a:ext cx="3510000" cy="38862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7" descr="050725_Sh_BugSpray_tn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05320" y="2514600"/>
            <a:ext cx="2419200" cy="315288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8"/>
          <p:cNvSpPr/>
          <p:nvPr/>
        </p:nvSpPr>
        <p:spPr>
          <a:xfrm>
            <a:off x="5943600" y="35812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Go awa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MSj03385.wav" descr=""/>
          <p:cNvPicPr/>
          <p:nvPr/>
        </p:nvPicPr>
        <p:blipFill>
          <a:blip r:embed="rId5"/>
          <a:stretch/>
        </p:blipFill>
        <p:spPr>
          <a:xfrm>
            <a:off x="8077320" y="5867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" dur="1356" fill="hold"/>
                                        <p:tgtEl>
                                          <p:spTgt spid="2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She was dressed to kil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2" name="Picture 5" descr="OB-AB293_MEK_PH_2006052119475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3720" y="1981080"/>
            <a:ext cx="3805200" cy="36687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ex_dob_elegant1_gr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743200" y="1981080"/>
            <a:ext cx="2593800" cy="3643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8"/>
          <p:cNvSpPr/>
          <p:nvPr/>
        </p:nvSpPr>
        <p:spPr>
          <a:xfrm>
            <a:off x="68580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Lucida Handwriting"/>
              </a:rPr>
              <a:t>She was dressed in her finest clot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MSj03385.wav" descr=""/>
          <p:cNvPicPr/>
          <p:nvPr/>
        </p:nvPicPr>
        <p:blipFill>
          <a:blip r:embed="rId5"/>
          <a:stretch/>
        </p:blipFill>
        <p:spPr>
          <a:xfrm>
            <a:off x="8153280" y="5562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84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1627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I’m at the end of my rope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7" name="Picture 5" descr="rop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79840" y="2286000"/>
            <a:ext cx="2752560" cy="3657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frustra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62120" y="2209680"/>
            <a:ext cx="4647960" cy="419436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0"/>
          <p:cNvSpPr/>
          <p:nvPr/>
        </p:nvSpPr>
        <p:spPr>
          <a:xfrm>
            <a:off x="5638680" y="2286000"/>
            <a:ext cx="3200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Bradley Hand ITC"/>
              </a:rPr>
              <a:t>I am so-o-o frustrated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5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2T15:11:50Z</dcterms:created>
  <dc:creator>e199902597</dc:creator>
  <dc:description/>
  <cp:keywords/>
  <dc:language>en-US</dc:language>
  <cp:lastModifiedBy>RomaK</cp:lastModifiedBy>
  <dcterms:modified xsi:type="dcterms:W3CDTF">2015-09-02T09:43:57Z</dcterms:modified>
  <cp:revision>13</cp:revision>
  <dc:subject/>
  <dc:title>Idiom Dictiona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89971033</vt:lpwstr>
  </property>
</Properties>
</file>