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wmf" ContentType="image/x-wmf"/>
  <Override PartName="/ppt/media/image22.jpeg" ContentType="image/jpeg"/>
  <Override PartName="/ppt/media/image24.jpeg" ContentType="image/jpeg"/>
  <Override PartName="/ppt/media/image19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0B36-EBAC-4EF9-ACBB-7110903235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E72-E0FE-4B78-9743-C68B0722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38F-EF4A-4748-9634-F48B0294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1FE-A09B-4895-BEA5-5F3A97F1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29A-177C-4671-8E46-1B563AA5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E4A5-86DA-48C1-A390-B09CC9A0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46A7-5066-4B7D-8000-DEEEB943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FC80-5E17-4E44-AB08-5E2F7972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4928-77EC-4DB6-8B0D-5FB99BC5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8687-BC26-47D5-A384-98686938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1002-BA66-4B29-B73C-3692D651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50BF-AB54-4D70-A0F5-3F43F53C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CB1-E9C4-4103-A1FD-68B187D7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038A-8F5F-446F-84DF-3E1E86A3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3901-3888-4EA9-8959-95ACE382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CEDA-B006-492C-BDA6-62FDCE9D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8E68-4B9D-4C43-A37A-283FFD9A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87D7-5721-4061-8DAB-213529AF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8C87-FCF5-4324-8464-6BEBF3E7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61D-8F3A-4CE2-9B2A-3EFE6C40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0E9-00C5-4096-9AD9-238BD6DF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A66-AEC6-4567-8ACD-A67FA7D4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80A-C1D7-46E3-881D-388A0161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C03A-F34F-40DE-998D-47226EF9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0836-F5E4-458F-BC46-0A8FA678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57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8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9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10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11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12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4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5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6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7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8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9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20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21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22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23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4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7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8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9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30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31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32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33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34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5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6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7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8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9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40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41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42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43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44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5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6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7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8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9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50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51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52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53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54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5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EEE9-9BDD-4C8F-8C95-B1A837E7C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5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57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9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30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3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34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5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7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8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9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0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1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2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3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4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5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6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7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8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9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50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51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84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25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6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27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28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8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9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60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1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62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3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4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65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66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7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8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9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0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71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72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73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74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76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7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9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80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81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EAB3-5E5B-4910-899D-1E57796B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ugato.net/wp-content/bullet.gif&amp;imgrefurl=http://fugato.net/category/tech/&amp;h=248&amp;w=295&amp;sz=9&amp;hl=en&amp;start=3&amp;tbnid=3d73-eiow5wCEM:&amp;tbnh=97&amp;tbnw=115&amp;prev=/images%3Fq%3Dbullet%26svnum%3D10%26hl%3Den%26lr%3D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straight.com/images/FEA_Alt_Therapy_2_1915.jpg&amp;imgrefurl=http://www.straight.com/content.cfm%3Fid%3D4672&amp;h=215&amp;w=200&amp;sz=7&amp;hl=en&amp;start=39&amp;tbnid=k6XO9SqM2XqtpM:&amp;tbnh=106&amp;tbnw=99&amp;prev=/images%3Fq%3Dendure%2Bpain%26start%3D20%26ndsp%3D20%26svnum%3D10%26hl%3Den%26lr%3D%26sa%3D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allrecipes.com/site/allrecipes/area/advice/gloss/150/PDC023HL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rubinville.com/dailydave/uploaded_images/calves-whispering-796650.jpg&amp;imgrefurl=http://www.rubinville.com/dailydave/archives/2006_06_01_blogarchive.asp&amp;h=883&amp;w=744&amp;sz=57&amp;hl=en&amp;start=4&amp;tbnid=3EJjZZoYo_iFxM:&amp;tbnh=146&amp;tbnw=123&amp;prev=/images%3Fq%3Dwhispering%26svnum%3D10%26hl%3Den%26lr%3D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41.pbase.com/u16/henry/small/5152143.Getoffmyback.jpg&amp;imgrefurl=http://www.pbase.com/henry/first_gallery&amp;h=160&amp;w=141&amp;sz=6&amp;hl=en&amp;start=42&amp;tbnid=Lr5LiuCEl4MRMM:&amp;tbnh=98&amp;tbnw=86&amp;prev=/images%3Fq%3Dget%2Boff%2Bmy%2Bback%26start%3D40%26ndsp%3D20%26svnum%3D10%26hl%3Den%26lr%3D%26sa%3D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appynews.com/living/sleep/getting-toddlers-sleep.jpg&amp;imgrefurl=http://www.happynews.com/living/sleep/getting-toddlers-sleep.htm&amp;h=240&amp;w=164&amp;sz=14&amp;hl=en&amp;start=59&amp;tbnid=QQp2DCeKRINXDM:&amp;tbnh=110&amp;tbnw=75&amp;prev=/images%3Fq%3Dsleep%26start%3D40%26ndsp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hs.lexingtonma.org/Teachers/Cordero/images/KITE6~1.GIF&amp;imgrefurl=http://lhs.lexingtonma.org/Teachers/Cordero/kiteproject/flying.html&amp;h=651&amp;w=565&amp;sz=5&amp;hl=en&amp;start=4&amp;tbnid=WbRvaR0xfmdWiM:&amp;tbnh=138&amp;tbnw=120&amp;prev=/images%3Fq%3Dflying%2Ba%2Bkite%26svnum%3D10%26hl%3Den%26lr%3D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g.slate.com/media/1/123125/122981/2111757/2123290/050725_Sh_BugSpray_tn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nline.wsj.com/public/resources/images/OB-AB293_MEK_PH_20060521194750.jpg&amp;imgrefurl=http://online.wsj.com/article/SB114825659377759113.html&amp;h=241&amp;w=250&amp;sz=29&amp;hl=en&amp;start=18&amp;tbnid=0eONIHhhxJvjOM:&amp;tbnh=107&amp;tbnw=111&amp;prev=/images%3Fq%3Dfemale%2Bfighter%26svnum%3D10%26hl%3Den%26lr%3D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peekundcloppenburg.de/puc_neu/media/web_saison_1_2006/ex_dob/1elegant/ex_dob_elegant1_gr.jpg&amp;imgrefurl=http://www.peekundcloppenburg.de/puc_neu/en/exquisit/ex-dob-sub1/ex-dob-sub1.html&amp;h=420&amp;w=300&amp;sz=30&amp;hl=en&amp;start=10&amp;tbnid=T9icCJ_nb1ogbM:&amp;tbnh=125&amp;tbnw=89&amp;prev=/images%3Fq%3Delegant%2Bwoman%26svnum%3D10%26hl%3Den%26lr%3D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holeperson-counseling.org/gif/rope.gif&amp;imgrefurl=http://www.wholeperson-counseling.org/ndoc2/endofrope.html&amp;h=267&amp;w=200&amp;sz=11&amp;hl=en&amp;start=3&amp;tbnid=AmSQ4qjL69fSmM:&amp;tbnh=113&amp;tbnw=85&amp;prev=/images%3Fq%3Dend%2Bof%2Brope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uhca.com/frustrated.jpg&amp;imgrefurl=http://www.futureofmusicbook.com/&amp;h=352&amp;w=389&amp;sz=64&amp;hl=en&amp;start=2&amp;tbnid=TKQjheXPIkCrrM:&amp;tbnh=111&amp;tbnw=123&amp;prev=/images%3Fq%3Dfrustrated%26svnum%3D10%26hl%3Den%26lr%3D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iom Diction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sabelle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win Oaks 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Media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j0213354.wav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have to bite the bull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5" descr="bull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362320"/>
            <a:ext cx="3595680" cy="3031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FEA_Alt_Therapy_2_19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286000"/>
            <a:ext cx="2962440" cy="31719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5334120" y="1981080"/>
            <a:ext cx="335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You need to put up with this difficult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MSj04310730000[1].wav" descr=""/>
          <p:cNvPicPr/>
          <p:nvPr/>
        </p:nvPicPr>
        <p:blipFill>
          <a:blip r:embed="rId5"/>
          <a:stretch/>
        </p:blipFill>
        <p:spPr>
          <a:xfrm>
            <a:off x="83059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0183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achers always stick to their gu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6" descr="MCj03981370000[1]"/>
          <p:cNvPicPr/>
          <p:nvPr/>
        </p:nvPicPr>
        <p:blipFill>
          <a:blip r:embed="rId1"/>
          <a:stretch/>
        </p:blipFill>
        <p:spPr>
          <a:xfrm>
            <a:off x="1752480" y="2438280"/>
            <a:ext cx="3810240" cy="348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MCj01991380000[1]"/>
          <p:cNvPicPr/>
          <p:nvPr/>
        </p:nvPicPr>
        <p:blipFill>
          <a:blip r:embed="rId2"/>
          <a:stretch/>
        </p:blipFill>
        <p:spPr>
          <a:xfrm>
            <a:off x="9372600" y="2895480"/>
            <a:ext cx="3038400" cy="95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Protest-Father%2520and%2520Daughter"/>
          <p:cNvPicPr/>
          <p:nvPr/>
        </p:nvPicPr>
        <p:blipFill>
          <a:blip r:embed="rId3"/>
          <a:stretch/>
        </p:blipFill>
        <p:spPr>
          <a:xfrm>
            <a:off x="2133720" y="2209680"/>
            <a:ext cx="3120840" cy="4143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2"/>
          <p:cNvSpPr/>
          <p:nvPr/>
        </p:nvSpPr>
        <p:spPr>
          <a:xfrm>
            <a:off x="5486400" y="2514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Teachers never change their opin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MSj04310740000[1].wav" descr=""/>
          <p:cNvPicPr/>
          <p:nvPr/>
        </p:nvPicPr>
        <p:blipFill>
          <a:blip r:embed="rId4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18 -0.00278 L -0.61615 -0.01387 E">
                                      <p:cBhvr>
                                        <p:cTn id="40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9614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y tal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4" descr="MCj04109470000[1]"/>
          <p:cNvPicPr/>
          <p:nvPr/>
        </p:nvPicPr>
        <p:blipFill>
          <a:blip r:embed="rId1"/>
          <a:stretch/>
        </p:blipFill>
        <p:spPr>
          <a:xfrm>
            <a:off x="2743200" y="2590920"/>
            <a:ext cx="3903840" cy="3409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"/>
          <p:cNvSpPr/>
          <p:nvPr/>
        </p:nvSpPr>
        <p:spPr>
          <a:xfrm>
            <a:off x="685800" y="3200400"/>
            <a:ext cx="1447920" cy="1295280"/>
          </a:xfrm>
          <a:prstGeom prst="wedgeRoundRectCallout">
            <a:avLst>
              <a:gd name="adj1" fmla="val 118750"/>
              <a:gd name="adj2" fmla="val 35050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7" descr="trump"/>
          <p:cNvPicPr/>
          <p:nvPr/>
        </p:nvPicPr>
        <p:blipFill>
          <a:blip r:embed="rId2"/>
          <a:stretch/>
        </p:blipFill>
        <p:spPr>
          <a:xfrm>
            <a:off x="3581280" y="2209680"/>
            <a:ext cx="2949840" cy="37767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380880" y="2514600"/>
            <a:ext cx="289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Money influences a lot of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MSj04310720000[1].wav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0193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hope you enjoyed my idiom presentation because I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bent over backwards to do it for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7" descr="MCj02858500000[1]"/>
          <p:cNvPicPr/>
          <p:nvPr/>
        </p:nvPicPr>
        <p:blipFill>
          <a:blip r:embed="rId1"/>
          <a:stretch/>
        </p:blipFill>
        <p:spPr>
          <a:xfrm>
            <a:off x="4572000" y="2286000"/>
            <a:ext cx="3240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idio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spilled the b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DC023H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438280"/>
            <a:ext cx="305100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alves-whispering-7966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438280"/>
            <a:ext cx="30798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6172200" y="28954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radley Hand ITC"/>
              </a:rPr>
              <a:t>He told the sec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MSj03369.wav" descr=""/>
          <p:cNvPicPr/>
          <p:nvPr/>
        </p:nvPicPr>
        <p:blipFill>
          <a:blip r:embed="rId5"/>
          <a:stretch/>
        </p:blipFill>
        <p:spPr>
          <a:xfrm>
            <a:off x="70866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44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et off my bac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7" descr="5152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878280" cy="4419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getting-toddlers-slee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981080"/>
            <a:ext cx="3012840" cy="441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2362320" y="5029200"/>
            <a:ext cx="390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Leave me al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MSj03885280000[1].wav" descr=""/>
          <p:cNvPicPr/>
          <p:nvPr/>
        </p:nvPicPr>
        <p:blipFill>
          <a:blip r:embed="rId5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304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in stitch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laughing%20chimps"/>
          <p:cNvPicPr/>
          <p:nvPr/>
        </p:nvPicPr>
        <p:blipFill>
          <a:blip r:embed="rId1"/>
          <a:stretch/>
        </p:blipFill>
        <p:spPr>
          <a:xfrm>
            <a:off x="3367080" y="2057400"/>
            <a:ext cx="3548160" cy="4038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685800" y="2666880"/>
            <a:ext cx="2590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We were laughing very ha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MCHH00757_0000[1]"/>
          <p:cNvPicPr/>
          <p:nvPr/>
        </p:nvPicPr>
        <p:blipFill>
          <a:blip r:embed="rId2"/>
          <a:stretch/>
        </p:blipFill>
        <p:spPr>
          <a:xfrm>
            <a:off x="3124080" y="2514600"/>
            <a:ext cx="2981520" cy="3962520"/>
          </a:xfrm>
          <a:prstGeom prst="rect">
            <a:avLst/>
          </a:prstGeom>
          <a:ln w="0">
            <a:noFill/>
          </a:ln>
        </p:spPr>
      </p:pic>
      <p:pic>
        <p:nvPicPr>
          <p:cNvPr id="230" name="MSj03369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04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kicked the bucket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352680" y="54259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He 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5" descr="MCj0296105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280040" cy="378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MCSO01845_0000[1]"/>
          <p:cNvPicPr/>
          <p:nvPr/>
        </p:nvPicPr>
        <p:blipFill>
          <a:blip r:embed="rId2"/>
          <a:stretch/>
        </p:blipFill>
        <p:spPr>
          <a:xfrm>
            <a:off x="2590920" y="2133720"/>
            <a:ext cx="3794040" cy="3468600"/>
          </a:xfrm>
          <a:prstGeom prst="rect">
            <a:avLst/>
          </a:prstGeom>
          <a:ln w="0">
            <a:noFill/>
          </a:ln>
        </p:spPr>
      </p:pic>
      <p:pic>
        <p:nvPicPr>
          <p:cNvPr id="235" name="MSj03369.wav" descr=""/>
          <p:cNvPicPr/>
          <p:nvPr/>
        </p:nvPicPr>
        <p:blipFill>
          <a:blip r:embed="rId3"/>
          <a:stretch/>
        </p:blipFill>
        <p:spPr>
          <a:xfrm>
            <a:off x="8229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99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 fly a kit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KITE6~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09680"/>
            <a:ext cx="3510000" cy="3886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050725_Sh_BugSpray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514600"/>
            <a:ext cx="2419200" cy="315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943600" y="3581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Go aw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MSj03385.wav" descr=""/>
          <p:cNvPicPr/>
          <p:nvPr/>
        </p:nvPicPr>
        <p:blipFill>
          <a:blip r:embed="rId5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356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 dressed to k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OB-AB293_MEK_PH_200605211947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981080"/>
            <a:ext cx="3805200" cy="3668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ex_dob_elegant1_g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981080"/>
            <a:ext cx="2593800" cy="3643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685800" y="5667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Handwriting"/>
              </a:rPr>
              <a:t>She was dressed in her finest cl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MSj03385.wav" descr=""/>
          <p:cNvPicPr/>
          <p:nvPr/>
        </p:nvPicPr>
        <p:blipFill>
          <a:blip r:embed="rId5"/>
          <a:stretch/>
        </p:blipFill>
        <p:spPr>
          <a:xfrm>
            <a:off x="81532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62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m at the end of my rop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5" descr="ro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79840" y="2286000"/>
            <a:ext cx="2752560" cy="3657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frustra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209680"/>
            <a:ext cx="4647960" cy="4194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5638680" y="2286000"/>
            <a:ext cx="320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I am so-o-o frustrat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5:11:50Z</dcterms:created>
  <dc:creator>e199902597</dc:creator>
  <dc:description/>
  <cp:keywords/>
  <dc:language>en-US</dc:language>
  <cp:lastModifiedBy>RomaK</cp:lastModifiedBy>
  <dcterms:modified xsi:type="dcterms:W3CDTF">2015-09-02T09:43:57Z</dcterms:modified>
  <cp:revision>13</cp:revision>
  <dc:subject/>
  <dc:title>Idiom Diction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71033</vt:lpwstr>
  </property>
</Properties>
</file>