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21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A5F7-D4B6-4E36-88DB-D16C32CCF0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239-1C5F-4785-8471-67AB5A25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F65-A170-4899-822A-7B874D34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879-14E7-4730-AD72-67A84DD8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7A3-561D-4850-946E-B9AAF191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779-FDBB-484A-A890-C33BACC6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CD1-C71F-4D91-969D-C7590750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D1F-C83B-4587-9EDC-682EE9B8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81C-9A59-4180-87F0-233ABDC3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4C5-7EE7-423E-9AE6-B3BB8815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81B-4506-4FEE-B531-3D7FA200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EBC-0FCF-428F-ACA9-007D523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E76-66DA-47DF-996C-9E371C5B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2700-627D-4725-B74C-117353A293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_747073_victor300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little-britain-vicki-pollard"/>
          <p:cNvPicPr/>
          <p:nvPr/>
        </p:nvPicPr>
        <p:blipFill>
          <a:blip r:embed="rId1"/>
          <a:stretch/>
        </p:blipFill>
        <p:spPr>
          <a:xfrm>
            <a:off x="3995640" y="1916280"/>
            <a:ext cx="475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iennablue"/>
          <p:cNvPicPr/>
          <p:nvPr/>
        </p:nvPicPr>
        <p:blipFill>
          <a:blip r:embed="rId1"/>
          <a:stretch/>
        </p:blipFill>
        <p:spPr>
          <a:xfrm>
            <a:off x="4932360" y="1557360"/>
            <a:ext cx="3376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jp_carrie"/>
          <p:cNvPicPr/>
          <p:nvPr/>
        </p:nvPicPr>
        <p:blipFill>
          <a:blip r:embed="rId1"/>
          <a:stretch/>
        </p:blipFill>
        <p:spPr>
          <a:xfrm>
            <a:off x="4067280" y="1827360"/>
            <a:ext cx="48495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44:33Z</dcterms:created>
  <dc:creator>kh</dc:creator>
  <dc:description/>
  <dc:language>en-US</dc:language>
  <cp:lastModifiedBy>RomaK</cp:lastModifiedBy>
  <dcterms:modified xsi:type="dcterms:W3CDTF">2015-09-02T09:44:24Z</dcterms:modified>
  <cp:revision>8</cp:revision>
  <dc:subject/>
  <dc:title>Morphology</dc:title>
</cp:coreProperties>
</file>