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21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DDD3-F706-48F3-B3C6-8ADD81B76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8A5-D9E2-4898-A6A8-2682A4D5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F94-DB1F-4F90-A5E8-A23B2149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CD6-1D76-4C2F-98B3-872D4528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E16-B374-4CF9-A286-55C3EDF4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B1B-E4A2-4308-807E-CEDDB480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656-D51E-4008-9BFD-FFE445B3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257-D10B-4005-ADBE-33695FA2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61B-0995-4CF8-B1F2-B28A7DAF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E64-A170-41DE-A30F-46159C6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1D1-F9BA-45D5-8ACD-4BA2190F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947-BB53-46A8-B502-729892DB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ACB-4721-48A5-B166-36DB02C6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DEE6-4E6B-4154-BB79-8644CAEC39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_747073_victor300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little-britain-vicki-pollard"/>
          <p:cNvPicPr/>
          <p:nvPr/>
        </p:nvPicPr>
        <p:blipFill>
          <a:blip r:embed="rId1"/>
          <a:stretch/>
        </p:blipFill>
        <p:spPr>
          <a:xfrm>
            <a:off x="3995640" y="191628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iennablue"/>
          <p:cNvPicPr/>
          <p:nvPr/>
        </p:nvPicPr>
        <p:blipFill>
          <a:blip r:embed="rId1"/>
          <a:stretch/>
        </p:blipFill>
        <p:spPr>
          <a:xfrm>
            <a:off x="4932360" y="1557360"/>
            <a:ext cx="3376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jp_carrie"/>
          <p:cNvPicPr/>
          <p:nvPr/>
        </p:nvPicPr>
        <p:blipFill>
          <a:blip r:embed="rId1"/>
          <a:stretch/>
        </p:blipFill>
        <p:spPr>
          <a:xfrm>
            <a:off x="4067280" y="1827360"/>
            <a:ext cx="48495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44:33Z</dcterms:created>
  <dc:creator>kh</dc:creator>
  <dc:description/>
  <dc:language>en-US</dc:language>
  <cp:lastModifiedBy>RomaK</cp:lastModifiedBy>
  <dcterms:modified xsi:type="dcterms:W3CDTF">2015-09-02T09:44:24Z</dcterms:modified>
  <cp:revision>8</cp:revision>
  <dc:subject/>
  <dc:title>Morphology</dc:title>
</cp:coreProperties>
</file>