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6421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2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2000" y="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200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7148-E57F-42EC-B404-3B1C9056B7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762360" y="9282240"/>
            <a:ext cx="2878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879480" y="733320"/>
            <a:ext cx="4883040" cy="36640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63480" y="4641480"/>
            <a:ext cx="531504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7C54-DA8F-469F-B6BB-74C1B188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DDF-B4B6-4EA8-9624-5C4EBFA9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6CF4-0A69-4CB3-951D-C58E3CF0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B720-C973-4F4A-BC5B-FDEB94FC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BCAA-6165-44B2-BB45-1AFA8432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453-8B23-4BDF-9287-DF3E0B3A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F78-262F-497D-925B-14D0159D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9042-0A01-413F-B0A5-EEDCFBFF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169-9A8C-4866-A2F6-A38D1C0F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C5E-4D85-4668-9BEC-06F65E3F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5407-2C18-4BD0-830A-6A60A207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0776-31FC-49F5-A918-87E6909A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758A-5FBB-40AA-89A5-19D3822EE0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’s happened ‘ere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n-bloody-believable!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_747073_victor300"/>
          <p:cNvPicPr/>
          <p:nvPr/>
        </p:nvPicPr>
        <p:blipFill>
          <a:blip r:embed="rId1"/>
          <a:stretch/>
        </p:blipFill>
        <p:spPr>
          <a:xfrm>
            <a:off x="4356000" y="2276640"/>
            <a:ext cx="431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e is such a Chavette!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little-britain-vicki-pollard"/>
          <p:cNvPicPr/>
          <p:nvPr/>
        </p:nvPicPr>
        <p:blipFill>
          <a:blip r:embed="rId1"/>
          <a:stretch/>
        </p:blipFill>
        <p:spPr>
          <a:xfrm>
            <a:off x="3995640" y="1916280"/>
            <a:ext cx="475308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re we have Sienna in 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-Jude phas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siennablue"/>
          <p:cNvPicPr/>
          <p:nvPr/>
        </p:nvPicPr>
        <p:blipFill>
          <a:blip r:embed="rId1"/>
          <a:stretch/>
        </p:blipFill>
        <p:spPr>
          <a:xfrm>
            <a:off x="4932360" y="1557360"/>
            <a:ext cx="33764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ell..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JP-esque style is where it’s at right now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sjp_carrie"/>
          <p:cNvPicPr/>
          <p:nvPr/>
        </p:nvPicPr>
        <p:blipFill>
          <a:blip r:embed="rId1"/>
          <a:stretch/>
        </p:blipFill>
        <p:spPr>
          <a:xfrm>
            <a:off x="4067280" y="1827360"/>
            <a:ext cx="484956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07:44:33Z</dcterms:created>
  <dc:creator>kh</dc:creator>
  <dc:description/>
  <dc:language>en-US</dc:language>
  <cp:lastModifiedBy>RomaK</cp:lastModifiedBy>
  <dcterms:modified xsi:type="dcterms:W3CDTF">2015-09-02T09:44:24Z</dcterms:modified>
  <cp:revision>8</cp:revision>
  <dc:subject/>
  <dc:title>Morphology</dc:title>
</cp:coreProperties>
</file>