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421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8D5F-46A5-458D-A163-1290BCB222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318-1783-4BC3-B670-152DF705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4A1-2233-43E2-BEE2-086987FA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F8A-3EB4-45D5-9D24-9C587458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244-50FB-4A59-9D09-39DF58B1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C04-8CBE-49C4-863F-4BC5BC47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D00-A90C-469E-BB9A-7F015FD0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F1A-53F5-4E6B-96FF-CACAA3E4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050-64C6-46F0-A412-100AF15A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BB7B-2D88-45A0-8E2F-84644292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71F-BAF9-4E06-9A02-87B0DDB2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F8E-371E-46E6-819E-37E0C3DB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C70-A19E-44A4-996D-7704346E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F738-7A65-4C48-A5B8-705F8821DE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_747073_victor300"/>
          <p:cNvPicPr/>
          <p:nvPr/>
        </p:nvPicPr>
        <p:blipFill>
          <a:blip r:embed="rId1"/>
          <a:stretch/>
        </p:blipFill>
        <p:spPr>
          <a:xfrm>
            <a:off x="4356000" y="227664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little-britain-vicki-pollard"/>
          <p:cNvPicPr/>
          <p:nvPr/>
        </p:nvPicPr>
        <p:blipFill>
          <a:blip r:embed="rId1"/>
          <a:stretch/>
        </p:blipFill>
        <p:spPr>
          <a:xfrm>
            <a:off x="3995640" y="1916280"/>
            <a:ext cx="47530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siennablue"/>
          <p:cNvPicPr/>
          <p:nvPr/>
        </p:nvPicPr>
        <p:blipFill>
          <a:blip r:embed="rId1"/>
          <a:stretch/>
        </p:blipFill>
        <p:spPr>
          <a:xfrm>
            <a:off x="4932360" y="1557360"/>
            <a:ext cx="3376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sjp_carrie"/>
          <p:cNvPicPr/>
          <p:nvPr/>
        </p:nvPicPr>
        <p:blipFill>
          <a:blip r:embed="rId1"/>
          <a:stretch/>
        </p:blipFill>
        <p:spPr>
          <a:xfrm>
            <a:off x="4067280" y="1827360"/>
            <a:ext cx="48495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44:33Z</dcterms:created>
  <dc:creator>kh</dc:creator>
  <dc:description/>
  <dc:language>en-US</dc:language>
  <cp:lastModifiedBy>RomaK</cp:lastModifiedBy>
  <dcterms:modified xsi:type="dcterms:W3CDTF">2015-09-02T09:44:24Z</dcterms:modified>
  <cp:revision>8</cp:revision>
  <dc:subject/>
  <dc:title>Morphology</dc:title>
</cp:coreProperties>
</file>