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carbrake.wav" ContentType="audio/x-wav"/>
  <Override PartName="/ppt/media/camera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E345-428E-4EB7-BAFC-FAB1E547BA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WSPAPE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w to write a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SPAPE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write a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st of “down” and “up” – creates 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be about a number of different things - va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sic sales on the internet rising above CD sales for the firs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st of “down” and “up” – creates 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be about a number of different things - va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sic sales on the internet rising above CD sales for the firs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an article from two different newspa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ticle is about the same topic, but you will notice great differences between the tw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note these differences in your jotter in the form of a tabl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an article from two different newspa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ticle is about the same topic, but you will notice great differences between the tw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note these differences in your jotter in the form of a tabl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ing looked at a tabloid article and the techniques that tabloid writers use, you are going to construct your own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you must work with a partner and attempt to construct a suitable head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headlines should contain at least one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ing looked at a tabloid article and the techniques that tabloid writers use, you are going to construct your own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you must work with a partner and attempt to construct a suitable head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headlines should contain at least one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LINE FEED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ther the class’ ideas together, and decide which headline you like bes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LINE FEED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ther the class’ ideas together, and decide which headline you like bes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YOUR ARTIC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you are going to continue to write the rest of your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over the example tabloid article you were given for ideas of how you should phrase your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your article should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s of the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views with eye-wit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ulation about what may actually have happ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finished article should fill about TWO jotter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YOUR ARTIC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you are going to continue to write the rest of your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over the example tabloid article you were given for ideas of how you should phrase your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your article should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s of the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views with eye-wit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ulation about what may actually have happ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finished article should fill about TWO jotter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D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successful and eye-catching, tabloid headlines should contain some of these el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D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successful and eye-catching, tabloid headlines should contain some of these el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some examples of tabloid headlines.  For each one, think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echniques the writer has used to grab your att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 article is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some examples of tabloid headlines.  For each one, think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echniques the writer has used to grab your att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 article is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un on the words “heir” and “ai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inces William and Harry helping out with aid relief to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un on the words “heir” and “ai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inces William and Harry helping out with aid relief to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lliteration: repeating the “w” s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oyal family express their grief over the tsunami dis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lliteration: repeating the “w” s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oyal family express their grief over the tsunami dis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word “tum” sounds like “so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give away much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 woman with an artificial stomach gives birth to the baby doctors said she’d never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word “tum” sounds like “so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give away much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 woman with an artificial stomach gives birth to the baby doctors said she’d never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C6DF-BC7D-45B3-9BC8-B8E94F54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6C65-EE9F-4759-80C0-CEED4DC6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9C13-4B83-403A-AF6E-98B97B70B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D671-4095-4DF1-A271-74152F6B6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518B-30E1-4F74-9732-B02DE215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B879-309E-40AD-8C05-4029459E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694D-E451-4438-B814-2DF1E6F4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8ED8-9185-4555-AD0E-68CBCAAE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39B9-432C-4E9D-916F-8E009264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00BD-3372-4F84-9ABC-FCA95D51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CC8E-01B4-488F-B60F-425164B9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CFAE-0E5A-46F1-8CA5-1DE88C34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19A5-A5DE-40E4-93E5-0692F470CB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NEWSPAPER WR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09480" y="2057400"/>
            <a:ext cx="259092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00400" y="2057400"/>
            <a:ext cx="259092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5867280" y="3733920"/>
            <a:ext cx="2438640" cy="22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791320" y="205740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How to write a tabloid arti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243864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OWNLOADS GO UP LOAD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838080" y="3200400"/>
            <a:ext cx="7925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OWNLOADS GO UP LOAD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838080" y="3200400"/>
            <a:ext cx="79250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rast of “down” and “up” – creates hum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ld be about a number of different things - va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Music sales on the internet rising above CD sales for the firs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ABLOI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85800" y="1981080"/>
            <a:ext cx="79246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are now going to look at an article from two different newspap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rticle is about the same topic, but you will notice great differences between the tw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y to note these differences in your jotter in the form of a tabl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ABLOI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85800" y="1905120"/>
          <a:ext cx="7696080" cy="442116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57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rticle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rticle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differences are there in the headline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g, detail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rt, snap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long are the sentences in the articl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g, compl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rt, si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long are the paragraph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or 4 senten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3 senten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much detail is includ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you understand all of the word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 you think this came from a tabloi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ABLOI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7"/>
          <p:cNvSpPr/>
          <p:nvPr/>
        </p:nvSpPr>
        <p:spPr>
          <a:xfrm>
            <a:off x="762120" y="2057400"/>
            <a:ext cx="7696080" cy="38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ving looked at a tabloid article and the techniques that tabloid writers use, you are going to construct your own tabloid arti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rst, you must work with a partner and attempt to construct a suitable head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member, headlines should contain at least one of the follow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Short, snappy phr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Puns, or plays on 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Hum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An element of intri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EADLINE FEED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762120" y="20574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ather the class’ ideas together, and decide which headline you like be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RITING YOUR ARTICLE</a:t>
            </a: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762120" y="2057400"/>
            <a:ext cx="7696080" cy="45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w, you are going to continue to write the rest of your arti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ok over the example tabloid article you were given for ideas of how you should phrase your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member that your article should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Details of the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Interviews with eye-witn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Speculation about what may actually have happ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Your finished article should fill about TWO jotter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HE HEAD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be successful and eye-catching, tabloid headlines should contain some of these el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09480" y="3962520"/>
            <a:ext cx="7925040" cy="30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Short, snappy phr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Puns, or plays on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Hum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An element of intri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SOME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ou are now going to look at some examples of tabloid headlines.  For each one, think abo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What techniques the writer has used to grab your 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What the article is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001600" y="2209680"/>
            <a:ext cx="497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TSUNAMI HEIR LIFT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838080" y="3200400"/>
            <a:ext cx="792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001600" y="2209680"/>
            <a:ext cx="497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TSUNAMI HEIR LIFT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838080" y="3200400"/>
            <a:ext cx="79250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Pun on the words “heir” and “ai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Princes William and Harry helping out with aid relief to 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685800" y="20574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WE WEPT FOR WAVE ORPHANS</a:t>
            </a: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838080" y="320040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85800" y="20574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WE WEPT FOR WAVE ORPHANS</a:t>
            </a: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838080" y="3200400"/>
            <a:ext cx="792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alliteration: repeating the “w” 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Royal family express their grief over the tsunami dis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IT'S TUM KIND OF MIRAC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838080" y="3200400"/>
            <a:ext cx="7925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IT'S TUM KIND OF MIRAC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838080" y="3200400"/>
            <a:ext cx="79250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The word “tum” sounds like “som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esn’t give away much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A woman with an artificial stomach gives birth to the baby doctors said she’d never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20:09:29Z</dcterms:created>
  <dc:creator>Gavin Lees</dc:creator>
  <dc:description/>
  <dc:language>en-US</dc:language>
  <cp:lastModifiedBy>RomaK</cp:lastModifiedBy>
  <dcterms:modified xsi:type="dcterms:W3CDTF">2015-09-02T09:44:44Z</dcterms:modified>
  <cp:revision>20</cp:revision>
  <dc:subject/>
  <dc:title>NEWSPAPER WRITING</dc:title>
</cp:coreProperties>
</file>