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carbrake.wav" ContentType="audio/x-wav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DBE9-056E-469B-B356-F2E687B296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resentation by selecting “View show” from the Slide Show menu.  Work through the presentation by left-clicking the mouse. You can make notes as you go. Use the left arrow key to return to an earlier sl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refer to print the slides, make sure you follow these instructi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just click the print butt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print from the file menu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handouts; six slides per page; pure black &amp; wh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resentation by selecting “View show” from the Slide Show menu.  Work through the presentation by left-clicking the mouse. You can make notes as you go. Use the left arrow key to return to an earlier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refer to print the slides, make sure you follow these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just click the prin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print from the file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handouts; six slides per page; pure black &amp;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category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may be countable or uncountable, depending on how we use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uy a box of chocolates (countable) or a bar of chocolate (uncountabl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time? but How many times? (where times = occasion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it in front of a television (set) to watch television (broadcasting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category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may be countable or uncountable, depending on how we use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uy a box of chocolates (countable) or a bar of chocolate (uncoun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time? but How many times? (where times = occas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it in front of a television (set) to watch television (broadcastin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-specific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 are often turned into countable nouns by specialists in a particular field.They become part of the jargon of that specia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 is usually uncountable but botanists and gardeners talk about gras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s sometimes talk about Engl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ers refer to moneys or even mon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s may be used to mean types of t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-specific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 are often turned into countable nouns by specialists in a particular field.They become part of the jargon of that specia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 is usually uncountable but botanists and gardeners talk about gr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s sometimes talk about Eng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ers refer to moneys or even 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s may be used to mean types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both countable and uncountable nouns can be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 English Campaign has an excellent website which will tell you more about the stylistic impact of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both countable and uncountable nouns can be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 English Campaign has an excellent website which will tell you more about the stylistic impact of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 are the words that most people think of as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stly the names of objects and animals (countable) and substances or materials (uncountabl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ke, oxygen, iron, boy, dog, pen, glass, pomegranate, earthworm and door are all concrete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 are the words that most people think of as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stly the names of objects and animals (countable) and substances or materials (uncoun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ke, oxygen, iron, boy, dog, pen, glass, pomegranate, earthworm and door are all concrete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 name ideas, feelings and qualit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, though not all, are uncoun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derived from adjectives and verbs and have characteristic endings such as –ity, -ness, -ence,  and -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harder to recognise as nouns than the concrete varie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 name ideas, feelings and qua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, though not all, are uncoun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derived from adjectives and verbs and have characteristic endings such as –ity, -ness, -ence,  and -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harder to recognise as nouns than the concret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 or adject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n’t confuse abstract nouns with adjectives, as long as you apply a few tes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is an adjective.  It behaves like one: very happy; so happy; happier; as happy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iness behaves like a noun: The happiness I feel; her happiness; great happin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 or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n’t confuse abstract nouns with adjectives, as long as you apply a few t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is an adjective.  It behaves like one: very happy; so happy; happier; as happy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iness behaves like a noun: The happiness I feel; her happiness; great happ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or adject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different from each 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work is preci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 with prec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is pu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ity of the 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mposed this tun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une is my composi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o beautifu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such beau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upport 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port you give 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or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different from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work is pre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 with prec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is p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mposed this tu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une is my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o beauti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such beau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upport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port you give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 of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change their form for only two grammatical reas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 have a plural form. This is usually formed by adding –s, of course, but there are some irregular for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essive form of a noun is created by adding –’s (Henry’s cat) or just an apostrophe (all our students’ resul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change their form for only two grammatical reas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 have a plural form. This is usually formed by adding –s, of course, but there are some irregular for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essive form of a noun is created by adding –’s (Henry’s cat) or just an apostrophe (all our students’ resul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rregular plu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nouns retain plural endings from Old English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n, geese, mice, oxen, feet, teeth, kniv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an words from Latin, Greek, French and Italian sometimes keep their native en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ia, bacteria, formulae, larvae, criteria, phenomena, gateau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ffiti, an Italian plural, is now an uncountable noun in Englis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gular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retain plural endings from Old Englis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, geese, mice, oxen, feet, teeth, kn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n words from Latin, Greek, French and Italian sometimes keep their native e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, bacteria, formulae, larvae, criteria, phenomena, gate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fiti, an Italian plural, is now an uncountable noun in Engl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see a noun as performing a role in a sentence, we think of it as a noun phr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function as the subject or object of a clau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consist of a single word (a noun or pronoun) or a group of wor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noun in a noun phrase is called the headwor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see a noun as performing a role in a sentence, we think of it as a noun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function as the subject or object of a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consist of a single word (a noun or pronoun) or a group of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noun in a noun phrase is called the head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NOUNS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are naming wor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ame people, places and objec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name ideas, emotions, qualities and activit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, Elizabeth, driver, sister, frie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stol, Severn, Brazil, pen, dog, mone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beauty, industry, nature, greed,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NOUNS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are naming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ame people, places and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name ideas, emotions, qualities and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, Elizabeth, driver, sister, fri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stol, Severn, Brazil, pen, dog,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beauty, industry, nature, greed,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noun phrases (headword in bracket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he) always bought the same (newspaper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oung (man) in a suit was admiring the (view) from the window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sulphuric (acid) must be handled careful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old maths (teacher) was Austri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noun phrases (headword in brack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he) always bought the same (newspap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oung (man) in a suit was admiring the (view) from the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sulphuric (acid) must be handled carefu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old maths (teacher) was Austr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tax of noun phr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word of a noun phrase may be pre-modified by determiners, adjectives or other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large, dinner (plat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be post-modified by a prepositional phr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noun phrase with a preposition at the beginn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(painting) by Rembrand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pot the modifiers in the last slide? (Left arrow key takes you back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tax of 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word of a noun phrase may be pre-modified by determiners, adjectives or other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large, dinner (pl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be post-modified by a prepositional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noun phrase with a preposition at the beg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(painting) by Rembrand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pot the modifiers in the last slide? (Left arrow key takes you b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s modifying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a clause (a group of words containing a verb) to post-modify a nou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use which post-modifies a noun is called a relative clause or adjectival clau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(house) that Jack buil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ople) who live in glass houses should not throw ston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s modifying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a clause (a group of words containing a verb) to post-modify a no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use which post-modifies a noun is called a relative clause or adjectival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(house) that Jack bui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ople) who live in glass houses should not throw s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’s the end of the presentation on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ant to print, remember the instructi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“print” from the file menu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: hand-outs; six slides per page; pure black and wh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“OK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’s the end of the presentation on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ant to print, remember the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“print” from the file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: hand-outs; six slides per page; pure black and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“OK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can be divided into common  and proper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can then be divided into countable and uncountable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ountable and uncountable nouns can then be further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look at each type in tur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can be divided into common  and proper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can then be divided into countable and uncountable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ountable and uncountable nouns can then be further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look at each type in t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look again at those types and how they re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look again at those types and how they re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start with capital le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names of people, places, times, organisations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fer to unique individu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not found in the dictionar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ften occur in pairs or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start with capital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names of people, places, times, organisatio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fer to uniqu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not found in the diction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ften occur in pairs or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ing Hen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dget J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ynsh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ca Co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ident Bu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J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onation Stre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ord Motor Compan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ns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ca C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tion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d Motor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which are not proper nouns are common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amples: cup, art, paper, work, frog, bicycle, atom, family, mi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are either countable or uncoun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which are not proper nouns are common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amples: cup, art, paper, work, frog, bicycle, atom, family, m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are either countable or uncoun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countable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(or just “count”) nouns can be made plural: a tree… two trees; a man… men; a pony… pon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ingular, they may have the determiner a or an: a sausage; an asteris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any words/pages/chai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few minutes/friends/chip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countable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(or just “count”) nouns can be made plural: a tree… two trees; a man… men; a pony… p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ingular, they may have the determiner a or an: a sausage; an aste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any words/pages/chai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few minutes/friends/chi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uncountable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(or non-count) nouns cannot be made plural. We cannot say: two funs, three advices or five furnitur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ver use  a or an with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money/time/milk?        (Not How many?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little help/effort. (Not A few.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uncountable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(or non-count) nouns cannot be made plural. We cannot say: two funs, three advices or five furni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ver use  a or an wit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money/time/milk?        (Not How many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little help/effort. (Not A few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602-3D29-4392-B788-CE87FEFB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6D1-68D5-4973-A9A1-A3AA66CA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5FD-7728-4C9C-A112-E6DEBEBF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1E9-B3E6-4A45-B22E-C64F1C5C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1E3-E5B9-49D4-A244-0287A9B4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10F-162E-4E09-8D3A-C4E1A1D9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549-1DB8-45BB-9425-4A49E942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C95-4912-4B07-A901-77CCAF4F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154-F663-49C0-8606-5362644E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DCD-2B71-4476-A31B-3522418F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E71-917A-4455-8735-EDB4DDA3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824-877F-49EF-9336-D7058DCB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A775-0990-46DA-8F05-56C8CDCCD4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62120" y="1066680"/>
            <a:ext cx="77724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rt the presentation by selecting “View show” from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lide Show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nu.  Work through the presentation by left-clicking the mouse. You can make notes as you go. Use the left arrow key to return to an earlier sl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you prefer to print the slides, make sure you follow these instruc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just click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utt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handouts; six slides per page; pure black &amp; wh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838080" y="380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Dual category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may be countable or uncountable, depending on how we u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buy a box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countable) or a bar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H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w much time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 times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wher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im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ccasi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it in front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set) to watch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broadcast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Field-specific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nouns are often turned into countable nouns by specialists in a particular field.They become part of the jargon of that speci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usually uncountable but botanists and gardener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nguists sometime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English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nciers refer to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ey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even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i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a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ay be used to mean types of t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762120"/>
            <a:ext cx="76197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member that both countable and uncountable nouns can be divided in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ncret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bstract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lain English Campaig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as an excellent website which will tell you more about the stylistic impact of abstract 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cret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rete nouns are the words that most people think of as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are mostly the names of objects and animals (countable) and substances or materials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ake, oxygen, iron, boy, dog, pen, glass, pomegranate, earthworm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doo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all concrete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stract nouns name ideas, feelings and qua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, though not all, are un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y are derived from adjectives and verbs and have characteristic endings such as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–ity, -ness, -ence,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-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harder to recognise as nouns than the concrete var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 or ad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won’t confuse abstract nouns with adjectives, as long as you apply a few t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y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an adjective.  It behaves like one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ry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happi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ines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haves like a noun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 I feel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h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great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1676520" y="60948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few more exam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1440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erb or adje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876920" y="1600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bstract no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2133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876920" y="21337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c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ween 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9144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y work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876920" y="30481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work wit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14400" y="36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ir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8769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i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of the 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990720" y="41911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is t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8769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tune is my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i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99072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is so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ifu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4876920" y="5181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has suc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99072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48769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you give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morphology of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uns change their form for only two grammatical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nouns have a plural form. This is usually form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s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course, but there are some irregular for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ossessive form of a noun is creat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’s (Henry’s cat)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just an apostrophe (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ll our students’ result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rregular plu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retain plural endings from Old Englis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n, geese, mice, oxen, feet, teeth, kn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an words from Latin, Greek, French and Italian sometimes keep their native 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dia, bacteria, formulae, larvae, criteria, phenomena, gatea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ffiti, an Italian plural, is now an uncountable noun in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we see a noun as performing a role in a sentence, we think of it as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noun phra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function as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a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consist of a single word (a noun or pronoun) or a group of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important noun in a noun phrase is call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headwo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00"/>
                </a:solidFill>
                <a:latin typeface="Comic Sans MS"/>
              </a:rPr>
              <a:t>WHAT ARE NOUNS?</a:t>
            </a:r>
            <a:r>
              <a:rPr b="1" lang="en-GB" sz="4400" spc="-1" strike="noStrike">
                <a:solidFill>
                  <a:srgbClr val="808000"/>
                </a:solidFill>
                <a:latin typeface="Stenci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uns are naming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name people, places and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can also name ideas, emotions, qualities and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ere are some examples of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ter, Elizabeth, driver, sister,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ristol, Severn, Brazil, pen, dog,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ove, beauty, industry, nature, greed,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Examples of noun phrases (headword in bracke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(She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lways bough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same (newspap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 young (man) in a su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dmir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(view) from th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entrated sulphuric (acid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ust be handled carefu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y old maths (teach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ustri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syntax of 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headword of a noun phrase may be pre-modified by determiners, adjectives or other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rge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dinner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(pl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may be post-modified by a prepositio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simply a noun phrase with a preposition at the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(painting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y Rembrand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pot the modifiers in the last slide? (Left arrow key takes you b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lauses modifying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can use a clause (a group of words containing a verb) to post-modify a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clause which post-modifies a noun is called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lative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djectival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e are some 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is is the (hous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hat Jack bui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(Peopl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o live in glass houses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should not throw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09480" y="762120"/>
            <a:ext cx="7848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’s the end of the presentation on nou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you want to print, remember the instructi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 “print” from the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: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nd-outs; six slides per page; pure black and whi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lick “OK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ypes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of no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ca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mm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prop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can the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countable and uncountable nouns can then be further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’ll look at each type in 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First, look again at those types and how they rel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1067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133720" y="2286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057400" y="4495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809880" y="3429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657600" y="5257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629400" y="2666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66294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6294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6294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3880" y="380988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17"/>
          <p:cNvSpPr/>
          <p:nvPr/>
        </p:nvSpPr>
        <p:spPr>
          <a:xfrm flipV="1">
            <a:off x="1600200" y="27428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18"/>
          <p:cNvSpPr/>
          <p:nvPr/>
        </p:nvSpPr>
        <p:spPr>
          <a:xfrm flipV="1">
            <a:off x="3352680" y="38862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3352680" y="48006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0"/>
          <p:cNvSpPr/>
          <p:nvPr/>
        </p:nvSpPr>
        <p:spPr>
          <a:xfrm flipV="1">
            <a:off x="5334120" y="304776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1"/>
          <p:cNvSpPr/>
          <p:nvPr/>
        </p:nvSpPr>
        <p:spPr>
          <a:xfrm>
            <a:off x="5334120" y="37339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2"/>
          <p:cNvSpPr/>
          <p:nvPr/>
        </p:nvSpPr>
        <p:spPr>
          <a:xfrm flipV="1">
            <a:off x="5562720" y="518112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5562720" y="5562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per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 nouns start with capital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the names of people, places, times, organisation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refer to unique individu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are not found in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often occur in pairs or 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re are som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7621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ny Bla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0866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ing Hen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9092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idget J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26708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rist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4114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553080" y="34290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295280" y="2438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nsh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124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952880" y="41148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ca 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238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962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sident Bu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010280" y="533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J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737320" y="1523880"/>
            <a:ext cx="134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5562720" y="1219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ronation Str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495680" y="594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69343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6858000" y="4800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3048120" y="525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ord Motor Compa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3809880" y="914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xf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mmon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which are not proper nouns are common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ew examples: cup, art, paper, work, frog, bicycle, atom, family,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are eithe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untable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(or just “count”) nouns can be made plural: a tree… two trees; a man… men; a pony… pon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singular, they may have the determine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a sausage; an aste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many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words/pages/chai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A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few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inutes/friends/chi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Uncountabl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un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(or non-count) nouns cannot be made plural. We cannot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wo funs,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ree advic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five furnitur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never us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uch money/time/milk?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little help/effort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few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15:39:15Z</dcterms:created>
  <dc:creator>Tom Goss</dc:creator>
  <dc:description/>
  <dc:language>en-US</dc:language>
  <cp:lastModifiedBy>RomaK</cp:lastModifiedBy>
  <cp:lastPrinted>2002-01-14T14:33:47Z</cp:lastPrinted>
  <dcterms:modified xsi:type="dcterms:W3CDTF">2015-09-02T09:44:51Z</dcterms:modified>
  <cp:revision>31</cp:revision>
  <dc:subject/>
  <dc:title>WHAT ARE NOUNS? </dc:title>
</cp:coreProperties>
</file>