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A240-13A8-4E66-BFCB-26FAAC7F86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B3F-16E6-41B2-B0C8-B54CE5D4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1B5-1A03-4696-B026-C69929E7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80F-A9AB-4386-9CE4-7180E70E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FDB-2EC6-4E3E-80E2-32D1A8B9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B09-C08D-4052-B056-72390384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412-3DC8-47A6-9E34-CF4341FD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B84-F0ED-4780-9EFF-FCED293B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868-0289-49D2-A33A-1916627B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4DE-0BD3-41AA-8EE3-575777BA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F1E-A05A-456E-ABFB-77123D9B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24D-5471-45B5-B34B-37684968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DA8-0C17-4F16-9E10-DDE4C883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CD72-05F3-4760-BAFB-77D747B7EE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1066680"/>
            <a:ext cx="77724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rt the presentation by selecting “View show”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lide Sho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  Work through the presentation by left-clicking the mouse. You can make notes as you go. Use the left arrow key to return to an earlier sl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you prefer to print the slides, make sure you follow these instru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st click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handouts; six slides per page; pure black &amp; wh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80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Dual category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may be countable or uncountable, depending on how we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uy a box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ountable) or a bar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H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w much time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 times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ccas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it in front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set) to wat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roadcast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Field-specific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nouns are often turned into countable nouns by specialists in a particular field.They become part of the jargon of that spec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usually uncountable but botanists and gardener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guists sometime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English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nciers refer to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ey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eve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i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y be used to mean types of 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762120"/>
            <a:ext cx="76197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that both countable and uncountable nouns can be divided in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re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bstrac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lain English Campa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s an excellent website which will tell you more about the stylistic impact of abstract 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cret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rete nouns are the words that most people think of as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are mostly the names of objects and animals (countable) and substances or materials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ake, oxygen, iron, boy, dog, pen, glass, pomegranate, earthwo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o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all concrete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stract nouns name ideas, feelings and qu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, though not all, are un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are derived from adjectives and verbs and have characteristic endings such as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–ity, -ness, -ence,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-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harder to recognise as nouns than the concrete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 or ad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on’t confuse abstract nouns with adjectives, as long as you apply a few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n adjective.  It behaves like one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ry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happi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ines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haves like a noun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 I feel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6765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few mor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b or 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bstract no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213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6920" y="2133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c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14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work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876920" y="3048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 wit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144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ir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876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90720" y="4191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is t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8769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une is m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876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has suc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9072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8769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ou give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morphology of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ns change their form for only two grammatical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nouns have a plural form. This is usually form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s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course, but there are some irregular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ssessive form of a noun is creat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’s (Henry’s cat)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just an apostrophe (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ll our students’ result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retain plural endings from Old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n, geese, mice, oxen, feet, teeth, kn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an words from Latin, Greek, French and Italian sometimes keep their na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dia, bacteria, formulae, larvae, criteria, phenomena, gat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ffiti, an Italian plural, is now an uncountable noun i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we see a noun as performing a role in a sentence, we think of it a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un phra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function a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consist of a single word (a noun or pronoun) or a group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important noun in a noun phrase is call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headwo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00"/>
                </a:solidFill>
                <a:latin typeface="Comic Sans MS"/>
              </a:rPr>
              <a:t>WHAT ARE NOUNS?</a:t>
            </a:r>
            <a:r>
              <a:rPr b="1" lang="en-GB" sz="4400" spc="-1" strike="noStrike">
                <a:solidFill>
                  <a:srgbClr val="808000"/>
                </a:solidFill>
                <a:latin typeface="Stenci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uns are na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name people, places an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can also name ideas, emotions, qualities and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re are some examples of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ter, Elizabeth, driver, sister,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ristol, Severn, Brazil, pen, dog,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ove, beauty, industry, nature, greed,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Examples of noun phrases (headword in brack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(She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ways bough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ame (newspap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 young (man) in a s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dmir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(view) from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d sulphuric (acid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ust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y old maths (teach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ustr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syntax of 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headword of a noun phrase may be pre-modified by determiners, adjectives or other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rg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inner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(pl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may be post-modified by a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simply a noun phrase with a pre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(painting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y Rembrand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pot the modifiers in the last slide? (Left arrow key takes you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uses modifying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use a clause (a group of words containing a verb) to post-modify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lause which post-modifies a noun is called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lative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djectival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e are some 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is is the (hous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hat Jack bui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(Peopl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o live in glass houses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should not throw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09480" y="76212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’s the end of the presentation on nou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want to print, remember the instruc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“print” from th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nd-outs; six slides per page; pure black and wh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lick “OK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ypes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of 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ca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mm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rop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can the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countable and uncountable nouns can then be further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’ll look at each type in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First, look again at those types and how they re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13372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7400" y="4495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80988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657600" y="5257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629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6294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629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3880" y="380988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1600200" y="27428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335268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3352680" y="4800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0"/>
          <p:cNvSpPr/>
          <p:nvPr/>
        </p:nvSpPr>
        <p:spPr>
          <a:xfrm flipV="1">
            <a:off x="5334120" y="30477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5334120" y="3733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2"/>
          <p:cNvSpPr/>
          <p:nvPr/>
        </p:nvSpPr>
        <p:spPr>
          <a:xfrm flipV="1">
            <a:off x="5562720" y="5181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5562720" y="5562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 nouns start with capita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the names of people, places, times, organisation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refer to unique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re not found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often occur in pairs or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re are som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1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0866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ing Hen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909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t J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670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4114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530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9528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nsh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9528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3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962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ident B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010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J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737320" y="152388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562720" y="1219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ronation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49568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9343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85800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304812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d Motor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38098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xf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mmon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which are not proper nouns are common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ew examples: cup, art, paper, work, frog, bicycle, atom, family,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are eithe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untable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(or just “count”) nouns can be made plural: a tree… two trees; a man… men; a pony… po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singular, they may have the determine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a sausage; an aste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words/pages/chai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A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few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inutes/friends/ch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Uncountabl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un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(or non-count) nouns cannot be made plural. We cannot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wo funs,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ree advic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five furnitur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never us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uch money/time/milk?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little help/effor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few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39:15Z</dcterms:created>
  <dc:creator>Tom Goss</dc:creator>
  <dc:description/>
  <dc:language>en-US</dc:language>
  <cp:lastModifiedBy>RomaK</cp:lastModifiedBy>
  <cp:lastPrinted>2002-01-14T14:33:47Z</cp:lastPrinted>
  <dcterms:modified xsi:type="dcterms:W3CDTF">2015-09-02T09:44:51Z</dcterms:modified>
  <cp:revision>31</cp:revision>
  <dc:subject/>
  <dc:title>WHAT ARE NOUNS? </dc:title>
</cp:coreProperties>
</file>