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carbrake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5208-2514-45A7-90B9-A7CC2A84CE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the presentation by selecting “View show” from the Slide Show menu.  Work through the presentation by left-clicking the mouse. You can make notes as you go. Use the left arrow key to return to an earlier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prefer to print the slides, make sure you follow thes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just click the print but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print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handouts; six slides per page; pure black &amp;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 category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may be countable or uncountable, depending on how we use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buy a box of chocolates (countable) or a bar of chocolate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time? but How many times? (where times = occas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it in front of a television (set) to watch television (broadcastin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-specific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 are often turned into countable nouns by specialists in a particular field.They become part of the jargon of that specia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 is usually uncountable but botanists and gardeners talk about gr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s sometimes talk about Eng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nciers refer to moneys or even m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s may be used to mean types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both countable and uncountable nouns can be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 English Campaign has an excellent website which will tell you more about the stylistic impact of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nouns are the words that most people think of as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stly the names of objects and animals (countable) and substances or materials (uncountab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ke, oxygen, iron, boy, dog, pen, glass, pomegranate, earthworm and door are all concret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s name ideas, feelings and qual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, though not all, are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re derived from adjectives and verbs and have characteristic endings such as –ity, -ness, -ence,  and -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harder to recognise as nouns than the concrete var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n’t confuse abstract nouns with adjectives, as long as you apply a few t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is an adjective.  It behaves like one: very happy; so happy; happier; as happy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iness behaves like a noun: The happiness I feel; her happiness; great happi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or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different from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work is pre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 with prec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 is p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omposed this tu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une is my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o beauti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such beau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upport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pport you give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y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change their form for only two grammatical reas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 have a plural form. This is usually formed by adding –s, of course, but there are some irregular for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sessive form of a noun is created by adding –’s (Henry’s cat) or just an apostrophe (all our students’ resul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egular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nouns retain plural endings from Old Englis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, geese, mice, oxen, feet, teeth, kn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n words from Latin, Greek, French and Italian sometimes keep their native e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, bacteria, formulae, larvae, criteria, phenomena, gate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fiti, an Italian plural, is now an uncountable noun in Engl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see a noun as performing a role in a sentence, we think of it as a noun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function as the subject or object of a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phrase may consist of a single word (a noun or pronoun) or a group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noun in a noun phrase is called the head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NOUNS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are naming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name people, places and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name ideas, emotions, qualities and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 of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, Elizabeth, driver, sister, fri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stol, Severn, Brazil, pen, dog,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, beauty, industry, nature, greed,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noun phrases (headword in brack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he) always bought the same (newspap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oung (man) in a suit was admiring the (view) from the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sulphuric (acid) must be handled carefu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old maths (teacher) was Aust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ntax of 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dword of a noun phrase may be pre-modified by determiners, adjectives or oth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large, dinner (pl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be post-modified by a prepositional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simply a noun phrase with a preposition at the beg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(painting) by Rembrand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pot the modifiers in the last slide? (Left arrow key takes you b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s modifying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a clause (a group of words containing a verb) to post-modify a no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use which post-modifies a noun is called a relative clause or adjectival cla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(house) that Jack bui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eople) who live in glass houses should not throw s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’s the end of the presentation 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want to print, remember the instr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“print” from the file men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: hand-outs; six slides per page; pure black and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“OK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can be divided into common  and proper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can then be divided into countable and uncountable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ountable and uncountable nouns can then be further divided into concrete and abstract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look at each type in t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look again at those types and how they re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start with capital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names of people, places, times, organisation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fer to uniqu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not found in the dictio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ften occur in pairs or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y Bl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t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nsh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ca C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tion 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d Motor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f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ouns which are not proper nouns are common 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examples: cup, art, paper, work, frog, bicycle, atom, family, m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ouns are either countable or uncoun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able (or just “count”) nouns can be made plural: a tree… two trees; a man… men; a pony… po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ingular, they may have the determiner a or an: a sausage; an aster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any words/pages/chai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few minutes/friends/chip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tests for uncountable nou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untable (or non-count) nouns cannot be made plural. We cannot say: two funs, three advices or five furni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ver use  a or an with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k: How much money/time/milk?        (Not How many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: A little help/effort. (Not A few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494-3A05-4C10-8385-75782CFD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B5F-0E8A-4512-A5A4-E094252D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9EC-1C3A-4657-8EE6-B83B5C5C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D9B-8917-4D6A-A17A-AC55E70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F19-80BB-477A-887D-9391CA5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891-8277-4AF0-AE2E-C370BF82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A5E-2C2F-449C-A05E-C0C8FC76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6E3-7340-41B0-9457-6ADDA55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0B0-01D4-4423-A0C1-EFE8D0A1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FDB-D37E-4DA9-9E07-A2FED52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0CB-8C02-448D-BF3C-BD6A7047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EFB-CFCD-4419-AD29-CA14EDE6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186-B015-41F3-8CE1-28AAF1354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2120" y="1066680"/>
            <a:ext cx="77724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rt the presentation by selecting “View show”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lide Show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  Work through the presentation by left-clicking the mouse. You can make notes as you go. Use the left arrow key to return to an earlier sl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f you prefer to print the slides, make sure you follow these instru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just click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utt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i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handouts; six slides per page; pure black &amp; wh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lick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808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Dual category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may be countable or uncountable, depending on how we us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buy a box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countable) or a bar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hocola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H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w much time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 times?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wher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im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occasion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it in front of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set) to watch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broadcast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Field-specific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nouns are often turned into countable nouns by specialists in a particular field.They become part of the jargon of that special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usually uncountable but botanists and gardener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gr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nguists sometimes talk abou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English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anciers refer to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ey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even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i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ea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y be used to mean types of t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762120"/>
            <a:ext cx="76197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member that both countable and uncountable nouns can be divided in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ncret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abstrac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distinction between concrete and abstract nouns is the most important one of all when you are analysing linguistic data.  A lot of abstract nouns in a text will have a big impact on its regis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lain English Campaig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s an excellent website which will tell you more about the stylistic impact of abstract nou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cret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rete nouns are the words that most people think of as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are mostly the names of objects and animals (countable) and substances or materials (uncount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Cake, oxygen, iron, boy, dog, pen, glass, pomegranate, earthwo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door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re all concrete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bstract nouns name ideas, feelings and qu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, though not all, are un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are derived from adjectives and verbs and have characteristic endings such as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–ity, -ness, -ence,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-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harder to recognise as nouns than the concrete var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Abstract noun or ad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won’t confuse abstract nouns with adjectives, as long as you apply a few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y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an adjective.  It behaves like one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ry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; happi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y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ppines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haves like a noun: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 I feel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her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; </a:t>
            </a:r>
            <a:r>
              <a:rPr b="0" i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great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76520" y="60948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 few more exam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91440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erb or adje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876920" y="1600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bstract no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21337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rom each oth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876920" y="2133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differenc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tween 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914400" y="3048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y work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876920" y="30481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work wit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recis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14400" y="3657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air is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8769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puri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of the ai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90720" y="41911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is tu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48769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tune is my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composi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990720" y="5181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so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ifu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4876920" y="5181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has such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beaut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990720" y="5715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8769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suppor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you give 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morphology of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uns change their form for only two grammatical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nouns have a plural form. This is usually form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s,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course, but there are some irregular form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ossessive form of a noun is created by adding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–’s (Henry’s cat)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just an apostrophe (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ll our students’ result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rregular plur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me nouns retain plural endings from Old Englis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n, geese, mice, oxen, feet, teeth, kn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an words from Latin, Greek, French and Italian sometimes keep their native en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dia, bacteria, formulae, larvae, criteria, phenomena, gateau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affiti, an Italian plural, is now an uncountable noun in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we see a noun as performing a role in a sentence, we think of it as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noun phra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function as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bjec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f a cla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oun phrase may consist of a single word (a noun or pronoun) or a group of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st important noun in a noun phrase is calle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headwo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00"/>
                </a:solidFill>
                <a:latin typeface="Comic Sans MS"/>
              </a:rPr>
              <a:t>WHAT ARE NOUNS?</a:t>
            </a:r>
            <a:r>
              <a:rPr b="1" lang="en-GB" sz="4400" spc="-1" strike="noStrike">
                <a:solidFill>
                  <a:srgbClr val="808000"/>
                </a:solidFill>
                <a:latin typeface="Stenci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uns are naming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name people, places and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y can also name ideas, emotions, qualities and activ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ere are some examples of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eter, Elizabeth, driver, sister,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ristol, Severn, Brazil, pen, dog,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ove, beauty, industry, nature, greed, p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Examples of noun phrases (headword in bracket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(She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lways bough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same (newspap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 young (man) in a su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dmiring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(view) from the wind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entrated sulphuric (acid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ust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y old maths (teacher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as Austri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he syntax of noun phr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headword of a noun phrase may be pre-modified by determiners, adjectives or other no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rg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dinner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(pl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t may be post-modified by a prepositio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simply a noun phrase with a preposition at the begin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 example,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(painting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by Rembrand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 spot the modifiers in the last slide? (Left arrow key takes you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lauses modifying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can use a clause (a group of words containing a verb) to post-modify a 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lause which post-modifies a noun is called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relative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djectival claus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e are some examp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is is the (hous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hat Jack bui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(People)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o live in glass houses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should not throw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609480" y="762120"/>
            <a:ext cx="7848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at’s the end of the presentation on nou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f you want to print, remember the instruction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 “print” from th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en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lect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hand-outs; six slides per page; pure black and whi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lick “OK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Types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of no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ca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mm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prop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can then be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oth countable and uncountable nouns can then be further divided into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i="1" lang="en-GB" sz="32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’ll look at each type in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First, look again at those types and how they rela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13372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057400" y="4495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80988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657600" y="52578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629400" y="2666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629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662940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6294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1523880" y="380988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Line 17"/>
          <p:cNvSpPr/>
          <p:nvPr/>
        </p:nvSpPr>
        <p:spPr>
          <a:xfrm flipV="1">
            <a:off x="1600200" y="274284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3352680" y="38862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3352680" y="48006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0"/>
          <p:cNvSpPr/>
          <p:nvPr/>
        </p:nvSpPr>
        <p:spPr>
          <a:xfrm flipV="1">
            <a:off x="5334120" y="3047760"/>
            <a:ext cx="1752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5334120" y="37339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2"/>
          <p:cNvSpPr/>
          <p:nvPr/>
        </p:nvSpPr>
        <p:spPr>
          <a:xfrm flipV="1">
            <a:off x="5562720" y="518112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5562720" y="55627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per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per nouns start with capital 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the names of people, places, times, organisation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refer to unique individu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st are not found in the diction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often occur in pairs or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re are som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7621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ny Bla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70866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ing Hen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5909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t J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267080" y="1981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ristm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4114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5530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95280" y="2438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nsh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1240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952880" y="41148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ca C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523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cbe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9625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sident Bu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010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J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5737320" y="1523880"/>
            <a:ext cx="134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5562720" y="1219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ronation Str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4495680" y="594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693432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6858000" y="48006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rtug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304812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Ford Motor Compan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3809880" y="914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xf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mmon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l nouns which are not proper nouns are common no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few examples: cup, art, paper, work, frog, bicycle, atom, family,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on nouns are eithe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uncountabl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Countable</a:t>
            </a:r>
            <a:r>
              <a:rPr b="0" lang="en-GB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table (or just “count”) nouns can be made plural: a tree… two trees; a man… men; a pony… pon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singular, they may have the determine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a sausage; an asteri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many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words/pages/chai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A 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few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inutes/friends/chip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Comic Sans MS"/>
              </a:rPr>
              <a:t>Uncountable nou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these tests for uncountable 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countable (or non-count) nouns cannot be made plural. We cannot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wo funs,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three advic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five furnitur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never use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ask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uch money/time/milk?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How many?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say: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little help/effort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Not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A few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3T15:39:15Z</dcterms:created>
  <dc:creator>Tom Goss</dc:creator>
  <dc:description/>
  <dc:language>en-US</dc:language>
  <cp:lastModifiedBy>RomaK</cp:lastModifiedBy>
  <cp:lastPrinted>2002-01-14T14:33:47Z</cp:lastPrinted>
  <dcterms:modified xsi:type="dcterms:W3CDTF">2015-09-02T09:44:51Z</dcterms:modified>
  <cp:revision>31</cp:revision>
  <dc:subject/>
  <dc:title>WHAT ARE NOUNS? </dc:title>
</cp:coreProperties>
</file>