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carbrake.wav" ContentType="audio/x-wav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234E-718D-4B42-8DA3-DA55ED06ED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the presentation by selecting “View show” from the Slide Show menu.  Work through the presentation by left-clicking the mouse. You can make notes as you go. Use the left arrow key to return to an earlier slid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refer to print the slides, make sure you follow these instructio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just click the print butt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print from the file menu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handouts; six slides per page; pure black &amp; whi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the presentation by selecting “View show” from the Slide Show menu.  Work through the presentation by left-clicking the mouse. You can make notes as you go. Use the left arrow key to return to an earlier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refer to print the slides, make sure you follow these instru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just click the print but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print from the file men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handouts; six slides per page; pure black &amp;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 category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nouns may be countable or uncountable, depending on how we use the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buy a box of chocolates (countable) or a bar of chocolate (uncountable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uch time? but How many times? (where times = occasion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it in front of a television (set) to watch television (broadcasting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 category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nouns may be countable or uncountable, depending on how we use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buy a box of chocolates (countable) or a bar of chocolate (uncountab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uch time? but How many times? (where times = occasion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it in front of a television (set) to watch television (broadcasting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-specific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nouns are often turned into countable nouns by specialists in a particular field.They become part of the jargon of that special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ss is usually uncountable but botanists and gardeners talk about gras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guists sometimes talk about English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nciers refer to moneys or even moni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s may be used to mean types of te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-specific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nouns are often turned into countable nouns by specialists in a particular field.They become part of the jargon of that special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ss is usually uncountable but botanists and gardeners talk about gra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guists sometimes talk about Englis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nciers refer to moneys or even mo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s may be used to mean types of t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both countable and uncountable nouns can be divided into concrete and abstract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inction between concrete and abstract nouns is the most important one of all when you are analysing linguistic data.  A lot of abstract nouns in a text will have a big impact on its regis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in English Campaign has an excellent website which will tell you more about the stylistic impact of abstract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both countable and uncountable nouns can be divided into concrete and abstract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inction between concrete and abstract nouns is the most important one of all when you are analysing linguistic data.  A lot of abstract nouns in a text will have a big impact on its regis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in English Campaign has an excellent website which will tell you more about the stylistic impact of abstract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nouns are the words that most people think of as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mostly the names of objects and animals (countable) and substances or materials (uncountable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ke, oxygen, iron, boy, dog, pen, glass, pomegranate, earthworm and door are all concrete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nouns are the words that most people think of as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mostly the names of objects and animals (countable) and substances or materials (uncountab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ke, oxygen, iron, boy, dog, pen, glass, pomegranate, earthworm and door are all concrete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s name ideas, feelings and qualiti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, though not all, are uncounta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re derived from adjectives and verbs and have characteristic endings such as –ity, -ness, -ence,  and -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harder to recognise as nouns than the concrete variet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s name ideas, feelings and qual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, though not all, are uncoun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re derived from adjectives and verbs and have characteristic endings such as –ity, -ness, -ence,  and -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harder to recognise as nouns than the concrete var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 or adjecti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on’t confuse abstract nouns with adjectives, as long as you apply a few tes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y is an adjective.  It behaves like one: very happy; so happy; happier; as happy 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iness behaves like a noun: The happiness I feel; her happiness; great happines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 or 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on’t confuse abstract nouns with adjectives, as long as you apply a few t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y is an adjective.  It behaves like one: very happy; so happy; happier; as happy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iness behaves like a noun: The happiness I feel; her happiness; great happi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more 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 or adjecti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different from each o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work is preci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ork with precis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is pur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ity of the ai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omposed this tun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une is my composi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o beautifu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such beaut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upport 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pport you give 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 or 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different from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work is prec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ork with preci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is p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ity of the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omposed this tu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une is my compos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o beauti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such beau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upport 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pport you give 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y of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change their form for only two grammatical reaso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nouns have a plural form. This is usually formed by adding –s, of course, but there are some irregular form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ssessive form of a noun is created by adding –’s (Henry’s cat) or just an apostrophe (all our students’ result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y of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change their form for only two grammatical reas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nouns have a plural form. This is usually formed by adding –s, of course, but there are some irregular for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ssessive form of a noun is created by adding –’s (Henry’s cat) or just an apostrophe (all our students’ resul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rregular plur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nouns retain plural endings from Old English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n, geese, mice, oxen, feet, teeth, kniv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an words from Latin, Greek, French and Italian sometimes keep their native end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dia, bacteria, formulae, larvae, criteria, phenomena, gateaux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affiti, an Italian plural, is now an uncountable noun in English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egular plu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nouns retain plural endings from Old Englis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, geese, mice, oxen, feet, teeth, kni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n words from Latin, Greek, French and Italian sometimes keep their native en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a, bacteria, formulae, larvae, criteria, phenomena, gateau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ffiti, an Italian plural, is now an uncountable noun in Englis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see a noun as performing a role in a sentence, we think of it as a noun phra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phrase may function as the subject or object of a clau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phrase may consist of a single word (a noun or pronoun) or a group of wor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important noun in a noun phrase is called the headwor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see a noun as performing a role in a sentence, we think of it as a noun phr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phrase may function as the subject or object of a cla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phrase may consist of a single word (a noun or pronoun) or a group of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important noun in a noun phrase is called the headw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NOUNS?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are naming wor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name people, places and objec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also name ideas, emotions, qualities and activiti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 of nou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, Elizabeth, driver, sister, frien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stol, Severn, Brazil, pen, dog, mone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ve, beauty, industry, nature, greed, p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NOUNS?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are naming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name people, places and ob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also name ideas, emotions, qualities and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 of nou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, Elizabeth, driver, sister, fri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stol, Severn, Brazil, pen, dog, mo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ve, beauty, industry, nature, greed, p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noun phrases (headword in bracket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he) always bought the same (newspaper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young (man) in a suit was admiring the (view) from the window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sulphuric (acid) must be handled carefull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old maths (teacher) was Austria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noun phrases (headword in brack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he) always bought the same (newspap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young (man) in a suit was admiring the (view) from the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sulphuric (acid) must be handled carefu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old maths (teacher) was Austri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yntax of noun phr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word of a noun phrase may be pre-modified by determiners, adjectives or other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 large, dinner (plate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be post-modified by a prepositional phra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simply a noun phrase with a preposition at the beginn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 (painting) by Rembrand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spot the modifiers in the last slide? (Left arrow key takes you back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yntax of noun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word of a noun phrase may be pre-modified by determiners, adjectives or other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 large, dinner (pl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be post-modified by a prepositional phr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simply a noun phrase with a preposition at the beg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 (painting) by Rembrand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spot the modifiers in the last slide? (Left arrow key takes you bac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uses modifying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use a clause (a group of words containing a verb) to post-modify a nou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ause which post-modifies a noun is called a relative clause or adjectival clau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(house) that Jack buil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ople) who live in glass houses should not throw ston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uses modifying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use a clause (a group of words containing a verb) to post-modify a no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ause which post-modifies a noun is called a relative clause or adjectival cla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(house) that Jack bui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ople) who live in glass houses should not throw st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’s the end of the presentation on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want to print, remember the instructio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“print” from the file menu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: hand-outs; six slides per page; pure black and whi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“OK”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’s the end of the presentation on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want to print, remember the instru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“print” from the file men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: hand-outs; six slides per page; pure black and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“OK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o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ouns can be divided into common  and proper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 can then be divided into countable and uncountable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ountable and uncountable nouns can then be further divided into concrete and abstract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look at each type in tur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ouns can be divided into common  and proper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 can then be divided into countable and uncountable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ountable and uncountable nouns can then be further divided into concrete and abstract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look at each type in tu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look again at those types and how they rel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look again at those types and how they rel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 start with capital lett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names of people, places, times, organisations et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fer to unique individua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not found in the dictionar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often occur in pairs or group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 start with capital le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names of people, places, times, organisation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fer to unique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not found in the diction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often occur in pairs or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ny Bl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ing Hen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dget J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ristm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a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eynsh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n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ca Col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cbe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sident Bus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J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ronation Stree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rtug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Ford Motor Compan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xf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y Bl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Hen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dget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nsh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ca C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b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 B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tion Str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ug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d Motor 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f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ouns which are not proper nouns are common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examples: cup, art, paper, work, frog, bicycle, atom, family, min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 are either countable or uncounta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ouns which are not proper nouns are common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examples: cup, art, paper, work, frog, bicycle, atom, family, m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 are either countable or uncoun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tests for countable nou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(or just “count”) nouns can be made plural: a tree… two trees; a man… men; a pony… poni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singular, they may have the determiner a or an: a sausage; an asterisk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any words/pages/chair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: A few minutes/friends/chip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tests for countable nou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(or just “count”) nouns can be made plural: a tree… two trees; a man… men; a pony… po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singular, they may have the determiner a or an: a sausage; an aster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any words/pages/chai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: A few minutes/friends/chip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tests for uncountable nou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(or non-count) nouns cannot be made plural. We cannot say: two funs, three advices or five furnitur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ver use  a or an with the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uch money/time/milk?        (Not How many?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: A little help/effort. (Not A few.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tests for uncountable nou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(or non-count) nouns cannot be made plural. We cannot say: two funs, three advices or five furni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ver use  a or an with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uch money/time/milk?        (Not How many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: A little help/effort. (Not A few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9CA0-7CB0-4615-BC62-53BF8CC30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5DE6-5277-44B7-9506-FF44EEB7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8A5B-6D8E-437C-9701-E040D81AD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0109-D08D-4982-82DF-7F88FB996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23E1-6193-4445-9706-F0BBE79B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A03D-5DB3-4455-B4AA-EB7DEE58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2A90-DCC8-484F-8B9E-CBE5B125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0A6F-4C44-49E0-A0C9-AEBE204E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48D1-A23E-4968-A296-B1F50060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939F-AF94-4913-B0FE-1535FC9A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DAB2-4B7F-42B2-B4F8-63BF323E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F0B1-5CD8-4CBF-85DC-D2BBF9D3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3974-A17C-4123-85C7-8A4174E7D0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762120" y="1066680"/>
            <a:ext cx="777240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art the presentation by selecting “View show” from 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Slide Show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enu.  Work through the presentation by left-clicking the mouse. You can make notes as you go. Use the left arrow key to return to an earlier slid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you prefer to print the slides, make sure you follow these instructio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o no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just click 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rin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butt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elect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rin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from 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fil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en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elect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handouts; six slides per page; pure black &amp; whi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Click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838080" y="38088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Dual category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me nouns may be countable or uncountable, depending on how we use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buy a box of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chocolat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countable) or a bar of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chocolat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uncount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ask: H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ow much time?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u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How many times?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where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ime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occasion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sit in front of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televis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set) to watch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elevis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broadcasting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Field-specific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countable nouns are often turned into countable nouns by specialists in a particular field.They become part of the jargon of that special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Gras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usually uncountable but botanists and gardeners talk abou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gr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nguists sometimes talk abou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English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anciers refer to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money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even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moni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ea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ay be used to mean types of t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762120" y="762120"/>
            <a:ext cx="76197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member that both countable and uncountable nouns can be divided in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concret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bstract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u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distinction between concrete and abstract nouns is the most important one of all when you are analysing linguistic data.  A lot of abstract nouns in a text will have a big impact on its regis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lain English Campaig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has an excellent website which will tell you more about the stylistic impact of abstract nou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ncrete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crete nouns are the words that most people think of as nou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are mostly the names of objects and animals (countable) and substances or materials (uncount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Cake, oxygen, iron, boy, dog, pen, glass, pomegranate, earthworm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door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all concrete nou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Abstract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bstract nouns name ideas, feelings and qua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, though not all, are uncou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ny are derived from adjectives and verbs and have characteristic endings such as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–ity, -ness, -ence,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-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are harder to recognise as nouns than the concrete varie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Abstract noun or adj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u won’t confuse abstract nouns with adjectives, as long as you apply a few te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Happy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an adjective.  It behaves like one: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very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y;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y; happi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r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;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as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y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Happiness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haves like a noun: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The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iness I feel;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her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iness;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great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i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1676520" y="60948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 few more exam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914400" y="160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erb or adjecti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876920" y="16002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bstract nou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914400" y="21337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wer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differen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from each oth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4876920" y="213372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differenc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etween u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914400" y="3048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y work is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recis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4876920" y="30481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 work with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recisio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914400" y="3657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air is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ur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4876920" y="36576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urity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of the ai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990720" y="419112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compose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is tu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4876920" y="41911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is tune is my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compositio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990720" y="5181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t is so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beautifu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4876920" y="51814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t has such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beauty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990720" y="5715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suppor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4876920" y="5715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suppor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you give 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The morphology of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uns change their form for only two grammatical reas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untable nouns have a plural form. This is usually formed by adding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–s,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f course, but there are some irregular form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possessive form of a noun is created by adding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–’s (Henry’s cat)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just an apostrophe (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ll our students’ results)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rregular plur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me nouns retain plural endings from Old Englis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n, geese, mice, oxen, feet, teeth, kn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oan words from Latin, Greek, French and Italian sometimes keep their native en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dia, bacteria, formulae, larvae, criteria, phenomena, gateau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ffiti, an Italian plural, is now an uncountable noun in Engl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un phr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we see a noun as performing a role in a sentence, we think of it as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noun phra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noun phrase may function as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ubjec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bjec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f a cla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noun phrase may consist of a single word (a noun or pronoun) or a group of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st important noun in a noun phrase is called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headwo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00"/>
                </a:solidFill>
                <a:latin typeface="Comic Sans MS"/>
              </a:rPr>
              <a:t>WHAT ARE NOUNS?</a:t>
            </a:r>
            <a:r>
              <a:rPr b="1" lang="en-GB" sz="4400" spc="-1" strike="noStrike">
                <a:solidFill>
                  <a:srgbClr val="808000"/>
                </a:solidFill>
                <a:latin typeface="Stenci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ouns are naming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y name people, places and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y can also name ideas, emotions, qualities and activ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Here are some examples of 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eter, Elizabeth, driver, sister, fri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Bristol, Severn, Brazil, pen, dog,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ove, beauty, industry, nature, greed, p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Examples of noun phrases (headword in bracke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(She)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lways bough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same (newspaper)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A young (man) in a sui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was admiring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(view) from the wind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Concentrated sulphuric (acid)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ust be handled carefu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y old maths (teacher)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was Austri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8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The syntax of noun phr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headword of a noun phrase may be pre-modified by determiners, adjectives or other nou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example,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arge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dinner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(plat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t may be post-modified by a prepositional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is simply a noun phrase with a preposition at the begin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example,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(painting)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by Rembrand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you spot the modifiers in the last slide? (Left arrow key takes you ba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5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0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5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0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lauses modifying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can use a clause (a group of words containing a verb) to post-modify a no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clause which post-modifies a noun is called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relative clau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adjectival clau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re are some examp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his is the (house)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that Jack bui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(People)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who live in glass houses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should not throw st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609480" y="762120"/>
            <a:ext cx="784872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at’s the end of the presentation on nou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f you want to print, remember the instruction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lect “print” from the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fi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en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lect: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hand-outs; six slides per page; pure black and whi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Click “OK”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Types</a:t>
            </a:r>
            <a:r>
              <a:rPr b="0" lang="en-GB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of no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 nouns can be divided into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commo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and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prop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on nouns can then be divided into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countab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uncountab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th countable and uncountable nouns can then be further divided into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concret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abstrac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e’ll look at each type in tu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Times New Roman"/>
              </a:rPr>
              <a:t>First, look again at those types and how they rela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3276720"/>
            <a:ext cx="106704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2133720" y="228600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op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057400" y="44956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m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3809880" y="3429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un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3657600" y="52578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coun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6629400" y="2666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6629400" y="3886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cre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6629400" y="4800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66294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cre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Line 16"/>
          <p:cNvSpPr/>
          <p:nvPr/>
        </p:nvSpPr>
        <p:spPr>
          <a:xfrm>
            <a:off x="1523880" y="3809880"/>
            <a:ext cx="10670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Line 17"/>
          <p:cNvSpPr/>
          <p:nvPr/>
        </p:nvSpPr>
        <p:spPr>
          <a:xfrm flipV="1">
            <a:off x="1600200" y="274284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Line 18"/>
          <p:cNvSpPr/>
          <p:nvPr/>
        </p:nvSpPr>
        <p:spPr>
          <a:xfrm flipV="1">
            <a:off x="3352680" y="38862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Line 19"/>
          <p:cNvSpPr/>
          <p:nvPr/>
        </p:nvSpPr>
        <p:spPr>
          <a:xfrm>
            <a:off x="3352680" y="48006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Line 20"/>
          <p:cNvSpPr/>
          <p:nvPr/>
        </p:nvSpPr>
        <p:spPr>
          <a:xfrm flipV="1">
            <a:off x="5334120" y="3047760"/>
            <a:ext cx="1752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21"/>
          <p:cNvSpPr/>
          <p:nvPr/>
        </p:nvSpPr>
        <p:spPr>
          <a:xfrm>
            <a:off x="5334120" y="373392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Line 22"/>
          <p:cNvSpPr/>
          <p:nvPr/>
        </p:nvSpPr>
        <p:spPr>
          <a:xfrm flipV="1">
            <a:off x="5562720" y="5181120"/>
            <a:ext cx="1523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23"/>
          <p:cNvSpPr/>
          <p:nvPr/>
        </p:nvSpPr>
        <p:spPr>
          <a:xfrm>
            <a:off x="5562720" y="556272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oper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per nouns start with capital let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are the names of people, places, times, organisations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refer to unique individu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are not found in the dictio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often occur in pairs or grou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re are some exa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7621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ny Blai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7086600" y="5562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ing Hen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590920" y="4572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idget J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267080" y="1981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ristm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295280" y="4114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6553080" y="342900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a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1295280" y="24382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eynsh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312408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n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4952880" y="411480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ca 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52388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cbe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3962520" y="28954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esident Bus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7010280" y="533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J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5737320" y="1523880"/>
            <a:ext cx="134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5562720" y="1219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ronation Stre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4495680" y="5943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atur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r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6934320" y="2514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6858000" y="48006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rtug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20"/>
          <p:cNvSpPr/>
          <p:nvPr/>
        </p:nvSpPr>
        <p:spPr>
          <a:xfrm>
            <a:off x="3048120" y="5257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Ford Motor Compan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21"/>
          <p:cNvSpPr/>
          <p:nvPr/>
        </p:nvSpPr>
        <p:spPr>
          <a:xfrm>
            <a:off x="3809880" y="914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xf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7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7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Common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 nouns which are not proper nouns are common no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few examples: cup, art, paper, work, frog, bicycle, atom, family, m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on nouns are either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countab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uncountab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Countable</a:t>
            </a:r>
            <a:r>
              <a:rPr b="0" lang="en-GB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se these tests for countable 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untable (or just “count”) nouns can be made plural: a tree… two trees; a man… men; a pony… pon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singular, they may have the determiner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a sausage; an aster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ask: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How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many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words/pages/chai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say: A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few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minutes/friends/chip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Uncountable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se these tests for uncountable 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countable (or non-count) nouns cannot be made plural. We cannot say: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wo funs,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hree advice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five furnitur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never use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th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ask: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How much money/time/milk?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No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How many?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say: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little help/effort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No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few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3T15:39:15Z</dcterms:created>
  <dc:creator>Tom Goss</dc:creator>
  <dc:description/>
  <dc:language>en-US</dc:language>
  <cp:lastModifiedBy>RomaK</cp:lastModifiedBy>
  <cp:lastPrinted>2002-01-14T14:33:47Z</cp:lastPrinted>
  <dcterms:modified xsi:type="dcterms:W3CDTF">2015-09-02T09:44:51Z</dcterms:modified>
  <cp:revision>31</cp:revision>
  <dc:subject/>
  <dc:title>WHAT ARE NOUNS? </dc:title>
</cp:coreProperties>
</file>