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0A6B-487A-48C1-A681-59FDC855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ower of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 Presen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y Dr. Charles Cab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ased on the work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ephen Kras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is Keiko. She has 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Keiko wants to improve her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English for six years in Jr. High and in High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several books on English Gramm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studied vocabulary on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bought an electronic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he even went to an English Conversation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ill, she still has trouble listening, understanding, reading and writing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should sh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Best Way for Keiko to improve her English is to learn how to read English for fun!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t me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ee Voluntary Reading (F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because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what YOU want to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 Book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read magazines, comic boo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漫画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, children’s books, anything you w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由自発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Englis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ithout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to read Japanese with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id you understand new wor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kinds of books did you read when you started reading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ave you ever read a book in English (with no Japanese word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should you n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 a dictiona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r reading will be too 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uessing the meaning of words is a very important part of becoming a good r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ing a dictionary to look up every word i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You can circle words and look them up later to check their mea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use FV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51 out of 54 comparative stud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d FVR had higher reading scores than students who learned how to read English in the usual (traditional)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Ｓｉｎｇａｐｏｒｅ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 studies of 3,000 children aged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participated in a “Reading and English Acquisition Program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children who read English for fun learned English better than those who studied in the traditional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習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opp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. Please summarize with your friends what I have said up to this poi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答えは日本語で書いてもいいです。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1. What information have you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2. What has been the main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3. What do you think? What is your idea? Do you have any 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develop the habi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reading books on thei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uch students do extracurricular rea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履修科目の勉強とは関係が全くない読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ER TOEFL 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Complex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anguage is too complex to learn one word or one rule at a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rds have  many nu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earning vocabul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rom a list is not effec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は限りなく複雑であ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w do you say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椅子”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s this a chai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No, it’s not a chair; it’s a st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oing to d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＝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するつも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’m going to visit my nie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he finds out, he’s going to be ang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omorrow, it’s going to 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en is the train going to co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se are some other words that have different nuances in Japanese and i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o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ome (not hou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words or grammar can you think of that is different in English and Japan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are these two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Story of Malcolm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nly went to school to the 8th Grade (the 2nd year of Middle Scho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gan to read while he was in pr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very eloqu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雄弁な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ote a famous autobiograph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自叙伝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ecame a powerful African-American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who Practice FVR Receive Higher Scores 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igh School English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enjoy your high school English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learn how to speak English in your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 communicate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id your teacher communicate to you in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and Gram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pelling Instruction is almost never eff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rammar Instruction does not help students read and wri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答えは日本語で書いてもいいです。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students who read for pleasure and TOEFL sco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y is studying grammar and vocabulary lists not an effective way of learning Englis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o was Malcom X? What is the connection between him and this presen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f you want to improve your English, what should you do after this cla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ight reading for fun is very importan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ading comic books, magazines and fictional stories is the best way to learn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ere is a website of children’s stor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magickeys.com/book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read one for yourself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aracteristic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 Exam Prepar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受験勉強）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education is to prepare for an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purpose of the exam is to divide students into winners and lo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’ interests and individuality are ign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memoriz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direct Result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hate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find classes b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students lose confidence in themselves, especially in their academic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ny teachers try to contro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for Resisting 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extremely passive, sleeping in cla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become silent, never asking questions or showing inte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completely separate their personal, meaningful lives from the classroom, which has no meaning for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 Strategies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do more than what is required by the teacher (home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think about the content of thei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in the classroom wait for class to end so they can be free of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no personal learning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onsequences o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Entrance-Exam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learn for purposes of persona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never act indepen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have little experience learning outside of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see learning as something that gives them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udents do not know how to study for purposes other than a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What is the connection between Entrance Examinations and the fact that many students do not learn to speak English in high school?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lease write down your idea in English or Japane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8D29-86B7-4622-A3A4-5875D51A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101-043B-49BE-BF45-443A337F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468A-5818-45E9-B6A1-13267E15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768-277A-4560-A311-ED513550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763-321C-4E27-9EF3-5D12CBFD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614-1E4C-4754-9801-C6117869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013-3E08-48AE-8EAD-392E6BC6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2673-0B9C-4773-98BB-63BAAFD2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CDE-FF69-4F3F-83EA-E98DC6D0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1DF-5811-4EFE-B828-62E6597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745-7D98-4946-8FC5-82D9DC9E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CA51-80D5-4979-BC36-EB32C4A1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69"/>
            </a:gs>
            <a:gs pos="100000">
              <a:srgbClr val="99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33DF-82D6-48B0-8034-D2E51F2A9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ailyinfo.co.uk/images/dragon%20reading.gif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oakinheritance.com/images/largepics/stoo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gickeys.com/books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wer of Read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resent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y Dr. Charles Cabe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work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hen Kras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7" descr="dragon%2520rea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2276640"/>
            <a:ext cx="3025440" cy="2365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Keiko. She has a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10001310128"/>
          <p:cNvPicPr/>
          <p:nvPr/>
        </p:nvPicPr>
        <p:blipFill>
          <a:blip r:embed="rId1"/>
          <a:stretch/>
        </p:blipFill>
        <p:spPr>
          <a:xfrm>
            <a:off x="2195640" y="1557360"/>
            <a:ext cx="4465440" cy="334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iko wants to improve her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English for six years in Jr. High and in High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several books on English Gramm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studied vocabulary on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bought an electronic dic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even went to an English Conversation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, she still has trouble listening, understanding, reading and writing.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should sh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589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st Way for Keiko to improve her English is to learn how to read English for fun!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me explai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252360" y="0"/>
            <a:ext cx="968544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e Voluntary Reading (FVR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2852640"/>
            <a:ext cx="79916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because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what YOU want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ok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ad magazines, comic book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漫画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hildren’s books, anything you w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484360" y="1413000"/>
            <a:ext cx="39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自由自発的読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 Englis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out a Dictio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to read Japanese with a dictiona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you understand new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s of books did you read when you started reading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you ever read a book in English (with no Japanese word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should you no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a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reading will be too s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essing the meaning of words is a very important part of becoming a good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dictionary to look up every word i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ircle words and look them up later to check their mea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use FV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1 out of 54 comparative stu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practiced FVR had higher reading scores than students who learned how to read English in the usual (traditional)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8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Ｓｉｎｇａｐｏｒ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udies of 3,000 children aged 6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participated in a “Reading and English Acquisition Progra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ren who read English for fun learned English better than those who studied in the traditional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6372360" y="1341360"/>
            <a:ext cx="2282760" cy="752400"/>
          </a:xfrm>
          <a:prstGeom prst="wedgeRoundRectCallout">
            <a:avLst>
              <a:gd name="adj1" fmla="val -122879"/>
              <a:gd name="adj2" fmla="val 206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英語習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4982760"/>
            <a:ext cx="1411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39640" y="549000"/>
            <a:ext cx="7777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Scores in 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55640" y="1557360"/>
          <a:ext cx="7180200" cy="4289400"/>
        </p:xfrm>
        <a:graphic>
          <a:graphicData uri="http://schemas.openxmlformats.org/drawingml/2006/table">
            <a:tbl>
              <a:tblPr/>
              <a:tblGrid>
                <a:gridCol w="1152360"/>
                <a:gridCol w="1079640"/>
                <a:gridCol w="846000"/>
                <a:gridCol w="1024200"/>
                <a:gridCol w="1025280"/>
                <a:gridCol w="1027440"/>
                <a:gridCol w="1025280"/>
              </a:tblGrid>
              <a:tr h="649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de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Read-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t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C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18440" cy="37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my presentation, I will come to “stopping points” where I will ask to answer some questions. In order to answer the questions, you will need to take notes as I speak. Now, please get out a pen or pencil, and then we’ll beg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英語科目、再履修の学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435880" cy="2260440"/>
        </p:xfrm>
        <a:graphic>
          <a:graphicData uri="http://schemas.openxmlformats.org/drawingml/2006/table">
            <a:tbl>
              <a:tblPr/>
              <a:tblGrid>
                <a:gridCol w="2813040"/>
                <a:gridCol w="2809800"/>
                <a:gridCol w="2813040"/>
              </a:tblGrid>
              <a:tr h="105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e Reading in Japan</a:t>
                      </a:r>
                      <a:r>
                        <a:rPr b="0" lang="ja-JP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Semester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ｒｅ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（中間点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Ｐｏｓｔ　ｔｅｓ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Ｍｅａ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Text Box 101"/>
          <p:cNvSpPr/>
          <p:nvPr/>
        </p:nvSpPr>
        <p:spPr>
          <a:xfrm>
            <a:off x="539640" y="3933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4005360"/>
          <a:ext cx="8424720" cy="208764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000"/>
              </a:tblGrid>
              <a:tr h="105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Ｅｘｔｅｎｓｉｖ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Ｒｅａｄｉｎｇ</a:t>
                      </a: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Ｔｒａｄｉｔｉｏｎａ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blinds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D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lease summarize with your friends what I have said up to this point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答えは日本語で書いてもいいです。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2420640"/>
            <a:ext cx="793116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information have you lea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the main poi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at do you think? What is your idea? Do you have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80629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ho develop the habit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ing books on 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199728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50920" y="1989000"/>
            <a:ext cx="856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students do extracurricular 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967400" y="306864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履修科目の勉強とは関係が全くない読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324000" y="4581360"/>
            <a:ext cx="835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IGHER TOEFL SCO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guage Complex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is too complex to learn one word or one rule at a ti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have  many nu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vocabula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list is not effectiv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129400" y="1197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言語は限りなく複雑であるこ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2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you say “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椅子”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too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1916280"/>
            <a:ext cx="2390760" cy="28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3059280" y="1341360"/>
            <a:ext cx="28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a ch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763640" y="494172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’s not a chair; it’s a s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to do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　＝　するつも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’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vis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ni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e finds out, he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be ang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orrow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t’s going to 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the trai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ing to co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some other words that have different nuances in Japanese and in Engl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420640"/>
            <a:ext cx="81471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 (not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0" y="486900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ords or grammar can you think of that is different in English and Japan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se two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Malcolm X Photo"/>
          <p:cNvPicPr/>
          <p:nvPr/>
        </p:nvPicPr>
        <p:blipFill>
          <a:blip r:embed="rId1"/>
          <a:stretch/>
        </p:blipFill>
        <p:spPr>
          <a:xfrm>
            <a:off x="3132000" y="1844640"/>
            <a:ext cx="3206880" cy="453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of Malcolm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ent to school to the 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 (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ar of Middle Scho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read while he was in p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very eloquen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雄弁な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ote a famous autobiograph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自叙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a powerful African-American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s who Practice FVR Receive Higher Scores i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9152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School English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enjoy your high school English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learn how to speak English in your cl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communicate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r teacher communicate to you in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ling and Gram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lling Instruction is almost never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mmar Instruction does not help students read and write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（答えは日本語で書いてもいいです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onnection between students who read for pleasure and TOEFL sco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studying grammar and vocabulary lists not an effective way of learning Englis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Malcom X? What is the connection between him and this pres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want to improve your English, what should you do after this cla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052640"/>
            <a:ext cx="8686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reading for fun is very importa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omic books, magazines and fictional stories is the best way to learn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is a website of children’s stor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gickeys.com/book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ease read one for yourself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rance Exam Preparatio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受験勉強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education is to prepare for an ex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exam is to divide students into winners and lo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’ interests and individuality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memoriz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rect Result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hat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find classes b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tudents lose confidence in themselves, especially in their academic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eachers try to control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udent Strategies for Resisting 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extremely passive, sleeping i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become silent, never asking questions or showing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completely separate their personal, meaningful lives from the classroom, which has no meaning for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Strategie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never do more than what is required by the teacher (home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do not think about the content of thei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in the classroom wait for class to end so they can be free of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no personal learning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equences o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rance-Exam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learn for purposes of persona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never act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little experience learning outside of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see learning as something that gives them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do not know how to study for purposes other than a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connection between Entrance Examinations and the fact that many students do not learn to speak English in high school?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write down your idea in English or Japane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13:45:19Z</dcterms:created>
  <dc:creator>東洋大学</dc:creator>
  <dc:description/>
  <dc:language>en-US</dc:language>
  <cp:lastModifiedBy>LEGION</cp:lastModifiedBy>
  <dcterms:modified xsi:type="dcterms:W3CDTF">2015-09-11T13:13:25Z</dcterms:modified>
  <cp:revision>16</cp:revision>
  <dc:subject/>
  <dc:title>The Power of Reading</dc:title>
</cp:coreProperties>
</file>